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574B-12BA-427E-97ED-2F1309B1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5895-46CA-4422-A8F7-EC5AB283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77A7-EB81-47B7-A315-17836C56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0E16-F806-4929-B10E-80C08F36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B169-61C5-4334-89A3-A7189CD5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3F8-9B33-4DD4-98E8-98448264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F72B-D471-4597-ADB8-A569FF3A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68C4-585C-4D6A-B2BF-7FB1EEAA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F4D1-4CC2-4F17-9E74-E4D5F25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31B4-6BB9-4316-9902-6FD53E64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3B7-3ABA-40DB-B44A-D10032C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8707-E3D0-4B55-BD7E-867BE4C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6E83-029F-4A88-ACEF-3DBBCACA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387-37FC-4487-8817-28628FB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FC0-F286-4C84-9291-0363C73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8271-08F9-4241-9E8D-B4072B73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CBA-2393-43C8-9BC7-87B67B1F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9003-2B8A-4154-97EE-9FBBFF5D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4B3E-7391-4295-BCB7-BC08B37A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00B5-C736-4731-8CA5-016B139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24B4-0A51-4CB6-9194-B19A8CA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BFCB-B247-4263-A5F6-D0D038A5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2737-AEAC-4CEC-8219-ABB2439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93CF-5DD7-40A5-982D-6F71A20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ACF-493B-4BC8-8629-4017649A4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EF8-C22F-41E0-BC76-DD63FCBBE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er: Draw each polygon below and count the number of diagonals that you can draw from one vertex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Hexagon:                             Pentag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Heptagon:                            Quadrilate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2040" y="2035080"/>
            <a:ext cx="3975120" cy="2009880"/>
          </a:xfrm>
          <a:custGeom>
            <a:avLst/>
            <a:gdLst/>
            <a:ahLst/>
            <a:rect l="l" t="t" r="r" b="b"/>
            <a:pathLst>
              <a:path w="11039" h="5583">
                <a:moveTo>
                  <a:pt x="10840" y="9971"/>
                </a:moveTo>
                <a:cubicBezTo>
                  <a:pt x="10973" y="9921"/>
                  <a:pt x="11099" y="9880"/>
                  <a:pt x="11237" y="9847"/>
                </a:cubicBezTo>
              </a:path>
              <a:path w="11039" h="5583">
                <a:moveTo>
                  <a:pt x="11485" y="9624"/>
                </a:moveTo>
                <a:cubicBezTo>
                  <a:pt x="11543" y="9584"/>
                  <a:pt x="11817" y="9472"/>
                  <a:pt x="11708" y="9451"/>
                </a:cubicBezTo>
              </a:path>
              <a:path w="11039" h="5583">
                <a:moveTo>
                  <a:pt x="18033" y="10840"/>
                </a:moveTo>
                <a:cubicBezTo>
                  <a:pt x="18176" y="10874"/>
                  <a:pt x="18540" y="10942"/>
                  <a:pt x="18306" y="11162"/>
                </a:cubicBezTo>
                <a:cubicBezTo>
                  <a:pt x="18187" y="11234"/>
                  <a:pt x="18152" y="11260"/>
                  <a:pt x="18058" y="11212"/>
                </a:cubicBezTo>
              </a:path>
              <a:path w="11039" h="5583">
                <a:moveTo>
                  <a:pt x="21704" y="5730"/>
                </a:moveTo>
                <a:cubicBezTo>
                  <a:pt x="21761" y="5684"/>
                  <a:pt x="21812" y="5680"/>
                  <a:pt x="21878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251080"/>
            <a:ext cx="2401920" cy="3544920"/>
          </a:xfrm>
          <a:custGeom>
            <a:avLst/>
            <a:gdLst/>
            <a:ahLst/>
            <a:rect l="l" t="t" r="r" b="b"/>
            <a:pathLst>
              <a:path w="6673" h="9848">
                <a:moveTo>
                  <a:pt x="7913" y="8409"/>
                </a:moveTo>
                <a:cubicBezTo>
                  <a:pt x="7804" y="8556"/>
                  <a:pt x="7668" y="8749"/>
                  <a:pt x="7541" y="8905"/>
                </a:cubicBezTo>
                <a:cubicBezTo>
                  <a:pt x="7464" y="9000"/>
                  <a:pt x="7144" y="9247"/>
                  <a:pt x="7119" y="9351"/>
                </a:cubicBezTo>
                <a:cubicBezTo>
                  <a:pt x="7098" y="9439"/>
                  <a:pt x="7235" y="9559"/>
                  <a:pt x="7268" y="9624"/>
                </a:cubicBezTo>
                <a:cubicBezTo>
                  <a:pt x="7355" y="9794"/>
                  <a:pt x="7387" y="10010"/>
                  <a:pt x="7491" y="10170"/>
                </a:cubicBezTo>
                <a:cubicBezTo>
                  <a:pt x="7496" y="10177"/>
                  <a:pt x="7565" y="10319"/>
                  <a:pt x="7565" y="10319"/>
                </a:cubicBezTo>
                <a:cubicBezTo>
                  <a:pt x="7600" y="10349"/>
                  <a:pt x="7638" y="10344"/>
                  <a:pt x="7714" y="10344"/>
                </a:cubicBezTo>
                <a:cubicBezTo>
                  <a:pt x="7844" y="10344"/>
                  <a:pt x="7960" y="10323"/>
                  <a:pt x="8086" y="10319"/>
                </a:cubicBezTo>
                <a:cubicBezTo>
                  <a:pt x="8245" y="10314"/>
                  <a:pt x="8400" y="10298"/>
                  <a:pt x="8558" y="10294"/>
                </a:cubicBezTo>
                <a:cubicBezTo>
                  <a:pt x="8664" y="10291"/>
                  <a:pt x="8757" y="10289"/>
                  <a:pt x="8855" y="10319"/>
                </a:cubicBezTo>
                <a:cubicBezTo>
                  <a:pt x="8887" y="10329"/>
                  <a:pt x="8904" y="10365"/>
                  <a:pt x="8930" y="10344"/>
                </a:cubicBezTo>
                <a:cubicBezTo>
                  <a:pt x="8974" y="10309"/>
                  <a:pt x="9049" y="10173"/>
                  <a:pt x="9103" y="10120"/>
                </a:cubicBezTo>
                <a:cubicBezTo>
                  <a:pt x="9196" y="10028"/>
                  <a:pt x="9298" y="9928"/>
                  <a:pt x="9401" y="9847"/>
                </a:cubicBezTo>
                <a:cubicBezTo>
                  <a:pt x="9493" y="9775"/>
                  <a:pt x="9535" y="9736"/>
                  <a:pt x="9599" y="9649"/>
                </a:cubicBezTo>
                <a:cubicBezTo>
                  <a:pt x="9624" y="9649"/>
                  <a:pt x="9632" y="9649"/>
                  <a:pt x="9624" y="9624"/>
                </a:cubicBezTo>
                <a:cubicBezTo>
                  <a:pt x="9561" y="9587"/>
                  <a:pt x="9523" y="9575"/>
                  <a:pt x="9475" y="9500"/>
                </a:cubicBezTo>
                <a:cubicBezTo>
                  <a:pt x="9432" y="9433"/>
                  <a:pt x="9395" y="9368"/>
                  <a:pt x="9351" y="9302"/>
                </a:cubicBezTo>
                <a:cubicBezTo>
                  <a:pt x="9315" y="9249"/>
                  <a:pt x="9259" y="9227"/>
                  <a:pt x="9227" y="9178"/>
                </a:cubicBezTo>
                <a:cubicBezTo>
                  <a:pt x="9193" y="9127"/>
                  <a:pt x="9199" y="9079"/>
                  <a:pt x="9178" y="9029"/>
                </a:cubicBezTo>
                <a:cubicBezTo>
                  <a:pt x="9165" y="8998"/>
                  <a:pt x="9172" y="8981"/>
                  <a:pt x="9153" y="8954"/>
                </a:cubicBezTo>
                <a:cubicBezTo>
                  <a:pt x="9138" y="8933"/>
                  <a:pt x="9115" y="8922"/>
                  <a:pt x="9079" y="8905"/>
                </a:cubicBezTo>
                <a:cubicBezTo>
                  <a:pt x="9028" y="8881"/>
                  <a:pt x="8936" y="8848"/>
                  <a:pt x="8880" y="8830"/>
                </a:cubicBezTo>
                <a:cubicBezTo>
                  <a:pt x="8741" y="8785"/>
                  <a:pt x="8601" y="8743"/>
                  <a:pt x="8458" y="8706"/>
                </a:cubicBezTo>
                <a:cubicBezTo>
                  <a:pt x="8356" y="8679"/>
                  <a:pt x="8251" y="8666"/>
                  <a:pt x="8161" y="8607"/>
                </a:cubicBezTo>
                <a:cubicBezTo>
                  <a:pt x="8119" y="8580"/>
                  <a:pt x="8091" y="8580"/>
                  <a:pt x="8062" y="8558"/>
                </a:cubicBezTo>
                <a:cubicBezTo>
                  <a:pt x="8032" y="8536"/>
                  <a:pt x="8027" y="8521"/>
                  <a:pt x="8012" y="8508"/>
                </a:cubicBezTo>
              </a:path>
              <a:path w="6673" h="9848">
                <a:moveTo>
                  <a:pt x="7739" y="7764"/>
                </a:moveTo>
                <a:cubicBezTo>
                  <a:pt x="7794" y="7782"/>
                  <a:pt x="7758" y="7905"/>
                  <a:pt x="7764" y="7962"/>
                </a:cubicBezTo>
                <a:cubicBezTo>
                  <a:pt x="7782" y="8070"/>
                  <a:pt x="7790" y="8077"/>
                  <a:pt x="7789" y="8136"/>
                </a:cubicBezTo>
                <a:cubicBezTo>
                  <a:pt x="7762" y="7950"/>
                  <a:pt x="7758" y="7779"/>
                  <a:pt x="7789" y="7590"/>
                </a:cubicBezTo>
                <a:cubicBezTo>
                  <a:pt x="7810" y="7525"/>
                  <a:pt x="7809" y="7500"/>
                  <a:pt x="7863" y="7516"/>
                </a:cubicBezTo>
                <a:cubicBezTo>
                  <a:pt x="7946" y="7687"/>
                  <a:pt x="8107" y="7903"/>
                  <a:pt x="8062" y="8086"/>
                </a:cubicBezTo>
              </a:path>
              <a:path w="6673" h="9848">
                <a:moveTo>
                  <a:pt x="9227" y="8458"/>
                </a:moveTo>
                <a:cubicBezTo>
                  <a:pt x="9265" y="8566"/>
                  <a:pt x="9307" y="8672"/>
                  <a:pt x="9327" y="8781"/>
                </a:cubicBezTo>
              </a:path>
              <a:path w="6673" h="9848">
                <a:moveTo>
                  <a:pt x="9079" y="8359"/>
                </a:moveTo>
                <a:cubicBezTo>
                  <a:pt x="9173" y="8326"/>
                  <a:pt x="9587" y="8129"/>
                  <a:pt x="9525" y="8359"/>
                </a:cubicBezTo>
                <a:cubicBezTo>
                  <a:pt x="9500" y="8400"/>
                  <a:pt x="9476" y="8442"/>
                  <a:pt x="9451" y="8483"/>
                </a:cubicBezTo>
                <a:cubicBezTo>
                  <a:pt x="9268" y="8585"/>
                  <a:pt x="9486" y="8417"/>
                  <a:pt x="9599" y="8458"/>
                </a:cubicBezTo>
                <a:cubicBezTo>
                  <a:pt x="9624" y="8483"/>
                  <a:pt x="9649" y="8508"/>
                  <a:pt x="9674" y="8533"/>
                </a:cubicBezTo>
                <a:cubicBezTo>
                  <a:pt x="9562" y="8660"/>
                  <a:pt x="9474" y="8800"/>
                  <a:pt x="9327" y="8706"/>
                </a:cubicBezTo>
              </a:path>
              <a:path w="6673" h="9848">
                <a:moveTo>
                  <a:pt x="10046" y="9475"/>
                </a:moveTo>
                <a:cubicBezTo>
                  <a:pt x="10107" y="9577"/>
                  <a:pt x="9993" y="9455"/>
                  <a:pt x="9922" y="9426"/>
                </a:cubicBezTo>
                <a:cubicBezTo>
                  <a:pt x="9842" y="9563"/>
                  <a:pt x="9675" y="9863"/>
                  <a:pt x="9996" y="9798"/>
                </a:cubicBezTo>
                <a:cubicBezTo>
                  <a:pt x="10158" y="9728"/>
                  <a:pt x="10204" y="9705"/>
                  <a:pt x="10319" y="9699"/>
                </a:cubicBezTo>
              </a:path>
              <a:path w="6673" h="9848">
                <a:moveTo>
                  <a:pt x="7392" y="10592"/>
                </a:moveTo>
                <a:cubicBezTo>
                  <a:pt x="7385" y="10734"/>
                  <a:pt x="7345" y="10864"/>
                  <a:pt x="7417" y="10988"/>
                </a:cubicBezTo>
                <a:cubicBezTo>
                  <a:pt x="7546" y="10951"/>
                  <a:pt x="7630" y="10921"/>
                  <a:pt x="7739" y="10840"/>
                </a:cubicBezTo>
              </a:path>
              <a:path w="6673" h="9848">
                <a:moveTo>
                  <a:pt x="7441" y="10616"/>
                </a:moveTo>
                <a:cubicBezTo>
                  <a:pt x="7496" y="10571"/>
                  <a:pt x="7555" y="10532"/>
                  <a:pt x="7615" y="10492"/>
                </a:cubicBezTo>
              </a:path>
              <a:path w="6673" h="9848">
                <a:moveTo>
                  <a:pt x="6598" y="9500"/>
                </a:moveTo>
                <a:cubicBezTo>
                  <a:pt x="6637" y="9617"/>
                  <a:pt x="6639" y="9636"/>
                  <a:pt x="6672" y="9699"/>
                </a:cubicBezTo>
                <a:cubicBezTo>
                  <a:pt x="6643" y="9578"/>
                  <a:pt x="6548" y="9448"/>
                  <a:pt x="6499" y="9327"/>
                </a:cubicBezTo>
                <a:cubicBezTo>
                  <a:pt x="6499" y="9302"/>
                  <a:pt x="6499" y="9294"/>
                  <a:pt x="6499" y="9277"/>
                </a:cubicBezTo>
                <a:cubicBezTo>
                  <a:pt x="6605" y="9229"/>
                  <a:pt x="6724" y="9193"/>
                  <a:pt x="6821" y="9128"/>
                </a:cubicBezTo>
                <a:cubicBezTo>
                  <a:pt x="6844" y="9105"/>
                  <a:pt x="6848" y="9097"/>
                  <a:pt x="6871" y="9103"/>
                </a:cubicBezTo>
              </a:path>
              <a:path w="6673" h="9848">
                <a:moveTo>
                  <a:pt x="7888" y="8582"/>
                </a:moveTo>
                <a:cubicBezTo>
                  <a:pt x="7954" y="8626"/>
                  <a:pt x="7895" y="8535"/>
                  <a:pt x="7888" y="8582"/>
                </a:cubicBezTo>
                <a:cubicBezTo>
                  <a:pt x="7888" y="8590"/>
                  <a:pt x="7888" y="8599"/>
                  <a:pt x="7888" y="8607"/>
                </a:cubicBezTo>
                <a:cubicBezTo>
                  <a:pt x="7908" y="8582"/>
                  <a:pt x="7994" y="8476"/>
                  <a:pt x="7888" y="8483"/>
                </a:cubicBezTo>
                <a:cubicBezTo>
                  <a:pt x="7784" y="8489"/>
                  <a:pt x="7835" y="8653"/>
                  <a:pt x="7888" y="8607"/>
                </a:cubicBezTo>
                <a:cubicBezTo>
                  <a:pt x="7950" y="8554"/>
                  <a:pt x="7954" y="8481"/>
                  <a:pt x="7962" y="8409"/>
                </a:cubicBezTo>
                <a:cubicBezTo>
                  <a:pt x="7851" y="8451"/>
                  <a:pt x="7840" y="8516"/>
                  <a:pt x="7863" y="8632"/>
                </a:cubicBezTo>
                <a:cubicBezTo>
                  <a:pt x="7983" y="8588"/>
                  <a:pt x="7938" y="8453"/>
                  <a:pt x="7913" y="8483"/>
                </a:cubicBezTo>
                <a:cubicBezTo>
                  <a:pt x="7872" y="8532"/>
                  <a:pt x="7906" y="8589"/>
                  <a:pt x="7987" y="8483"/>
                </a:cubicBezTo>
              </a:path>
              <a:path w="6673" h="9848">
                <a:moveTo>
                  <a:pt x="7838" y="8731"/>
                </a:moveTo>
                <a:cubicBezTo>
                  <a:pt x="7892" y="8739"/>
                  <a:pt x="7885" y="8734"/>
                  <a:pt x="7913" y="8756"/>
                </a:cubicBezTo>
                <a:cubicBezTo>
                  <a:pt x="7930" y="8770"/>
                  <a:pt x="7994" y="8810"/>
                  <a:pt x="8012" y="8830"/>
                </a:cubicBezTo>
                <a:cubicBezTo>
                  <a:pt x="8061" y="8884"/>
                  <a:pt x="8077" y="8908"/>
                  <a:pt x="8136" y="8954"/>
                </a:cubicBezTo>
                <a:cubicBezTo>
                  <a:pt x="8206" y="9009"/>
                  <a:pt x="8286" y="9034"/>
                  <a:pt x="8359" y="9079"/>
                </a:cubicBezTo>
                <a:cubicBezTo>
                  <a:pt x="8459" y="9141"/>
                  <a:pt x="8558" y="9217"/>
                  <a:pt x="8657" y="9277"/>
                </a:cubicBezTo>
                <a:cubicBezTo>
                  <a:pt x="8753" y="9335"/>
                  <a:pt x="8867" y="9355"/>
                  <a:pt x="8954" y="9426"/>
                </a:cubicBezTo>
                <a:cubicBezTo>
                  <a:pt x="9014" y="9475"/>
                  <a:pt x="9102" y="9553"/>
                  <a:pt x="9153" y="9599"/>
                </a:cubicBezTo>
                <a:cubicBezTo>
                  <a:pt x="9236" y="9673"/>
                  <a:pt x="9325" y="9773"/>
                  <a:pt x="9426" y="9823"/>
                </a:cubicBezTo>
                <a:cubicBezTo>
                  <a:pt x="9454" y="9837"/>
                  <a:pt x="9561" y="9892"/>
                  <a:pt x="9599" y="9872"/>
                </a:cubicBezTo>
                <a:cubicBezTo>
                  <a:pt x="9599" y="9905"/>
                  <a:pt x="9599" y="9905"/>
                  <a:pt x="9599" y="9847"/>
                </a:cubicBezTo>
              </a:path>
              <a:path w="6673" h="9848">
                <a:moveTo>
                  <a:pt x="10716" y="7689"/>
                </a:moveTo>
                <a:cubicBezTo>
                  <a:pt x="10747" y="7850"/>
                  <a:pt x="10679" y="8039"/>
                  <a:pt x="10641" y="8210"/>
                </a:cubicBezTo>
                <a:cubicBezTo>
                  <a:pt x="10664" y="8055"/>
                  <a:pt x="10681" y="7814"/>
                  <a:pt x="10740" y="7665"/>
                </a:cubicBezTo>
                <a:cubicBezTo>
                  <a:pt x="10845" y="7497"/>
                  <a:pt x="10856" y="7453"/>
                  <a:pt x="10964" y="7392"/>
                </a:cubicBezTo>
                <a:cubicBezTo>
                  <a:pt x="11147" y="7545"/>
                  <a:pt x="11132" y="7743"/>
                  <a:pt x="11137" y="7987"/>
                </a:cubicBezTo>
                <a:cubicBezTo>
                  <a:pt x="11141" y="8171"/>
                  <a:pt x="11111" y="8065"/>
                  <a:pt x="11088" y="7987"/>
                </a:cubicBezTo>
              </a:path>
              <a:path w="6673" h="9848">
                <a:moveTo>
                  <a:pt x="10691" y="7913"/>
                </a:moveTo>
                <a:cubicBezTo>
                  <a:pt x="10844" y="7836"/>
                  <a:pt x="10963" y="7774"/>
                  <a:pt x="11137" y="7764"/>
                </a:cubicBezTo>
                <a:cubicBezTo>
                  <a:pt x="11145" y="7764"/>
                  <a:pt x="11154" y="7764"/>
                  <a:pt x="11162" y="7764"/>
                </a:cubicBezTo>
              </a:path>
              <a:path w="6673" h="9848">
                <a:moveTo>
                  <a:pt x="11584" y="7466"/>
                </a:moveTo>
                <a:cubicBezTo>
                  <a:pt x="11584" y="7569"/>
                  <a:pt x="11576" y="7455"/>
                  <a:pt x="11559" y="7417"/>
                </a:cubicBezTo>
                <a:cubicBezTo>
                  <a:pt x="11365" y="7416"/>
                  <a:pt x="11279" y="7694"/>
                  <a:pt x="11311" y="7888"/>
                </a:cubicBezTo>
                <a:cubicBezTo>
                  <a:pt x="11348" y="8114"/>
                  <a:pt x="11617" y="7912"/>
                  <a:pt x="11708" y="7863"/>
                </a:cubicBezTo>
              </a:path>
              <a:path w="6673" h="9848">
                <a:moveTo>
                  <a:pt x="10740" y="7268"/>
                </a:moveTo>
                <a:cubicBezTo>
                  <a:pt x="11004" y="7222"/>
                  <a:pt x="11269" y="7179"/>
                  <a:pt x="11534" y="7144"/>
                </a:cubicBezTo>
                <a:cubicBezTo>
                  <a:pt x="11559" y="7144"/>
                  <a:pt x="11567" y="7144"/>
                  <a:pt x="11584" y="7144"/>
                </a:cubicBezTo>
              </a:path>
              <a:path w="6673" h="9848">
                <a:moveTo>
                  <a:pt x="7863" y="8607"/>
                </a:moveTo>
                <a:cubicBezTo>
                  <a:pt x="7901" y="8682"/>
                  <a:pt x="7938" y="8779"/>
                  <a:pt x="7987" y="8855"/>
                </a:cubicBezTo>
                <a:cubicBezTo>
                  <a:pt x="8100" y="9031"/>
                  <a:pt x="8212" y="9215"/>
                  <a:pt x="8310" y="9401"/>
                </a:cubicBezTo>
                <a:cubicBezTo>
                  <a:pt x="8364" y="9504"/>
                  <a:pt x="8414" y="9616"/>
                  <a:pt x="8458" y="9723"/>
                </a:cubicBezTo>
                <a:cubicBezTo>
                  <a:pt x="8488" y="9796"/>
                  <a:pt x="8520" y="9855"/>
                  <a:pt x="8558" y="9922"/>
                </a:cubicBezTo>
                <a:cubicBezTo>
                  <a:pt x="8595" y="9986"/>
                  <a:pt x="8642" y="10035"/>
                  <a:pt x="8682" y="10096"/>
                </a:cubicBezTo>
                <a:cubicBezTo>
                  <a:pt x="8720" y="10154"/>
                  <a:pt x="8745" y="10243"/>
                  <a:pt x="8781" y="10294"/>
                </a:cubicBezTo>
                <a:cubicBezTo>
                  <a:pt x="8808" y="10331"/>
                  <a:pt x="8858" y="10393"/>
                  <a:pt x="8905" y="10393"/>
                </a:cubicBezTo>
                <a:cubicBezTo>
                  <a:pt x="8905" y="10385"/>
                  <a:pt x="8905" y="10376"/>
                  <a:pt x="8905" y="10368"/>
                </a:cubicBezTo>
              </a:path>
              <a:path w="6673" h="9848">
                <a:moveTo>
                  <a:pt x="10864" y="8731"/>
                </a:moveTo>
                <a:cubicBezTo>
                  <a:pt x="10804" y="8866"/>
                  <a:pt x="10770" y="8983"/>
                  <a:pt x="10740" y="9128"/>
                </a:cubicBezTo>
                <a:cubicBezTo>
                  <a:pt x="10665" y="9258"/>
                  <a:pt x="10781" y="8944"/>
                  <a:pt x="10840" y="8806"/>
                </a:cubicBezTo>
                <a:cubicBezTo>
                  <a:pt x="10927" y="8630"/>
                  <a:pt x="10947" y="8586"/>
                  <a:pt x="11013" y="8483"/>
                </a:cubicBezTo>
                <a:cubicBezTo>
                  <a:pt x="11141" y="8632"/>
                  <a:pt x="11133" y="8826"/>
                  <a:pt x="11137" y="9029"/>
                </a:cubicBezTo>
                <a:cubicBezTo>
                  <a:pt x="11137" y="9111"/>
                  <a:pt x="11137" y="9161"/>
                  <a:pt x="11137" y="9079"/>
                </a:cubicBezTo>
              </a:path>
              <a:path w="6673" h="9848">
                <a:moveTo>
                  <a:pt x="10939" y="8930"/>
                </a:moveTo>
                <a:cubicBezTo>
                  <a:pt x="11065" y="8908"/>
                  <a:pt x="11187" y="8884"/>
                  <a:pt x="11311" y="8855"/>
                </a:cubicBezTo>
              </a:path>
              <a:path w="6673" h="9848">
                <a:moveTo>
                  <a:pt x="11460" y="8632"/>
                </a:moveTo>
                <a:cubicBezTo>
                  <a:pt x="11480" y="8772"/>
                  <a:pt x="11485" y="9195"/>
                  <a:pt x="11485" y="9054"/>
                </a:cubicBezTo>
                <a:cubicBezTo>
                  <a:pt x="11485" y="9037"/>
                  <a:pt x="11485" y="9021"/>
                  <a:pt x="11485" y="9004"/>
                </a:cubicBezTo>
              </a:path>
              <a:path w="6673" h="9848">
                <a:moveTo>
                  <a:pt x="7838" y="8558"/>
                </a:moveTo>
                <a:cubicBezTo>
                  <a:pt x="7816" y="8515"/>
                  <a:pt x="7815" y="8553"/>
                  <a:pt x="7838" y="8508"/>
                </a:cubicBezTo>
                <a:cubicBezTo>
                  <a:pt x="7794" y="8606"/>
                  <a:pt x="7749" y="8713"/>
                  <a:pt x="7739" y="8830"/>
                </a:cubicBezTo>
                <a:cubicBezTo>
                  <a:pt x="7724" y="9000"/>
                  <a:pt x="7738" y="9184"/>
                  <a:pt x="7689" y="9351"/>
                </a:cubicBezTo>
                <a:cubicBezTo>
                  <a:pt x="7654" y="9471"/>
                  <a:pt x="7621" y="9583"/>
                  <a:pt x="7590" y="9699"/>
                </a:cubicBezTo>
                <a:cubicBezTo>
                  <a:pt x="7564" y="9798"/>
                  <a:pt x="7504" y="9893"/>
                  <a:pt x="7491" y="9996"/>
                </a:cubicBezTo>
                <a:cubicBezTo>
                  <a:pt x="7480" y="10083"/>
                  <a:pt x="7470" y="10156"/>
                  <a:pt x="7466" y="10244"/>
                </a:cubicBezTo>
                <a:cubicBezTo>
                  <a:pt x="7464" y="10300"/>
                  <a:pt x="7469" y="10322"/>
                  <a:pt x="7441" y="10368"/>
                </a:cubicBezTo>
                <a:cubicBezTo>
                  <a:pt x="7485" y="10304"/>
                  <a:pt x="7444" y="10377"/>
                  <a:pt x="7541" y="10195"/>
                </a:cubicBezTo>
              </a:path>
              <a:path w="6673" h="9848">
                <a:moveTo>
                  <a:pt x="10840" y="9475"/>
                </a:moveTo>
                <a:cubicBezTo>
                  <a:pt x="10872" y="9486"/>
                  <a:pt x="10869" y="9508"/>
                  <a:pt x="10864" y="9550"/>
                </a:cubicBezTo>
                <a:cubicBezTo>
                  <a:pt x="10839" y="9751"/>
                  <a:pt x="10785" y="9944"/>
                  <a:pt x="10765" y="10145"/>
                </a:cubicBezTo>
                <a:cubicBezTo>
                  <a:pt x="10780" y="9956"/>
                  <a:pt x="10796" y="9720"/>
                  <a:pt x="10889" y="9550"/>
                </a:cubicBezTo>
                <a:cubicBezTo>
                  <a:pt x="10960" y="9479"/>
                  <a:pt x="10980" y="9457"/>
                  <a:pt x="11038" y="9426"/>
                </a:cubicBezTo>
                <a:cubicBezTo>
                  <a:pt x="11151" y="9663"/>
                  <a:pt x="11166" y="9837"/>
                  <a:pt x="11137" y="10096"/>
                </a:cubicBezTo>
                <a:cubicBezTo>
                  <a:pt x="11137" y="10120"/>
                  <a:pt x="11137" y="10128"/>
                  <a:pt x="11137" y="10096"/>
                </a:cubicBezTo>
              </a:path>
              <a:path w="6673" h="9848">
                <a:moveTo>
                  <a:pt x="11410" y="9723"/>
                </a:moveTo>
                <a:cubicBezTo>
                  <a:pt x="11387" y="9889"/>
                  <a:pt x="11361" y="10052"/>
                  <a:pt x="11361" y="10220"/>
                </a:cubicBezTo>
                <a:cubicBezTo>
                  <a:pt x="11502" y="10189"/>
                  <a:pt x="11576" y="10144"/>
                  <a:pt x="11658" y="10021"/>
                </a:cubicBezTo>
              </a:path>
              <a:path w="6673" h="9848">
                <a:moveTo>
                  <a:pt x="11361" y="9947"/>
                </a:moveTo>
                <a:cubicBezTo>
                  <a:pt x="11457" y="9850"/>
                  <a:pt x="11538" y="9795"/>
                  <a:pt x="11658" y="9723"/>
                </a:cubicBezTo>
              </a:path>
              <a:path w="6673" h="9848">
                <a:moveTo>
                  <a:pt x="10790" y="9475"/>
                </a:moveTo>
                <a:cubicBezTo>
                  <a:pt x="11090" y="9416"/>
                  <a:pt x="11383" y="9352"/>
                  <a:pt x="11683" y="9302"/>
                </a:cubicBezTo>
                <a:cubicBezTo>
                  <a:pt x="11753" y="9290"/>
                  <a:pt x="11895" y="9270"/>
                  <a:pt x="11832" y="9302"/>
                </a:cubicBezTo>
              </a:path>
              <a:path w="6673" h="9848">
                <a:moveTo>
                  <a:pt x="6796" y="15801"/>
                </a:moveTo>
                <a:cubicBezTo>
                  <a:pt x="6818" y="15901"/>
                  <a:pt x="6837" y="15996"/>
                  <a:pt x="6846" y="16098"/>
                </a:cubicBezTo>
                <a:cubicBezTo>
                  <a:pt x="6813" y="15944"/>
                  <a:pt x="6804" y="15785"/>
                  <a:pt x="6772" y="15627"/>
                </a:cubicBezTo>
                <a:cubicBezTo>
                  <a:pt x="6876" y="15627"/>
                  <a:pt x="6966" y="15589"/>
                  <a:pt x="7069" y="15577"/>
                </a:cubicBezTo>
                <a:cubicBezTo>
                  <a:pt x="7138" y="15577"/>
                  <a:pt x="7165" y="15571"/>
                  <a:pt x="7119" y="15627"/>
                </a:cubicBezTo>
              </a:path>
              <a:path w="6673" h="9848">
                <a:moveTo>
                  <a:pt x="6846" y="14213"/>
                </a:moveTo>
                <a:cubicBezTo>
                  <a:pt x="6773" y="14164"/>
                  <a:pt x="6657" y="14030"/>
                  <a:pt x="6548" y="14089"/>
                </a:cubicBezTo>
                <a:cubicBezTo>
                  <a:pt x="6405" y="14166"/>
                  <a:pt x="6198" y="14609"/>
                  <a:pt x="6449" y="14684"/>
                </a:cubicBezTo>
                <a:cubicBezTo>
                  <a:pt x="6579" y="14723"/>
                  <a:pt x="6856" y="14606"/>
                  <a:pt x="6821" y="14436"/>
                </a:cubicBezTo>
                <a:cubicBezTo>
                  <a:pt x="6808" y="14371"/>
                  <a:pt x="6668" y="14390"/>
                  <a:pt x="6623" y="14387"/>
                </a:cubicBezTo>
                <a:cubicBezTo>
                  <a:pt x="6573" y="14463"/>
                  <a:pt x="6805" y="14369"/>
                  <a:pt x="6846" y="14362"/>
                </a:cubicBezTo>
                <a:cubicBezTo>
                  <a:pt x="6854" y="14362"/>
                  <a:pt x="6863" y="14362"/>
                  <a:pt x="6871" y="14362"/>
                </a:cubicBezTo>
              </a:path>
              <a:path w="6673" h="9848">
                <a:moveTo>
                  <a:pt x="8285" y="13047"/>
                </a:moveTo>
                <a:cubicBezTo>
                  <a:pt x="8219" y="13034"/>
                  <a:pt x="8154" y="12964"/>
                  <a:pt x="8086" y="13022"/>
                </a:cubicBezTo>
                <a:cubicBezTo>
                  <a:pt x="8006" y="13090"/>
                  <a:pt x="7889" y="13352"/>
                  <a:pt x="8111" y="13221"/>
                </a:cubicBezTo>
                <a:cubicBezTo>
                  <a:pt x="8185" y="13147"/>
                  <a:pt x="8210" y="13123"/>
                  <a:pt x="8210" y="13047"/>
                </a:cubicBezTo>
                <a:cubicBezTo>
                  <a:pt x="8183" y="13053"/>
                  <a:pt x="7965" y="13178"/>
                  <a:pt x="8062" y="13221"/>
                </a:cubicBezTo>
                <a:cubicBezTo>
                  <a:pt x="8078" y="13213"/>
                  <a:pt x="8095" y="13204"/>
                  <a:pt x="8111" y="13196"/>
                </a:cubicBezTo>
                <a:cubicBezTo>
                  <a:pt x="8187" y="13108"/>
                  <a:pt x="8168" y="13122"/>
                  <a:pt x="8062" y="13122"/>
                </a:cubicBezTo>
              </a:path>
              <a:path w="6673" h="9848">
                <a:moveTo>
                  <a:pt x="8037" y="13122"/>
                </a:moveTo>
                <a:cubicBezTo>
                  <a:pt x="8062" y="13122"/>
                  <a:pt x="8086" y="13122"/>
                  <a:pt x="8111" y="13122"/>
                </a:cubicBezTo>
                <a:cubicBezTo>
                  <a:pt x="8111" y="13097"/>
                  <a:pt x="8111" y="13089"/>
                  <a:pt x="8136" y="13097"/>
                </a:cubicBezTo>
              </a:path>
              <a:path w="6673" h="9848">
                <a:moveTo>
                  <a:pt x="8235" y="13196"/>
                </a:moveTo>
                <a:cubicBezTo>
                  <a:pt x="8437" y="13408"/>
                  <a:pt x="8622" y="13634"/>
                  <a:pt x="8830" y="13841"/>
                </a:cubicBezTo>
                <a:cubicBezTo>
                  <a:pt x="8919" y="13930"/>
                  <a:pt x="9025" y="14018"/>
                  <a:pt x="9128" y="14089"/>
                </a:cubicBezTo>
                <a:cubicBezTo>
                  <a:pt x="9209" y="14145"/>
                  <a:pt x="9290" y="14197"/>
                  <a:pt x="9376" y="14238"/>
                </a:cubicBezTo>
                <a:cubicBezTo>
                  <a:pt x="9465" y="14281"/>
                  <a:pt x="9557" y="14289"/>
                  <a:pt x="9649" y="14337"/>
                </a:cubicBezTo>
                <a:cubicBezTo>
                  <a:pt x="9717" y="14372"/>
                  <a:pt x="9774" y="14427"/>
                  <a:pt x="9823" y="14486"/>
                </a:cubicBezTo>
                <a:cubicBezTo>
                  <a:pt x="9914" y="14596"/>
                  <a:pt x="9994" y="14642"/>
                  <a:pt x="10096" y="14734"/>
                </a:cubicBezTo>
                <a:cubicBezTo>
                  <a:pt x="10143" y="14776"/>
                  <a:pt x="10145" y="14794"/>
                  <a:pt x="10170" y="14833"/>
                </a:cubicBezTo>
              </a:path>
              <a:path w="6673" h="9848">
                <a:moveTo>
                  <a:pt x="12154" y="12849"/>
                </a:moveTo>
                <a:cubicBezTo>
                  <a:pt x="12052" y="13001"/>
                  <a:pt x="11996" y="13257"/>
                  <a:pt x="11906" y="13444"/>
                </a:cubicBezTo>
                <a:cubicBezTo>
                  <a:pt x="12002" y="13158"/>
                  <a:pt x="12126" y="12907"/>
                  <a:pt x="12328" y="12675"/>
                </a:cubicBezTo>
                <a:cubicBezTo>
                  <a:pt x="12361" y="12650"/>
                  <a:pt x="12394" y="12626"/>
                  <a:pt x="12427" y="12601"/>
                </a:cubicBezTo>
                <a:cubicBezTo>
                  <a:pt x="12485" y="12858"/>
                  <a:pt x="12476" y="13065"/>
                  <a:pt x="12402" y="13320"/>
                </a:cubicBezTo>
                <a:cubicBezTo>
                  <a:pt x="12382" y="13361"/>
                  <a:pt x="12385" y="13378"/>
                  <a:pt x="12353" y="13370"/>
                </a:cubicBezTo>
              </a:path>
              <a:path w="6673" h="9848">
                <a:moveTo>
                  <a:pt x="12179" y="13667"/>
                </a:moveTo>
                <a:cubicBezTo>
                  <a:pt x="12096" y="13667"/>
                  <a:pt x="12245" y="13672"/>
                  <a:pt x="12328" y="13667"/>
                </a:cubicBezTo>
                <a:cubicBezTo>
                  <a:pt x="12561" y="13653"/>
                  <a:pt x="12788" y="13643"/>
                  <a:pt x="13022" y="13643"/>
                </a:cubicBezTo>
              </a:path>
              <a:path w="6673" h="9848">
                <a:moveTo>
                  <a:pt x="10641" y="6573"/>
                </a:moveTo>
                <a:cubicBezTo>
                  <a:pt x="10950" y="6518"/>
                  <a:pt x="11212" y="6531"/>
                  <a:pt x="11534" y="6548"/>
                </a:cubicBezTo>
                <a:cubicBezTo>
                  <a:pt x="11811" y="6562"/>
                  <a:pt x="12083" y="6571"/>
                  <a:pt x="12353" y="6623"/>
                </a:cubicBezTo>
                <a:cubicBezTo>
                  <a:pt x="12112" y="6634"/>
                  <a:pt x="11876" y="6646"/>
                  <a:pt x="11633" y="6648"/>
                </a:cubicBezTo>
                <a:cubicBezTo>
                  <a:pt x="11599" y="6648"/>
                  <a:pt x="10757" y="6667"/>
                  <a:pt x="10740" y="6623"/>
                </a:cubicBezTo>
                <a:cubicBezTo>
                  <a:pt x="10716" y="6561"/>
                  <a:pt x="11398" y="6388"/>
                  <a:pt x="11460" y="6375"/>
                </a:cubicBezTo>
                <a:cubicBezTo>
                  <a:pt x="11733" y="6333"/>
                  <a:pt x="11790" y="6323"/>
                  <a:pt x="11956" y="6300"/>
                </a:cubicBezTo>
                <a:cubicBezTo>
                  <a:pt x="11660" y="6372"/>
                  <a:pt x="11369" y="6408"/>
                  <a:pt x="11063" y="6449"/>
                </a:cubicBezTo>
                <a:cubicBezTo>
                  <a:pt x="10876" y="6474"/>
                  <a:pt x="10435" y="6550"/>
                  <a:pt x="10616" y="6499"/>
                </a:cubicBezTo>
                <a:cubicBezTo>
                  <a:pt x="10977" y="6397"/>
                  <a:pt x="11260" y="6354"/>
                  <a:pt x="11633" y="6300"/>
                </a:cubicBezTo>
                <a:cubicBezTo>
                  <a:pt x="12563" y="6219"/>
                  <a:pt x="11560" y="6322"/>
                  <a:pt x="11336" y="6350"/>
                </a:cubicBezTo>
                <a:cubicBezTo>
                  <a:pt x="11013" y="6391"/>
                  <a:pt x="10955" y="6397"/>
                  <a:pt x="10765" y="6424"/>
                </a:cubicBezTo>
                <a:cubicBezTo>
                  <a:pt x="11023" y="6353"/>
                  <a:pt x="11237" y="6336"/>
                  <a:pt x="11509" y="63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94000" y="2820960"/>
            <a:ext cx="2222280" cy="3073320"/>
          </a:xfrm>
          <a:custGeom>
            <a:avLst/>
            <a:gdLst/>
            <a:ahLst/>
            <a:rect l="l" t="t" r="r" b="b"/>
            <a:pathLst>
              <a:path w="6177" h="8534">
                <a:moveTo>
                  <a:pt x="7789" y="7987"/>
                </a:moveTo>
                <a:cubicBezTo>
                  <a:pt x="7962" y="7913"/>
                  <a:pt x="8020" y="7888"/>
                  <a:pt x="8136" y="7838"/>
                </a:cubicBezTo>
              </a:path>
              <a:path w="6177" h="8534">
                <a:moveTo>
                  <a:pt x="7441" y="10840"/>
                </a:moveTo>
                <a:cubicBezTo>
                  <a:pt x="7491" y="10798"/>
                  <a:pt x="7585" y="10728"/>
                  <a:pt x="7615" y="10691"/>
                </a:cubicBezTo>
              </a:path>
              <a:path w="6177" h="8534">
                <a:moveTo>
                  <a:pt x="6648" y="9475"/>
                </a:moveTo>
                <a:cubicBezTo>
                  <a:pt x="6707" y="9445"/>
                  <a:pt x="6789" y="9373"/>
                  <a:pt x="6846" y="9327"/>
                </a:cubicBezTo>
              </a:path>
              <a:path w="6177" h="8534">
                <a:moveTo>
                  <a:pt x="7838" y="12725"/>
                </a:moveTo>
                <a:cubicBezTo>
                  <a:pt x="8020" y="12688"/>
                  <a:pt x="8201" y="12657"/>
                  <a:pt x="8384" y="12626"/>
                </a:cubicBezTo>
              </a:path>
              <a:path w="6177" h="8534">
                <a:moveTo>
                  <a:pt x="8062" y="16371"/>
                </a:moveTo>
                <a:cubicBezTo>
                  <a:pt x="8221" y="16348"/>
                  <a:pt x="8266" y="16345"/>
                  <a:pt x="8359" y="16297"/>
                </a:cubicBezTo>
              </a:path>
              <a:path w="6177" h="8534">
                <a:moveTo>
                  <a:pt x="8161" y="16148"/>
                </a:moveTo>
                <a:cubicBezTo>
                  <a:pt x="8283" y="16086"/>
                  <a:pt x="8305" y="16070"/>
                  <a:pt x="8384" y="16049"/>
                </a:cubicBezTo>
              </a:path>
              <a:path w="6177" h="8534">
                <a:moveTo>
                  <a:pt x="8384" y="16049"/>
                </a:moveTo>
                <a:lnTo>
                  <a:pt x="8384" y="16049"/>
                </a:lnTo>
              </a:path>
              <a:path w="6177" h="8534">
                <a:moveTo>
                  <a:pt x="6846" y="15900"/>
                </a:moveTo>
                <a:cubicBezTo>
                  <a:pt x="6930" y="15879"/>
                  <a:pt x="6949" y="15877"/>
                  <a:pt x="6995" y="15850"/>
                </a:cubicBezTo>
              </a:path>
              <a:path w="6177" h="8534">
                <a:moveTo>
                  <a:pt x="8136" y="13097"/>
                </a:moveTo>
                <a:lnTo>
                  <a:pt x="8136" y="13097"/>
                </a:lnTo>
              </a:path>
              <a:path w="6177" h="8534">
                <a:moveTo>
                  <a:pt x="8161" y="13097"/>
                </a:moveTo>
                <a:lnTo>
                  <a:pt x="8161" y="13097"/>
                </a:lnTo>
              </a:path>
              <a:path w="6177" h="8534">
                <a:moveTo>
                  <a:pt x="12129" y="13097"/>
                </a:moveTo>
                <a:cubicBezTo>
                  <a:pt x="12283" y="13058"/>
                  <a:pt x="12417" y="13042"/>
                  <a:pt x="12576" y="13022"/>
                </a:cubicBezTo>
              </a:path>
              <a:path w="6177" h="8534">
                <a:moveTo>
                  <a:pt x="8186" y="12998"/>
                </a:moveTo>
                <a:cubicBezTo>
                  <a:pt x="8194" y="12998"/>
                  <a:pt x="8202" y="12998"/>
                  <a:pt x="8210" y="12998"/>
                </a:cubicBezTo>
              </a:path>
              <a:path w="6177" h="8534">
                <a:moveTo>
                  <a:pt x="8210" y="12998"/>
                </a:moveTo>
                <a:lnTo>
                  <a:pt x="8210" y="12998"/>
                </a:lnTo>
              </a:path>
              <a:path w="6177" h="8534">
                <a:moveTo>
                  <a:pt x="11832" y="14288"/>
                </a:moveTo>
                <a:cubicBezTo>
                  <a:pt x="11993" y="14241"/>
                  <a:pt x="12111" y="14220"/>
                  <a:pt x="12278" y="14213"/>
                </a:cubicBezTo>
              </a:path>
              <a:path w="6177" h="8534">
                <a:moveTo>
                  <a:pt x="12601" y="14238"/>
                </a:moveTo>
                <a:cubicBezTo>
                  <a:pt x="12677" y="14224"/>
                  <a:pt x="12761" y="14215"/>
                  <a:pt x="12824" y="141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62120" y="4446720"/>
            <a:ext cx="1839960" cy="1366560"/>
          </a:xfrm>
          <a:custGeom>
            <a:avLst/>
            <a:gdLst/>
            <a:ahLst/>
            <a:rect l="l" t="t" r="r" b="b"/>
            <a:pathLst>
              <a:path w="5111" h="3796">
                <a:moveTo>
                  <a:pt x="7913" y="13295"/>
                </a:moveTo>
                <a:cubicBezTo>
                  <a:pt x="7728" y="13471"/>
                  <a:pt x="7577" y="13699"/>
                  <a:pt x="7417" y="13915"/>
                </a:cubicBezTo>
                <a:cubicBezTo>
                  <a:pt x="7381" y="13964"/>
                  <a:pt x="7141" y="14220"/>
                  <a:pt x="7119" y="14288"/>
                </a:cubicBezTo>
                <a:cubicBezTo>
                  <a:pt x="7099" y="14349"/>
                  <a:pt x="7159" y="14485"/>
                  <a:pt x="7169" y="14536"/>
                </a:cubicBezTo>
                <a:cubicBezTo>
                  <a:pt x="7208" y="14728"/>
                  <a:pt x="7222" y="14914"/>
                  <a:pt x="7243" y="15106"/>
                </a:cubicBezTo>
                <a:cubicBezTo>
                  <a:pt x="7264" y="15296"/>
                  <a:pt x="7288" y="15485"/>
                  <a:pt x="7293" y="15677"/>
                </a:cubicBezTo>
                <a:cubicBezTo>
                  <a:pt x="7293" y="15735"/>
                  <a:pt x="7293" y="15743"/>
                  <a:pt x="7293" y="15776"/>
                </a:cubicBezTo>
                <a:cubicBezTo>
                  <a:pt x="7332" y="15784"/>
                  <a:pt x="7313" y="15797"/>
                  <a:pt x="7367" y="15801"/>
                </a:cubicBezTo>
                <a:cubicBezTo>
                  <a:pt x="7490" y="15811"/>
                  <a:pt x="7592" y="15819"/>
                  <a:pt x="7714" y="15850"/>
                </a:cubicBezTo>
                <a:cubicBezTo>
                  <a:pt x="7843" y="15882"/>
                  <a:pt x="7953" y="15941"/>
                  <a:pt x="8086" y="15974"/>
                </a:cubicBezTo>
                <a:cubicBezTo>
                  <a:pt x="8167" y="15994"/>
                  <a:pt x="8312" y="16068"/>
                  <a:pt x="8384" y="16073"/>
                </a:cubicBezTo>
                <a:cubicBezTo>
                  <a:pt x="8440" y="16077"/>
                  <a:pt x="8419" y="16054"/>
                  <a:pt x="8458" y="16049"/>
                </a:cubicBezTo>
                <a:cubicBezTo>
                  <a:pt x="8579" y="16032"/>
                  <a:pt x="8709" y="16019"/>
                  <a:pt x="8830" y="15999"/>
                </a:cubicBezTo>
                <a:cubicBezTo>
                  <a:pt x="8982" y="15974"/>
                  <a:pt x="9133" y="15946"/>
                  <a:pt x="9277" y="15900"/>
                </a:cubicBezTo>
                <a:cubicBezTo>
                  <a:pt x="9388" y="15864"/>
                  <a:pt x="9487" y="15846"/>
                  <a:pt x="9599" y="15825"/>
                </a:cubicBezTo>
                <a:cubicBezTo>
                  <a:pt x="9599" y="15782"/>
                  <a:pt x="9559" y="15791"/>
                  <a:pt x="9575" y="15751"/>
                </a:cubicBezTo>
                <a:cubicBezTo>
                  <a:pt x="9617" y="15648"/>
                  <a:pt x="9694" y="15607"/>
                  <a:pt x="9748" y="15528"/>
                </a:cubicBezTo>
                <a:cubicBezTo>
                  <a:pt x="9830" y="15407"/>
                  <a:pt x="9896" y="15291"/>
                  <a:pt x="9996" y="15180"/>
                </a:cubicBezTo>
                <a:cubicBezTo>
                  <a:pt x="10065" y="15104"/>
                  <a:pt x="10138" y="15040"/>
                  <a:pt x="10195" y="14957"/>
                </a:cubicBezTo>
                <a:cubicBezTo>
                  <a:pt x="10261" y="14862"/>
                  <a:pt x="10171" y="15027"/>
                  <a:pt x="10195" y="14932"/>
                </a:cubicBezTo>
                <a:cubicBezTo>
                  <a:pt x="10213" y="14862"/>
                  <a:pt x="10207" y="14780"/>
                  <a:pt x="10220" y="14709"/>
                </a:cubicBezTo>
                <a:cubicBezTo>
                  <a:pt x="10248" y="14561"/>
                  <a:pt x="10268" y="14413"/>
                  <a:pt x="10294" y="14263"/>
                </a:cubicBezTo>
                <a:cubicBezTo>
                  <a:pt x="10319" y="14116"/>
                  <a:pt x="10334" y="13964"/>
                  <a:pt x="10344" y="13816"/>
                </a:cubicBezTo>
                <a:cubicBezTo>
                  <a:pt x="10349" y="13738"/>
                  <a:pt x="10360" y="13665"/>
                  <a:pt x="10368" y="13593"/>
                </a:cubicBezTo>
                <a:cubicBezTo>
                  <a:pt x="10368" y="13568"/>
                  <a:pt x="10368" y="13560"/>
                  <a:pt x="10368" y="13543"/>
                </a:cubicBezTo>
                <a:cubicBezTo>
                  <a:pt x="10255" y="13502"/>
                  <a:pt x="10139" y="13478"/>
                  <a:pt x="10021" y="13444"/>
                </a:cubicBezTo>
                <a:cubicBezTo>
                  <a:pt x="9844" y="13394"/>
                  <a:pt x="9678" y="13274"/>
                  <a:pt x="9525" y="13171"/>
                </a:cubicBezTo>
                <a:cubicBezTo>
                  <a:pt x="9367" y="13064"/>
                  <a:pt x="9192" y="13036"/>
                  <a:pt x="9004" y="12998"/>
                </a:cubicBezTo>
                <a:cubicBezTo>
                  <a:pt x="8849" y="12966"/>
                  <a:pt x="8717" y="12948"/>
                  <a:pt x="8558" y="12948"/>
                </a:cubicBezTo>
                <a:cubicBezTo>
                  <a:pt x="8440" y="12948"/>
                  <a:pt x="8320" y="12966"/>
                  <a:pt x="8210" y="12973"/>
                </a:cubicBezTo>
                <a:cubicBezTo>
                  <a:pt x="8105" y="12980"/>
                  <a:pt x="8100" y="12955"/>
                  <a:pt x="8012" y="13047"/>
                </a:cubicBezTo>
                <a:cubicBezTo>
                  <a:pt x="7940" y="13122"/>
                  <a:pt x="7977" y="13115"/>
                  <a:pt x="7962" y="13146"/>
                </a:cubicBezTo>
                <a:cubicBezTo>
                  <a:pt x="7919" y="13237"/>
                  <a:pt x="7893" y="13350"/>
                  <a:pt x="7863" y="13444"/>
                </a:cubicBezTo>
                <a:cubicBezTo>
                  <a:pt x="7916" y="13359"/>
                  <a:pt x="7949" y="13324"/>
                  <a:pt x="8012" y="13246"/>
                </a:cubicBezTo>
                <a:cubicBezTo>
                  <a:pt x="8061" y="13185"/>
                  <a:pt x="8119" y="13118"/>
                  <a:pt x="8161" y="13072"/>
                </a:cubicBezTo>
                <a:cubicBezTo>
                  <a:pt x="8046" y="13174"/>
                  <a:pt x="7944" y="13282"/>
                  <a:pt x="7838" y="13395"/>
                </a:cubicBezTo>
                <a:cubicBezTo>
                  <a:pt x="7745" y="13488"/>
                  <a:pt x="7889" y="13333"/>
                  <a:pt x="7987" y="13246"/>
                </a:cubicBezTo>
                <a:cubicBezTo>
                  <a:pt x="8038" y="13200"/>
                  <a:pt x="8168" y="13077"/>
                  <a:pt x="8210" y="13047"/>
                </a:cubicBezTo>
                <a:cubicBezTo>
                  <a:pt x="8218" y="13047"/>
                  <a:pt x="8227" y="13047"/>
                  <a:pt x="8235" y="13047"/>
                </a:cubicBezTo>
              </a:path>
              <a:path w="5111" h="3796">
                <a:moveTo>
                  <a:pt x="7838" y="12774"/>
                </a:moveTo>
                <a:cubicBezTo>
                  <a:pt x="7802" y="12848"/>
                  <a:pt x="7785" y="12852"/>
                  <a:pt x="7789" y="12898"/>
                </a:cubicBezTo>
                <a:cubicBezTo>
                  <a:pt x="7824" y="12722"/>
                  <a:pt x="7930" y="12550"/>
                  <a:pt x="8037" y="12402"/>
                </a:cubicBezTo>
                <a:cubicBezTo>
                  <a:pt x="8053" y="12386"/>
                  <a:pt x="8070" y="12369"/>
                  <a:pt x="8086" y="12353"/>
                </a:cubicBezTo>
                <a:cubicBezTo>
                  <a:pt x="8133" y="12457"/>
                  <a:pt x="8281" y="12739"/>
                  <a:pt x="8161" y="12849"/>
                </a:cubicBezTo>
                <a:cubicBezTo>
                  <a:pt x="8144" y="12849"/>
                  <a:pt x="8128" y="12849"/>
                  <a:pt x="8111" y="12849"/>
                </a:cubicBezTo>
              </a:path>
              <a:path w="5111" h="3796">
                <a:moveTo>
                  <a:pt x="8210" y="13047"/>
                </a:moveTo>
                <a:cubicBezTo>
                  <a:pt x="8151" y="13157"/>
                  <a:pt x="8137" y="13250"/>
                  <a:pt x="8111" y="13370"/>
                </a:cubicBezTo>
                <a:cubicBezTo>
                  <a:pt x="8095" y="13442"/>
                  <a:pt x="8067" y="13523"/>
                  <a:pt x="8037" y="13593"/>
                </a:cubicBezTo>
                <a:cubicBezTo>
                  <a:pt x="8001" y="13677"/>
                  <a:pt x="7944" y="13758"/>
                  <a:pt x="7913" y="13841"/>
                </a:cubicBezTo>
                <a:cubicBezTo>
                  <a:pt x="7870" y="13955"/>
                  <a:pt x="7835" y="14074"/>
                  <a:pt x="7789" y="14188"/>
                </a:cubicBezTo>
                <a:cubicBezTo>
                  <a:pt x="7748" y="14289"/>
                  <a:pt x="7726" y="14386"/>
                  <a:pt x="7689" y="14486"/>
                </a:cubicBezTo>
                <a:cubicBezTo>
                  <a:pt x="7659" y="14566"/>
                  <a:pt x="7642" y="14651"/>
                  <a:pt x="7615" y="14734"/>
                </a:cubicBezTo>
                <a:cubicBezTo>
                  <a:pt x="7599" y="14784"/>
                  <a:pt x="7584" y="14833"/>
                  <a:pt x="7565" y="14883"/>
                </a:cubicBezTo>
                <a:cubicBezTo>
                  <a:pt x="7527" y="14985"/>
                  <a:pt x="7475" y="15073"/>
                  <a:pt x="7441" y="15180"/>
                </a:cubicBezTo>
                <a:cubicBezTo>
                  <a:pt x="7409" y="15281"/>
                  <a:pt x="7369" y="15386"/>
                  <a:pt x="7317" y="15478"/>
                </a:cubicBezTo>
                <a:cubicBezTo>
                  <a:pt x="7281" y="15542"/>
                  <a:pt x="7253" y="15577"/>
                  <a:pt x="7243" y="15652"/>
                </a:cubicBezTo>
                <a:cubicBezTo>
                  <a:pt x="7236" y="15704"/>
                  <a:pt x="7265" y="15739"/>
                  <a:pt x="7268" y="15751"/>
                </a:cubicBezTo>
              </a:path>
              <a:path w="5111" h="3796">
                <a:moveTo>
                  <a:pt x="11906" y="14213"/>
                </a:moveTo>
                <a:cubicBezTo>
                  <a:pt x="11874" y="14328"/>
                  <a:pt x="11832" y="14580"/>
                  <a:pt x="11832" y="14461"/>
                </a:cubicBezTo>
                <a:cubicBezTo>
                  <a:pt x="11904" y="14217"/>
                  <a:pt x="11991" y="14041"/>
                  <a:pt x="12179" y="13866"/>
                </a:cubicBezTo>
                <a:cubicBezTo>
                  <a:pt x="12229" y="14014"/>
                  <a:pt x="12307" y="14401"/>
                  <a:pt x="12154" y="14536"/>
                </a:cubicBezTo>
                <a:cubicBezTo>
                  <a:pt x="12138" y="14519"/>
                  <a:pt x="12121" y="14503"/>
                  <a:pt x="12105" y="14486"/>
                </a:cubicBezTo>
              </a:path>
              <a:path w="5111" h="3796">
                <a:moveTo>
                  <a:pt x="8285" y="13022"/>
                </a:moveTo>
                <a:cubicBezTo>
                  <a:pt x="8243" y="13160"/>
                  <a:pt x="8220" y="13301"/>
                  <a:pt x="8210" y="13444"/>
                </a:cubicBezTo>
                <a:cubicBezTo>
                  <a:pt x="8202" y="13570"/>
                  <a:pt x="8235" y="13689"/>
                  <a:pt x="8235" y="13816"/>
                </a:cubicBezTo>
                <a:cubicBezTo>
                  <a:pt x="8235" y="14066"/>
                  <a:pt x="8234" y="14315"/>
                  <a:pt x="8260" y="14560"/>
                </a:cubicBezTo>
                <a:cubicBezTo>
                  <a:pt x="8272" y="14676"/>
                  <a:pt x="8235" y="14811"/>
                  <a:pt x="8235" y="14932"/>
                </a:cubicBezTo>
                <a:cubicBezTo>
                  <a:pt x="8235" y="15057"/>
                  <a:pt x="8243" y="15204"/>
                  <a:pt x="8260" y="15329"/>
                </a:cubicBezTo>
                <a:cubicBezTo>
                  <a:pt x="8275" y="15433"/>
                  <a:pt x="8285" y="15521"/>
                  <a:pt x="8285" y="15627"/>
                </a:cubicBezTo>
                <a:cubicBezTo>
                  <a:pt x="8285" y="15762"/>
                  <a:pt x="8285" y="16078"/>
                  <a:pt x="8285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86080" y="5776920"/>
            <a:ext cx="1027080" cy="804960"/>
          </a:xfrm>
          <a:custGeom>
            <a:avLst/>
            <a:gdLst/>
            <a:ahLst/>
            <a:rect l="l" t="t" r="r" b="b"/>
            <a:pathLst>
              <a:path w="2854" h="2233">
                <a:moveTo>
                  <a:pt x="11708" y="16197"/>
                </a:moveTo>
                <a:cubicBezTo>
                  <a:pt x="11687" y="16368"/>
                  <a:pt x="11654" y="16551"/>
                  <a:pt x="11609" y="16718"/>
                </a:cubicBezTo>
                <a:cubicBezTo>
                  <a:pt x="11577" y="16838"/>
                  <a:pt x="11584" y="16725"/>
                  <a:pt x="11584" y="16694"/>
                </a:cubicBezTo>
                <a:cubicBezTo>
                  <a:pt x="11682" y="16455"/>
                  <a:pt x="11757" y="16235"/>
                  <a:pt x="11931" y="16049"/>
                </a:cubicBezTo>
                <a:cubicBezTo>
                  <a:pt x="11980" y="16267"/>
                  <a:pt x="12012" y="16495"/>
                  <a:pt x="11956" y="16718"/>
                </a:cubicBezTo>
                <a:cubicBezTo>
                  <a:pt x="11948" y="16726"/>
                  <a:pt x="11939" y="16735"/>
                  <a:pt x="11931" y="16743"/>
                </a:cubicBezTo>
              </a:path>
              <a:path w="2854" h="2233">
                <a:moveTo>
                  <a:pt x="9128" y="18058"/>
                </a:moveTo>
                <a:cubicBezTo>
                  <a:pt x="9174" y="18127"/>
                  <a:pt x="9341" y="18065"/>
                  <a:pt x="9426" y="18058"/>
                </a:cubicBezTo>
                <a:cubicBezTo>
                  <a:pt x="9598" y="18043"/>
                  <a:pt x="9454" y="18092"/>
                  <a:pt x="9699" y="17959"/>
                </a:cubicBezTo>
              </a:path>
              <a:path w="2854" h="2233">
                <a:moveTo>
                  <a:pt x="9947" y="17760"/>
                </a:moveTo>
                <a:cubicBezTo>
                  <a:pt x="9852" y="17760"/>
                  <a:pt x="10078" y="17710"/>
                  <a:pt x="10170" y="17686"/>
                </a:cubicBezTo>
                <a:cubicBezTo>
                  <a:pt x="10316" y="17648"/>
                  <a:pt x="10463" y="17691"/>
                  <a:pt x="10319" y="17859"/>
                </a:cubicBezTo>
                <a:cubicBezTo>
                  <a:pt x="10286" y="17884"/>
                  <a:pt x="10253" y="17909"/>
                  <a:pt x="10220" y="17934"/>
                </a:cubicBezTo>
                <a:cubicBezTo>
                  <a:pt x="10197" y="17957"/>
                  <a:pt x="10193" y="17965"/>
                  <a:pt x="10170" y="17959"/>
                </a:cubicBezTo>
                <a:cubicBezTo>
                  <a:pt x="10370" y="17934"/>
                  <a:pt x="10404" y="17969"/>
                  <a:pt x="10542" y="18107"/>
                </a:cubicBezTo>
                <a:cubicBezTo>
                  <a:pt x="10471" y="18213"/>
                  <a:pt x="10352" y="18326"/>
                  <a:pt x="10195" y="18281"/>
                </a:cubicBezTo>
                <a:cubicBezTo>
                  <a:pt x="10195" y="18273"/>
                  <a:pt x="10195" y="18264"/>
                  <a:pt x="10195" y="182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1320" y="3054240"/>
            <a:ext cx="3606840" cy="3098880"/>
          </a:xfrm>
          <a:custGeom>
            <a:avLst/>
            <a:gdLst/>
            <a:ahLst/>
            <a:rect l="l" t="t" r="r" b="b"/>
            <a:pathLst>
              <a:path w="10022" h="8608">
                <a:moveTo>
                  <a:pt x="11336" y="8483"/>
                </a:moveTo>
                <a:cubicBezTo>
                  <a:pt x="11562" y="8504"/>
                  <a:pt x="11951" y="8535"/>
                  <a:pt x="11757" y="8880"/>
                </a:cubicBezTo>
                <a:cubicBezTo>
                  <a:pt x="11692" y="8997"/>
                  <a:pt x="11599" y="9025"/>
                  <a:pt x="11485" y="9054"/>
                </a:cubicBezTo>
              </a:path>
              <a:path w="10022" h="8608">
                <a:moveTo>
                  <a:pt x="16892" y="10616"/>
                </a:moveTo>
                <a:lnTo>
                  <a:pt x="16892" y="10616"/>
                </a:lnTo>
              </a:path>
              <a:path w="10022" h="8608">
                <a:moveTo>
                  <a:pt x="20910" y="9773"/>
                </a:moveTo>
                <a:cubicBezTo>
                  <a:pt x="21092" y="9807"/>
                  <a:pt x="21595" y="9950"/>
                  <a:pt x="21233" y="10195"/>
                </a:cubicBezTo>
                <a:cubicBezTo>
                  <a:pt x="21044" y="10265"/>
                  <a:pt x="20988" y="10293"/>
                  <a:pt x="20861" y="10220"/>
                </a:cubicBezTo>
              </a:path>
              <a:path w="10022" h="8608">
                <a:moveTo>
                  <a:pt x="12502" y="15056"/>
                </a:moveTo>
                <a:cubicBezTo>
                  <a:pt x="12713" y="15144"/>
                  <a:pt x="12986" y="15253"/>
                  <a:pt x="12750" y="15503"/>
                </a:cubicBezTo>
                <a:cubicBezTo>
                  <a:pt x="12618" y="15643"/>
                  <a:pt x="12532" y="15588"/>
                  <a:pt x="12402" y="15528"/>
                </a:cubicBezTo>
              </a:path>
              <a:path w="10022" h="8608">
                <a:moveTo>
                  <a:pt x="19124" y="16570"/>
                </a:moveTo>
                <a:cubicBezTo>
                  <a:pt x="19299" y="16595"/>
                  <a:pt x="19680" y="16653"/>
                  <a:pt x="19546" y="16942"/>
                </a:cubicBezTo>
                <a:cubicBezTo>
                  <a:pt x="19451" y="17146"/>
                  <a:pt x="19274" y="17087"/>
                  <a:pt x="19149" y="169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61000" y="3062160"/>
            <a:ext cx="1036800" cy="1001880"/>
          </a:xfrm>
          <a:custGeom>
            <a:avLst/>
            <a:gdLst/>
            <a:ahLst/>
            <a:rect l="l" t="t" r="r" b="b"/>
            <a:pathLst>
              <a:path w="2879" h="2779">
                <a:moveTo>
                  <a:pt x="17214" y="8930"/>
                </a:moveTo>
                <a:cubicBezTo>
                  <a:pt x="17239" y="8930"/>
                  <a:pt x="17247" y="8930"/>
                  <a:pt x="17239" y="8905"/>
                </a:cubicBezTo>
                <a:cubicBezTo>
                  <a:pt x="17099" y="9116"/>
                  <a:pt x="16907" y="9347"/>
                  <a:pt x="16743" y="9550"/>
                </a:cubicBezTo>
                <a:cubicBezTo>
                  <a:pt x="16631" y="9689"/>
                  <a:pt x="16469" y="9874"/>
                  <a:pt x="16371" y="10021"/>
                </a:cubicBezTo>
              </a:path>
              <a:path w="2879" h="2779">
                <a:moveTo>
                  <a:pt x="17264" y="8954"/>
                </a:moveTo>
                <a:cubicBezTo>
                  <a:pt x="17324" y="9015"/>
                  <a:pt x="17353" y="9042"/>
                  <a:pt x="17413" y="9103"/>
                </a:cubicBezTo>
                <a:cubicBezTo>
                  <a:pt x="17522" y="9213"/>
                  <a:pt x="17626" y="9321"/>
                  <a:pt x="17711" y="9451"/>
                </a:cubicBezTo>
                <a:cubicBezTo>
                  <a:pt x="17783" y="9560"/>
                  <a:pt x="17845" y="9654"/>
                  <a:pt x="17934" y="9748"/>
                </a:cubicBezTo>
                <a:cubicBezTo>
                  <a:pt x="17949" y="9764"/>
                  <a:pt x="17967" y="9782"/>
                  <a:pt x="17983" y="9798"/>
                </a:cubicBezTo>
                <a:cubicBezTo>
                  <a:pt x="17999" y="9814"/>
                  <a:pt x="18017" y="9831"/>
                  <a:pt x="18033" y="9847"/>
                </a:cubicBezTo>
                <a:cubicBezTo>
                  <a:pt x="18072" y="9885"/>
                  <a:pt x="18030" y="10049"/>
                  <a:pt x="18008" y="10120"/>
                </a:cubicBezTo>
                <a:cubicBezTo>
                  <a:pt x="17954" y="10298"/>
                  <a:pt x="17905" y="10456"/>
                  <a:pt x="17884" y="10641"/>
                </a:cubicBezTo>
                <a:cubicBezTo>
                  <a:pt x="17878" y="10692"/>
                  <a:pt x="17887" y="10699"/>
                  <a:pt x="17835" y="10716"/>
                </a:cubicBezTo>
                <a:cubicBezTo>
                  <a:pt x="17769" y="10737"/>
                  <a:pt x="17612" y="10691"/>
                  <a:pt x="17537" y="10691"/>
                </a:cubicBezTo>
                <a:cubicBezTo>
                  <a:pt x="17383" y="10691"/>
                  <a:pt x="17239" y="10682"/>
                  <a:pt x="17090" y="10666"/>
                </a:cubicBezTo>
                <a:cubicBezTo>
                  <a:pt x="17015" y="10658"/>
                  <a:pt x="16961" y="10641"/>
                  <a:pt x="16892" y="10616"/>
                </a:cubicBezTo>
              </a:path>
              <a:path w="2879" h="2779">
                <a:moveTo>
                  <a:pt x="16867" y="10542"/>
                </a:moveTo>
                <a:cubicBezTo>
                  <a:pt x="16769" y="10417"/>
                  <a:pt x="16653" y="10355"/>
                  <a:pt x="16545" y="10244"/>
                </a:cubicBezTo>
                <a:cubicBezTo>
                  <a:pt x="16476" y="10173"/>
                  <a:pt x="16412" y="10091"/>
                  <a:pt x="16396" y="9996"/>
                </a:cubicBezTo>
                <a:cubicBezTo>
                  <a:pt x="16390" y="9958"/>
                  <a:pt x="16396" y="9911"/>
                  <a:pt x="16396" y="9872"/>
                </a:cubicBezTo>
              </a:path>
              <a:path w="2879" h="2779">
                <a:moveTo>
                  <a:pt x="15801" y="9872"/>
                </a:moveTo>
                <a:cubicBezTo>
                  <a:pt x="15775" y="10021"/>
                  <a:pt x="15744" y="10170"/>
                  <a:pt x="15726" y="10319"/>
                </a:cubicBezTo>
                <a:cubicBezTo>
                  <a:pt x="15757" y="10131"/>
                  <a:pt x="15786" y="9921"/>
                  <a:pt x="15875" y="9748"/>
                </a:cubicBezTo>
                <a:cubicBezTo>
                  <a:pt x="15892" y="9732"/>
                  <a:pt x="15908" y="9715"/>
                  <a:pt x="15925" y="9699"/>
                </a:cubicBezTo>
                <a:cubicBezTo>
                  <a:pt x="16042" y="9858"/>
                  <a:pt x="16073" y="9943"/>
                  <a:pt x="16073" y="10145"/>
                </a:cubicBezTo>
              </a:path>
              <a:path w="2879" h="2779">
                <a:moveTo>
                  <a:pt x="17016" y="8558"/>
                </a:moveTo>
                <a:cubicBezTo>
                  <a:pt x="16963" y="8681"/>
                  <a:pt x="16960" y="8757"/>
                  <a:pt x="16991" y="8880"/>
                </a:cubicBezTo>
                <a:cubicBezTo>
                  <a:pt x="17005" y="8937"/>
                  <a:pt x="16977" y="8814"/>
                  <a:pt x="16966" y="8756"/>
                </a:cubicBezTo>
              </a:path>
              <a:path w="2879" h="2779">
                <a:moveTo>
                  <a:pt x="16892" y="8533"/>
                </a:moveTo>
                <a:cubicBezTo>
                  <a:pt x="16968" y="8523"/>
                  <a:pt x="17178" y="8493"/>
                  <a:pt x="17140" y="8657"/>
                </a:cubicBezTo>
                <a:cubicBezTo>
                  <a:pt x="17090" y="8871"/>
                  <a:pt x="16982" y="8634"/>
                  <a:pt x="17190" y="8756"/>
                </a:cubicBezTo>
                <a:cubicBezTo>
                  <a:pt x="17324" y="8834"/>
                  <a:pt x="17250" y="8975"/>
                  <a:pt x="17115" y="8979"/>
                </a:cubicBezTo>
                <a:cubicBezTo>
                  <a:pt x="17082" y="8971"/>
                  <a:pt x="17049" y="8962"/>
                  <a:pt x="17016" y="8954"/>
                </a:cubicBezTo>
              </a:path>
              <a:path w="2879" h="2779">
                <a:moveTo>
                  <a:pt x="18306" y="9624"/>
                </a:moveTo>
                <a:cubicBezTo>
                  <a:pt x="18336" y="9684"/>
                  <a:pt x="18350" y="9710"/>
                  <a:pt x="18380" y="9748"/>
                </a:cubicBezTo>
                <a:cubicBezTo>
                  <a:pt x="18364" y="9653"/>
                  <a:pt x="18335" y="9540"/>
                  <a:pt x="18256" y="9723"/>
                </a:cubicBezTo>
                <a:cubicBezTo>
                  <a:pt x="18145" y="9980"/>
                  <a:pt x="18271" y="10069"/>
                  <a:pt x="18504" y="9996"/>
                </a:cubicBezTo>
                <a:cubicBezTo>
                  <a:pt x="18537" y="9980"/>
                  <a:pt x="18571" y="9963"/>
                  <a:pt x="18604" y="9947"/>
                </a:cubicBezTo>
              </a:path>
              <a:path w="2879" h="2779">
                <a:moveTo>
                  <a:pt x="17983" y="10889"/>
                </a:moveTo>
                <a:cubicBezTo>
                  <a:pt x="18054" y="10977"/>
                  <a:pt x="18070" y="11155"/>
                  <a:pt x="18083" y="11286"/>
                </a:cubicBezTo>
              </a:path>
              <a:path w="2879" h="2779">
                <a:moveTo>
                  <a:pt x="16743" y="10889"/>
                </a:moveTo>
                <a:cubicBezTo>
                  <a:pt x="16756" y="11002"/>
                  <a:pt x="16751" y="11097"/>
                  <a:pt x="16743" y="11212"/>
                </a:cubicBezTo>
                <a:cubicBezTo>
                  <a:pt x="16871" y="11238"/>
                  <a:pt x="16938" y="11195"/>
                  <a:pt x="17041" y="11112"/>
                </a:cubicBezTo>
              </a:path>
              <a:path w="2879" h="2779">
                <a:moveTo>
                  <a:pt x="16421" y="9996"/>
                </a:moveTo>
                <a:cubicBezTo>
                  <a:pt x="16469" y="9886"/>
                  <a:pt x="16416" y="9917"/>
                  <a:pt x="16371" y="9996"/>
                </a:cubicBezTo>
                <a:cubicBezTo>
                  <a:pt x="16432" y="10078"/>
                  <a:pt x="16462" y="10009"/>
                  <a:pt x="16495" y="9922"/>
                </a:cubicBezTo>
                <a:cubicBezTo>
                  <a:pt x="16523" y="9847"/>
                  <a:pt x="16297" y="9911"/>
                  <a:pt x="16321" y="9996"/>
                </a:cubicBezTo>
                <a:cubicBezTo>
                  <a:pt x="16364" y="10149"/>
                  <a:pt x="16456" y="10019"/>
                  <a:pt x="16446" y="9922"/>
                </a:cubicBezTo>
                <a:cubicBezTo>
                  <a:pt x="16418" y="9894"/>
                  <a:pt x="16404" y="9885"/>
                  <a:pt x="16371" y="9897"/>
                </a:cubicBezTo>
                <a:cubicBezTo>
                  <a:pt x="16351" y="9964"/>
                  <a:pt x="16322" y="9980"/>
                  <a:pt x="16371" y="9996"/>
                </a:cubicBezTo>
                <a:cubicBezTo>
                  <a:pt x="16413" y="9961"/>
                  <a:pt x="16521" y="9825"/>
                  <a:pt x="16396" y="9872"/>
                </a:cubicBezTo>
                <a:cubicBezTo>
                  <a:pt x="16355" y="9892"/>
                  <a:pt x="16339" y="9890"/>
                  <a:pt x="16346" y="9922"/>
                </a:cubicBezTo>
              </a:path>
              <a:path w="2879" h="2779">
                <a:moveTo>
                  <a:pt x="16421" y="9996"/>
                </a:moveTo>
                <a:cubicBezTo>
                  <a:pt x="16458" y="10008"/>
                  <a:pt x="16447" y="10009"/>
                  <a:pt x="16495" y="10021"/>
                </a:cubicBezTo>
                <a:cubicBezTo>
                  <a:pt x="16627" y="10054"/>
                  <a:pt x="16756" y="10046"/>
                  <a:pt x="16892" y="10046"/>
                </a:cubicBezTo>
                <a:cubicBezTo>
                  <a:pt x="17012" y="10046"/>
                  <a:pt x="17120" y="10021"/>
                  <a:pt x="17239" y="10021"/>
                </a:cubicBezTo>
                <a:cubicBezTo>
                  <a:pt x="17329" y="10021"/>
                  <a:pt x="17405" y="10007"/>
                  <a:pt x="17487" y="9996"/>
                </a:cubicBezTo>
                <a:cubicBezTo>
                  <a:pt x="17566" y="9986"/>
                  <a:pt x="17661" y="9997"/>
                  <a:pt x="17735" y="9971"/>
                </a:cubicBezTo>
                <a:cubicBezTo>
                  <a:pt x="17786" y="9954"/>
                  <a:pt x="17795" y="9947"/>
                  <a:pt x="17859" y="9947"/>
                </a:cubicBezTo>
                <a:cubicBezTo>
                  <a:pt x="17901" y="9947"/>
                  <a:pt x="17909" y="9947"/>
                  <a:pt x="17934" y="9947"/>
                </a:cubicBezTo>
              </a:path>
              <a:path w="2879" h="2779">
                <a:moveTo>
                  <a:pt x="16371" y="10021"/>
                </a:moveTo>
                <a:cubicBezTo>
                  <a:pt x="16371" y="9973"/>
                  <a:pt x="16406" y="10015"/>
                  <a:pt x="16421" y="9971"/>
                </a:cubicBezTo>
              </a:path>
              <a:path w="2879" h="2779">
                <a:moveTo>
                  <a:pt x="16421" y="9971"/>
                </a:moveTo>
                <a:cubicBezTo>
                  <a:pt x="16443" y="9993"/>
                  <a:pt x="16448" y="10002"/>
                  <a:pt x="16470" y="9996"/>
                </a:cubicBezTo>
                <a:cubicBezTo>
                  <a:pt x="16486" y="10043"/>
                  <a:pt x="16504" y="9999"/>
                  <a:pt x="16520" y="10046"/>
                </a:cubicBezTo>
              </a:path>
              <a:path w="2879" h="2779">
                <a:moveTo>
                  <a:pt x="16545" y="10046"/>
                </a:moveTo>
                <a:cubicBezTo>
                  <a:pt x="16625" y="10092"/>
                  <a:pt x="16726" y="10114"/>
                  <a:pt x="16818" y="10145"/>
                </a:cubicBezTo>
                <a:cubicBezTo>
                  <a:pt x="16908" y="10175"/>
                  <a:pt x="16978" y="10234"/>
                  <a:pt x="17066" y="10269"/>
                </a:cubicBezTo>
                <a:cubicBezTo>
                  <a:pt x="17149" y="10302"/>
                  <a:pt x="17236" y="10334"/>
                  <a:pt x="17314" y="10368"/>
                </a:cubicBezTo>
                <a:cubicBezTo>
                  <a:pt x="17389" y="10401"/>
                  <a:pt x="17476" y="10387"/>
                  <a:pt x="17562" y="10418"/>
                </a:cubicBezTo>
                <a:cubicBezTo>
                  <a:pt x="17615" y="10437"/>
                  <a:pt x="17689" y="10485"/>
                  <a:pt x="17735" y="10517"/>
                </a:cubicBezTo>
                <a:cubicBezTo>
                  <a:pt x="17774" y="10544"/>
                  <a:pt x="17834" y="10600"/>
                  <a:pt x="17859" y="10616"/>
                </a:cubicBezTo>
                <a:cubicBezTo>
                  <a:pt x="17876" y="10627"/>
                  <a:pt x="17916" y="10631"/>
                  <a:pt x="17934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15120" y="3089160"/>
            <a:ext cx="482760" cy="617760"/>
          </a:xfrm>
          <a:custGeom>
            <a:avLst/>
            <a:gdLst/>
            <a:ahLst/>
            <a:rect l="l" t="t" r="r" b="b"/>
            <a:pathLst>
              <a:path w="1341" h="1713">
                <a:moveTo>
                  <a:pt x="20241" y="9153"/>
                </a:moveTo>
                <a:cubicBezTo>
                  <a:pt x="20241" y="8978"/>
                  <a:pt x="20102" y="9454"/>
                  <a:pt x="20092" y="9475"/>
                </a:cubicBezTo>
                <a:cubicBezTo>
                  <a:pt x="20075" y="9500"/>
                  <a:pt x="20059" y="9525"/>
                  <a:pt x="20042" y="9550"/>
                </a:cubicBezTo>
                <a:cubicBezTo>
                  <a:pt x="20080" y="9300"/>
                  <a:pt x="20152" y="9047"/>
                  <a:pt x="20365" y="8880"/>
                </a:cubicBezTo>
                <a:cubicBezTo>
                  <a:pt x="20373" y="8888"/>
                  <a:pt x="20381" y="8897"/>
                  <a:pt x="20389" y="8905"/>
                </a:cubicBezTo>
                <a:cubicBezTo>
                  <a:pt x="20453" y="9096"/>
                  <a:pt x="20528" y="9324"/>
                  <a:pt x="20414" y="9525"/>
                </a:cubicBezTo>
                <a:cubicBezTo>
                  <a:pt x="20406" y="9525"/>
                  <a:pt x="20397" y="9525"/>
                  <a:pt x="20389" y="9525"/>
                </a:cubicBezTo>
              </a:path>
              <a:path w="1341" h="1713">
                <a:moveTo>
                  <a:pt x="20141" y="9302"/>
                </a:moveTo>
                <a:cubicBezTo>
                  <a:pt x="20296" y="9302"/>
                  <a:pt x="20283" y="9286"/>
                  <a:pt x="20464" y="9227"/>
                </a:cubicBezTo>
              </a:path>
              <a:path w="1341" h="1713">
                <a:moveTo>
                  <a:pt x="20960" y="9128"/>
                </a:moveTo>
                <a:cubicBezTo>
                  <a:pt x="20960" y="9136"/>
                  <a:pt x="20960" y="9145"/>
                  <a:pt x="20960" y="9153"/>
                </a:cubicBezTo>
                <a:cubicBezTo>
                  <a:pt x="20992" y="9100"/>
                  <a:pt x="20998" y="8971"/>
                  <a:pt x="20886" y="9054"/>
                </a:cubicBezTo>
                <a:cubicBezTo>
                  <a:pt x="20737" y="9165"/>
                  <a:pt x="20585" y="9589"/>
                  <a:pt x="20935" y="9401"/>
                </a:cubicBezTo>
                <a:cubicBezTo>
                  <a:pt x="20985" y="9351"/>
                  <a:pt x="21034" y="9302"/>
                  <a:pt x="21084" y="9252"/>
                </a:cubicBezTo>
              </a:path>
              <a:path w="1341" h="1713">
                <a:moveTo>
                  <a:pt x="20365" y="8632"/>
                </a:moveTo>
                <a:cubicBezTo>
                  <a:pt x="20556" y="8618"/>
                  <a:pt x="20744" y="8590"/>
                  <a:pt x="20935" y="8582"/>
                </a:cubicBezTo>
              </a:path>
              <a:path w="1341" h="1713">
                <a:moveTo>
                  <a:pt x="20340" y="9723"/>
                </a:moveTo>
                <a:cubicBezTo>
                  <a:pt x="20283" y="9862"/>
                  <a:pt x="20206" y="10004"/>
                  <a:pt x="20166" y="10145"/>
                </a:cubicBezTo>
                <a:cubicBezTo>
                  <a:pt x="20191" y="9947"/>
                  <a:pt x="20276" y="9795"/>
                  <a:pt x="20414" y="9649"/>
                </a:cubicBezTo>
                <a:cubicBezTo>
                  <a:pt x="20439" y="9632"/>
                  <a:pt x="20464" y="9616"/>
                  <a:pt x="20489" y="9599"/>
                </a:cubicBezTo>
                <a:cubicBezTo>
                  <a:pt x="20556" y="9830"/>
                  <a:pt x="20603" y="10037"/>
                  <a:pt x="20513" y="10269"/>
                </a:cubicBezTo>
                <a:cubicBezTo>
                  <a:pt x="20505" y="10277"/>
                  <a:pt x="20497" y="10286"/>
                  <a:pt x="20489" y="10294"/>
                </a:cubicBezTo>
              </a:path>
              <a:path w="1341" h="1713">
                <a:moveTo>
                  <a:pt x="20265" y="10071"/>
                </a:moveTo>
                <a:cubicBezTo>
                  <a:pt x="20439" y="10043"/>
                  <a:pt x="20612" y="10019"/>
                  <a:pt x="20786" y="9996"/>
                </a:cubicBezTo>
              </a:path>
              <a:path w="1341" h="1713">
                <a:moveTo>
                  <a:pt x="21059" y="9872"/>
                </a:moveTo>
                <a:cubicBezTo>
                  <a:pt x="21036" y="10009"/>
                  <a:pt x="21040" y="10186"/>
                  <a:pt x="20935" y="10269"/>
                </a:cubicBezTo>
              </a:path>
              <a:path w="1341" h="1713">
                <a:moveTo>
                  <a:pt x="20191" y="9475"/>
                </a:moveTo>
                <a:cubicBezTo>
                  <a:pt x="20470" y="9522"/>
                  <a:pt x="20665" y="9567"/>
                  <a:pt x="20960" y="9550"/>
                </a:cubicBezTo>
                <a:cubicBezTo>
                  <a:pt x="21132" y="9540"/>
                  <a:pt x="21293" y="9485"/>
                  <a:pt x="21382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4800" y="3562200"/>
            <a:ext cx="2741400" cy="358920"/>
          </a:xfrm>
          <a:custGeom>
            <a:avLst/>
            <a:gdLst/>
            <a:ahLst/>
            <a:rect l="l" t="t" r="r" b="b"/>
            <a:pathLst>
              <a:path w="7616" h="993">
                <a:moveTo>
                  <a:pt x="9079" y="10443"/>
                </a:moveTo>
                <a:cubicBezTo>
                  <a:pt x="9119" y="10577"/>
                  <a:pt x="9155" y="10726"/>
                  <a:pt x="9178" y="10864"/>
                </a:cubicBezTo>
              </a:path>
              <a:path w="7616" h="993">
                <a:moveTo>
                  <a:pt x="8930" y="10542"/>
                </a:moveTo>
                <a:cubicBezTo>
                  <a:pt x="9027" y="10526"/>
                  <a:pt x="9535" y="10417"/>
                  <a:pt x="9426" y="10691"/>
                </a:cubicBezTo>
                <a:cubicBezTo>
                  <a:pt x="9376" y="10817"/>
                  <a:pt x="9264" y="10859"/>
                  <a:pt x="9153" y="10889"/>
                </a:cubicBezTo>
              </a:path>
              <a:path w="7616" h="993">
                <a:moveTo>
                  <a:pt x="15801" y="10046"/>
                </a:moveTo>
                <a:cubicBezTo>
                  <a:pt x="15941" y="10009"/>
                  <a:pt x="16003" y="9979"/>
                  <a:pt x="16123" y="9897"/>
                </a:cubicBezTo>
              </a:path>
              <a:path w="7616" h="993">
                <a:moveTo>
                  <a:pt x="16421" y="9971"/>
                </a:moveTo>
                <a:lnTo>
                  <a:pt x="16421" y="9971"/>
                </a:lnTo>
              </a:path>
              <a:path w="7616" h="993">
                <a:moveTo>
                  <a:pt x="16446" y="9971"/>
                </a:moveTo>
                <a:lnTo>
                  <a:pt x="16446" y="9971"/>
                </a:lnTo>
              </a:path>
              <a:path w="7616" h="993">
                <a:moveTo>
                  <a:pt x="16421" y="9971"/>
                </a:moveTo>
                <a:lnTo>
                  <a:pt x="16421" y="9971"/>
                </a:lnTo>
              </a:path>
              <a:path w="7616" h="993">
                <a:moveTo>
                  <a:pt x="16545" y="10046"/>
                </a:moveTo>
                <a:lnTo>
                  <a:pt x="16545" y="1004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0200" y="3840120"/>
            <a:ext cx="1170000" cy="1366920"/>
          </a:xfrm>
          <a:custGeom>
            <a:avLst/>
            <a:gdLst/>
            <a:ahLst/>
            <a:rect l="l" t="t" r="r" b="b"/>
            <a:pathLst>
              <a:path w="3250" h="3796">
                <a:moveTo>
                  <a:pt x="16818" y="11013"/>
                </a:moveTo>
                <a:cubicBezTo>
                  <a:pt x="16877" y="10972"/>
                  <a:pt x="16930" y="10949"/>
                  <a:pt x="16991" y="10914"/>
                </a:cubicBezTo>
              </a:path>
              <a:path w="3250" h="3796">
                <a:moveTo>
                  <a:pt x="16867" y="10740"/>
                </a:moveTo>
                <a:cubicBezTo>
                  <a:pt x="16927" y="10710"/>
                  <a:pt x="16978" y="10679"/>
                  <a:pt x="17041" y="10666"/>
                </a:cubicBezTo>
              </a:path>
              <a:path w="3250" h="3796">
                <a:moveTo>
                  <a:pt x="16694" y="10790"/>
                </a:moveTo>
                <a:cubicBezTo>
                  <a:pt x="16710" y="10790"/>
                  <a:pt x="16727" y="10790"/>
                  <a:pt x="16743" y="10790"/>
                </a:cubicBezTo>
              </a:path>
              <a:path w="3250" h="3796">
                <a:moveTo>
                  <a:pt x="19943" y="14461"/>
                </a:moveTo>
                <a:cubicBezTo>
                  <a:pt x="19935" y="14461"/>
                  <a:pt x="19926" y="14461"/>
                  <a:pt x="19918" y="14461"/>
                </a:cubicBezTo>
              </a:path>
              <a:path w="3250" h="3796">
                <a:moveTo>
                  <a:pt x="19918" y="14461"/>
                </a:moveTo>
                <a:lnTo>
                  <a:pt x="19918" y="14461"/>
                </a:lnTo>
              </a:path>
              <a:path w="3250" h="3796">
                <a:moveTo>
                  <a:pt x="19918" y="14461"/>
                </a:moveTo>
                <a:lnTo>
                  <a:pt x="19918" y="14461"/>
                </a:lnTo>
              </a:path>
              <a:path w="3250" h="3796">
                <a:moveTo>
                  <a:pt x="19943" y="14461"/>
                </a:moveTo>
                <a:lnTo>
                  <a:pt x="19943" y="14461"/>
                </a:lnTo>
              </a:path>
              <a:path w="3250" h="3796">
                <a:moveTo>
                  <a:pt x="19943" y="14461"/>
                </a:moveTo>
                <a:lnTo>
                  <a:pt x="19943" y="1446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920" y="4705200"/>
            <a:ext cx="8537400" cy="1295640"/>
          </a:xfrm>
          <a:custGeom>
            <a:avLst/>
            <a:gdLst/>
            <a:ahLst/>
            <a:rect l="l" t="t" r="r" b="b"/>
            <a:pathLst>
              <a:path w="23715" h="3598">
                <a:moveTo>
                  <a:pt x="1141" y="13667"/>
                </a:moveTo>
                <a:cubicBezTo>
                  <a:pt x="1264" y="13688"/>
                  <a:pt x="1388" y="13691"/>
                  <a:pt x="1513" y="13717"/>
                </a:cubicBezTo>
                <a:cubicBezTo>
                  <a:pt x="1571" y="13736"/>
                  <a:pt x="1577" y="13745"/>
                  <a:pt x="1612" y="13742"/>
                </a:cubicBezTo>
                <a:cubicBezTo>
                  <a:pt x="1551" y="13947"/>
                  <a:pt x="1475" y="14192"/>
                  <a:pt x="1339" y="14362"/>
                </a:cubicBezTo>
                <a:cubicBezTo>
                  <a:pt x="1274" y="14406"/>
                  <a:pt x="1260" y="14417"/>
                  <a:pt x="1215" y="14436"/>
                </a:cubicBezTo>
              </a:path>
              <a:path w="23715" h="3598">
                <a:moveTo>
                  <a:pt x="496" y="16222"/>
                </a:moveTo>
                <a:cubicBezTo>
                  <a:pt x="715" y="16222"/>
                  <a:pt x="925" y="16260"/>
                  <a:pt x="1141" y="16297"/>
                </a:cubicBezTo>
                <a:cubicBezTo>
                  <a:pt x="1275" y="16320"/>
                  <a:pt x="1442" y="16335"/>
                  <a:pt x="1563" y="16396"/>
                </a:cubicBezTo>
              </a:path>
              <a:path w="23715" h="3598">
                <a:moveTo>
                  <a:pt x="11956" y="15379"/>
                </a:moveTo>
                <a:cubicBezTo>
                  <a:pt x="12121" y="15355"/>
                  <a:pt x="12171" y="15348"/>
                  <a:pt x="12278" y="15329"/>
                </a:cubicBezTo>
              </a:path>
              <a:path w="23715" h="3598">
                <a:moveTo>
                  <a:pt x="11658" y="16495"/>
                </a:moveTo>
                <a:cubicBezTo>
                  <a:pt x="11801" y="16476"/>
                  <a:pt x="11934" y="16431"/>
                  <a:pt x="12080" y="16421"/>
                </a:cubicBezTo>
              </a:path>
              <a:path w="23715" h="3598">
                <a:moveTo>
                  <a:pt x="12427" y="16222"/>
                </a:moveTo>
                <a:cubicBezTo>
                  <a:pt x="12502" y="16137"/>
                  <a:pt x="12583" y="16102"/>
                  <a:pt x="12700" y="16073"/>
                </a:cubicBezTo>
              </a:path>
              <a:path w="23715" h="3598">
                <a:moveTo>
                  <a:pt x="8111" y="13072"/>
                </a:moveTo>
                <a:cubicBezTo>
                  <a:pt x="8119" y="13072"/>
                  <a:pt x="8128" y="13072"/>
                  <a:pt x="8136" y="13072"/>
                </a:cubicBezTo>
              </a:path>
              <a:path w="23715" h="3598">
                <a:moveTo>
                  <a:pt x="8136" y="13072"/>
                </a:moveTo>
                <a:lnTo>
                  <a:pt x="8136" y="13072"/>
                </a:lnTo>
              </a:path>
              <a:path w="23715" h="3598">
                <a:moveTo>
                  <a:pt x="8161" y="13072"/>
                </a:moveTo>
                <a:lnTo>
                  <a:pt x="8161" y="13072"/>
                </a:lnTo>
              </a:path>
              <a:path w="23715" h="3598">
                <a:moveTo>
                  <a:pt x="1166" y="16644"/>
                </a:moveTo>
                <a:cubicBezTo>
                  <a:pt x="1166" y="16652"/>
                  <a:pt x="1166" y="16661"/>
                  <a:pt x="1166" y="16669"/>
                </a:cubicBezTo>
              </a:path>
              <a:path w="23715" h="3598">
                <a:moveTo>
                  <a:pt x="1166" y="16669"/>
                </a:moveTo>
                <a:lnTo>
                  <a:pt x="1166" y="16669"/>
                </a:lnTo>
              </a:path>
              <a:path w="23715" h="3598">
                <a:moveTo>
                  <a:pt x="19695" y="14163"/>
                </a:moveTo>
                <a:cubicBezTo>
                  <a:pt x="19867" y="14107"/>
                  <a:pt x="19940" y="14085"/>
                  <a:pt x="20067" y="14064"/>
                </a:cubicBezTo>
              </a:path>
              <a:path w="23715" h="3598">
                <a:moveTo>
                  <a:pt x="23465" y="14436"/>
                </a:moveTo>
                <a:cubicBezTo>
                  <a:pt x="23660" y="14404"/>
                  <a:pt x="23845" y="14363"/>
                  <a:pt x="24036" y="14312"/>
                </a:cubicBezTo>
              </a:path>
              <a:path w="23715" h="3598">
                <a:moveTo>
                  <a:pt x="19918" y="14511"/>
                </a:moveTo>
                <a:cubicBezTo>
                  <a:pt x="19918" y="14470"/>
                  <a:pt x="19931" y="14498"/>
                  <a:pt x="19943" y="14461"/>
                </a:cubicBezTo>
              </a:path>
              <a:path w="23715" h="3598">
                <a:moveTo>
                  <a:pt x="19943" y="14461"/>
                </a:moveTo>
                <a:lnTo>
                  <a:pt x="19943" y="14461"/>
                </a:lnTo>
              </a:path>
              <a:path w="23715" h="3598">
                <a:moveTo>
                  <a:pt x="19943" y="14461"/>
                </a:moveTo>
                <a:lnTo>
                  <a:pt x="19943" y="14461"/>
                </a:lnTo>
              </a:path>
              <a:path w="23715" h="3598">
                <a:moveTo>
                  <a:pt x="19918" y="14536"/>
                </a:moveTo>
                <a:cubicBezTo>
                  <a:pt x="19918" y="14560"/>
                  <a:pt x="19918" y="14568"/>
                  <a:pt x="19943" y="14560"/>
                </a:cubicBezTo>
              </a:path>
              <a:path w="23715" h="3598">
                <a:moveTo>
                  <a:pt x="19943" y="14560"/>
                </a:moveTo>
                <a:lnTo>
                  <a:pt x="19943" y="14560"/>
                </a:lnTo>
              </a:path>
              <a:path w="23715" h="3598">
                <a:moveTo>
                  <a:pt x="322" y="15304"/>
                </a:moveTo>
                <a:cubicBezTo>
                  <a:pt x="413" y="15304"/>
                  <a:pt x="510" y="15288"/>
                  <a:pt x="595" y="15255"/>
                </a:cubicBezTo>
                <a:cubicBezTo>
                  <a:pt x="628" y="15238"/>
                  <a:pt x="662" y="15222"/>
                  <a:pt x="695" y="15205"/>
                </a:cubicBezTo>
              </a:path>
              <a:path w="23715" h="3598">
                <a:moveTo>
                  <a:pt x="918" y="14932"/>
                </a:moveTo>
                <a:cubicBezTo>
                  <a:pt x="965" y="14909"/>
                  <a:pt x="1197" y="14765"/>
                  <a:pt x="1191" y="14932"/>
                </a:cubicBezTo>
                <a:cubicBezTo>
                  <a:pt x="1188" y="15023"/>
                  <a:pt x="1073" y="15119"/>
                  <a:pt x="1017" y="15180"/>
                </a:cubicBezTo>
                <a:cubicBezTo>
                  <a:pt x="1099" y="15167"/>
                  <a:pt x="1305" y="15118"/>
                  <a:pt x="1265" y="15304"/>
                </a:cubicBezTo>
                <a:cubicBezTo>
                  <a:pt x="1231" y="15460"/>
                  <a:pt x="1069" y="15573"/>
                  <a:pt x="943" y="15553"/>
                </a:cubicBezTo>
                <a:cubicBezTo>
                  <a:pt x="935" y="15553"/>
                  <a:pt x="926" y="15553"/>
                  <a:pt x="918" y="155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84320" y="4402080"/>
            <a:ext cx="1803600" cy="1608120"/>
          </a:xfrm>
          <a:custGeom>
            <a:avLst/>
            <a:gdLst/>
            <a:ahLst/>
            <a:rect l="l" t="t" r="r" b="b"/>
            <a:pathLst>
              <a:path w="5011" h="4466">
                <a:moveTo>
                  <a:pt x="10616" y="13246"/>
                </a:moveTo>
                <a:cubicBezTo>
                  <a:pt x="10616" y="13378"/>
                  <a:pt x="10616" y="13511"/>
                  <a:pt x="10616" y="13643"/>
                </a:cubicBezTo>
              </a:path>
              <a:path w="5011" h="4466">
                <a:moveTo>
                  <a:pt x="10542" y="13097"/>
                </a:moveTo>
                <a:cubicBezTo>
                  <a:pt x="10692" y="13107"/>
                  <a:pt x="11057" y="13141"/>
                  <a:pt x="10740" y="13320"/>
                </a:cubicBezTo>
                <a:cubicBezTo>
                  <a:pt x="10724" y="13320"/>
                  <a:pt x="10707" y="13320"/>
                  <a:pt x="10691" y="13320"/>
                </a:cubicBezTo>
                <a:cubicBezTo>
                  <a:pt x="10838" y="13320"/>
                  <a:pt x="10851" y="13340"/>
                  <a:pt x="10939" y="13444"/>
                </a:cubicBezTo>
                <a:cubicBezTo>
                  <a:pt x="10810" y="13520"/>
                  <a:pt x="10788" y="13539"/>
                  <a:pt x="10641" y="13519"/>
                </a:cubicBezTo>
              </a:path>
              <a:path w="5011" h="4466">
                <a:moveTo>
                  <a:pt x="10344" y="14833"/>
                </a:moveTo>
                <a:cubicBezTo>
                  <a:pt x="10352" y="14833"/>
                  <a:pt x="10360" y="14833"/>
                  <a:pt x="10368" y="14833"/>
                </a:cubicBezTo>
                <a:cubicBezTo>
                  <a:pt x="10445" y="14807"/>
                  <a:pt x="10279" y="14834"/>
                  <a:pt x="10244" y="14908"/>
                </a:cubicBezTo>
                <a:cubicBezTo>
                  <a:pt x="10123" y="15159"/>
                  <a:pt x="10399" y="15141"/>
                  <a:pt x="10542" y="15131"/>
                </a:cubicBezTo>
                <a:cubicBezTo>
                  <a:pt x="10559" y="15131"/>
                  <a:pt x="10575" y="15131"/>
                  <a:pt x="10592" y="15131"/>
                </a:cubicBezTo>
              </a:path>
              <a:path w="5011" h="4466">
                <a:moveTo>
                  <a:pt x="9525" y="15949"/>
                </a:moveTo>
                <a:cubicBezTo>
                  <a:pt x="9536" y="16018"/>
                  <a:pt x="9544" y="16211"/>
                  <a:pt x="9575" y="16148"/>
                </a:cubicBezTo>
                <a:cubicBezTo>
                  <a:pt x="9575" y="16131"/>
                  <a:pt x="9575" y="16115"/>
                  <a:pt x="9575" y="16098"/>
                </a:cubicBezTo>
              </a:path>
              <a:path w="5011" h="4466">
                <a:moveTo>
                  <a:pt x="9500" y="15850"/>
                </a:moveTo>
                <a:cubicBezTo>
                  <a:pt x="9596" y="15841"/>
                  <a:pt x="10003" y="15810"/>
                  <a:pt x="9872" y="16049"/>
                </a:cubicBezTo>
                <a:cubicBezTo>
                  <a:pt x="9788" y="16203"/>
                  <a:pt x="9586" y="16130"/>
                  <a:pt x="9550" y="16049"/>
                </a:cubicBezTo>
              </a:path>
              <a:path w="5011" h="4466">
                <a:moveTo>
                  <a:pt x="8086" y="16073"/>
                </a:moveTo>
                <a:cubicBezTo>
                  <a:pt x="8109" y="16264"/>
                  <a:pt x="8053" y="16408"/>
                  <a:pt x="8012" y="16594"/>
                </a:cubicBezTo>
                <a:cubicBezTo>
                  <a:pt x="8012" y="16611"/>
                  <a:pt x="8012" y="16627"/>
                  <a:pt x="8012" y="16644"/>
                </a:cubicBezTo>
                <a:cubicBezTo>
                  <a:pt x="8174" y="16654"/>
                  <a:pt x="8273" y="16619"/>
                  <a:pt x="8409" y="16520"/>
                </a:cubicBezTo>
              </a:path>
              <a:path w="5011" h="4466">
                <a:moveTo>
                  <a:pt x="12824" y="12898"/>
                </a:moveTo>
                <a:cubicBezTo>
                  <a:pt x="12832" y="12915"/>
                  <a:pt x="12841" y="12931"/>
                  <a:pt x="12849" y="12948"/>
                </a:cubicBezTo>
                <a:cubicBezTo>
                  <a:pt x="12849" y="12907"/>
                  <a:pt x="12847" y="12750"/>
                  <a:pt x="12750" y="12824"/>
                </a:cubicBezTo>
                <a:cubicBezTo>
                  <a:pt x="12597" y="12941"/>
                  <a:pt x="12465" y="13377"/>
                  <a:pt x="12750" y="13395"/>
                </a:cubicBezTo>
                <a:cubicBezTo>
                  <a:pt x="12892" y="13404"/>
                  <a:pt x="12959" y="13293"/>
                  <a:pt x="12998" y="13196"/>
                </a:cubicBezTo>
              </a:path>
              <a:path w="5011" h="4466">
                <a:moveTo>
                  <a:pt x="12353" y="12303"/>
                </a:moveTo>
                <a:cubicBezTo>
                  <a:pt x="12517" y="12303"/>
                  <a:pt x="12662" y="12247"/>
                  <a:pt x="12824" y="12229"/>
                </a:cubicBezTo>
                <a:cubicBezTo>
                  <a:pt x="12898" y="12229"/>
                  <a:pt x="12907" y="12229"/>
                  <a:pt x="12948" y="12229"/>
                </a:cubicBezTo>
              </a:path>
              <a:path w="5011" h="4466">
                <a:moveTo>
                  <a:pt x="12601" y="14039"/>
                </a:moveTo>
                <a:cubicBezTo>
                  <a:pt x="12582" y="14189"/>
                  <a:pt x="12558" y="14334"/>
                  <a:pt x="12551" y="14486"/>
                </a:cubicBezTo>
                <a:cubicBezTo>
                  <a:pt x="12551" y="14342"/>
                  <a:pt x="12567" y="14206"/>
                  <a:pt x="12576" y="14064"/>
                </a:cubicBezTo>
                <a:cubicBezTo>
                  <a:pt x="12576" y="14031"/>
                  <a:pt x="12576" y="13998"/>
                  <a:pt x="12576" y="13965"/>
                </a:cubicBezTo>
                <a:cubicBezTo>
                  <a:pt x="12683" y="13943"/>
                  <a:pt x="12785" y="13954"/>
                  <a:pt x="12898" y="13940"/>
                </a:cubicBezTo>
                <a:cubicBezTo>
                  <a:pt x="12972" y="13921"/>
                  <a:pt x="12979" y="13913"/>
                  <a:pt x="13022" y="13915"/>
                </a:cubicBezTo>
              </a:path>
              <a:path w="5011" h="4466">
                <a:moveTo>
                  <a:pt x="8037" y="13047"/>
                </a:moveTo>
                <a:cubicBezTo>
                  <a:pt x="8070" y="13043"/>
                  <a:pt x="8081" y="13008"/>
                  <a:pt x="8111" y="13022"/>
                </a:cubicBezTo>
                <a:cubicBezTo>
                  <a:pt x="8187" y="13058"/>
                  <a:pt x="8190" y="13180"/>
                  <a:pt x="8210" y="13246"/>
                </a:cubicBezTo>
                <a:cubicBezTo>
                  <a:pt x="8229" y="13311"/>
                  <a:pt x="8258" y="13412"/>
                  <a:pt x="8285" y="13469"/>
                </a:cubicBezTo>
                <a:cubicBezTo>
                  <a:pt x="8305" y="13513"/>
                  <a:pt x="8338" y="13543"/>
                  <a:pt x="8359" y="13593"/>
                </a:cubicBezTo>
                <a:cubicBezTo>
                  <a:pt x="8409" y="13711"/>
                  <a:pt x="8489" y="13819"/>
                  <a:pt x="8533" y="13940"/>
                </a:cubicBezTo>
                <a:cubicBezTo>
                  <a:pt x="8577" y="14061"/>
                  <a:pt x="8632" y="14170"/>
                  <a:pt x="8682" y="14288"/>
                </a:cubicBezTo>
                <a:cubicBezTo>
                  <a:pt x="8736" y="14416"/>
                  <a:pt x="8782" y="14555"/>
                  <a:pt x="8830" y="14684"/>
                </a:cubicBezTo>
                <a:cubicBezTo>
                  <a:pt x="8867" y="14784"/>
                  <a:pt x="8866" y="14886"/>
                  <a:pt x="8905" y="14982"/>
                </a:cubicBezTo>
                <a:cubicBezTo>
                  <a:pt x="8952" y="15099"/>
                  <a:pt x="9015" y="15177"/>
                  <a:pt x="9079" y="15280"/>
                </a:cubicBezTo>
                <a:cubicBezTo>
                  <a:pt x="9130" y="15362"/>
                  <a:pt x="9176" y="15447"/>
                  <a:pt x="9227" y="15528"/>
                </a:cubicBezTo>
                <a:cubicBezTo>
                  <a:pt x="9275" y="15604"/>
                  <a:pt x="9316" y="15661"/>
                  <a:pt x="9376" y="15726"/>
                </a:cubicBezTo>
                <a:cubicBezTo>
                  <a:pt x="9391" y="15742"/>
                  <a:pt x="9467" y="15810"/>
                  <a:pt x="9475" y="15825"/>
                </a:cubicBezTo>
                <a:cubicBezTo>
                  <a:pt x="9494" y="15883"/>
                  <a:pt x="9485" y="15908"/>
                  <a:pt x="9525" y="15900"/>
                </a:cubicBezTo>
              </a:path>
              <a:path w="5011" h="4466">
                <a:moveTo>
                  <a:pt x="11807" y="15106"/>
                </a:moveTo>
                <a:cubicBezTo>
                  <a:pt x="11766" y="15279"/>
                  <a:pt x="11712" y="15455"/>
                  <a:pt x="11683" y="15627"/>
                </a:cubicBezTo>
                <a:cubicBezTo>
                  <a:pt x="11721" y="15421"/>
                  <a:pt x="11837" y="15164"/>
                  <a:pt x="11981" y="15007"/>
                </a:cubicBezTo>
                <a:cubicBezTo>
                  <a:pt x="12022" y="14982"/>
                  <a:pt x="12064" y="14957"/>
                  <a:pt x="12105" y="14932"/>
                </a:cubicBezTo>
                <a:cubicBezTo>
                  <a:pt x="12234" y="15114"/>
                  <a:pt x="12211" y="15320"/>
                  <a:pt x="12154" y="15553"/>
                </a:cubicBezTo>
                <a:cubicBezTo>
                  <a:pt x="12129" y="15602"/>
                  <a:pt x="12121" y="15618"/>
                  <a:pt x="12105" y="15553"/>
                </a:cubicBezTo>
              </a:path>
              <a:path w="5011" h="4466">
                <a:moveTo>
                  <a:pt x="12576" y="15255"/>
                </a:moveTo>
                <a:cubicBezTo>
                  <a:pt x="12572" y="15282"/>
                  <a:pt x="12526" y="15766"/>
                  <a:pt x="12526" y="15553"/>
                </a:cubicBezTo>
              </a:path>
              <a:path w="5011" h="4466">
                <a:moveTo>
                  <a:pt x="12005" y="14858"/>
                </a:moveTo>
                <a:cubicBezTo>
                  <a:pt x="12257" y="14858"/>
                  <a:pt x="12500" y="14827"/>
                  <a:pt x="12750" y="14808"/>
                </a:cubicBezTo>
                <a:cubicBezTo>
                  <a:pt x="12808" y="14808"/>
                  <a:pt x="12849" y="14808"/>
                  <a:pt x="12799" y="14808"/>
                </a:cubicBezTo>
              </a:path>
              <a:path w="5011" h="4466">
                <a:moveTo>
                  <a:pt x="12402" y="16222"/>
                </a:moveTo>
                <a:cubicBezTo>
                  <a:pt x="12368" y="16362"/>
                  <a:pt x="12360" y="16520"/>
                  <a:pt x="12353" y="16669"/>
                </a:cubicBezTo>
                <a:cubicBezTo>
                  <a:pt x="12348" y="16774"/>
                  <a:pt x="12571" y="16640"/>
                  <a:pt x="12601" y="16619"/>
                </a:cubicBezTo>
              </a:path>
              <a:path w="5011" h="4466">
                <a:moveTo>
                  <a:pt x="12378" y="16520"/>
                </a:moveTo>
                <a:cubicBezTo>
                  <a:pt x="12525" y="16446"/>
                  <a:pt x="12589" y="16457"/>
                  <a:pt x="12601" y="16297"/>
                </a:cubicBezTo>
              </a:path>
              <a:path w="5011" h="4466">
                <a:moveTo>
                  <a:pt x="11633" y="16024"/>
                </a:moveTo>
                <a:cubicBezTo>
                  <a:pt x="11973" y="16002"/>
                  <a:pt x="12309" y="15999"/>
                  <a:pt x="12650" y="15999"/>
                </a:cubicBezTo>
                <a:cubicBezTo>
                  <a:pt x="12658" y="15999"/>
                  <a:pt x="12667" y="15999"/>
                  <a:pt x="12675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86240" y="4983120"/>
            <a:ext cx="563760" cy="1241640"/>
          </a:xfrm>
          <a:custGeom>
            <a:avLst/>
            <a:gdLst/>
            <a:ahLst/>
            <a:rect l="l" t="t" r="r" b="b"/>
            <a:pathLst>
              <a:path w="1564" h="3449">
                <a:moveTo>
                  <a:pt x="15404" y="13915"/>
                </a:moveTo>
                <a:cubicBezTo>
                  <a:pt x="15425" y="13853"/>
                  <a:pt x="15404" y="13914"/>
                  <a:pt x="15404" y="13915"/>
                </a:cubicBezTo>
                <a:cubicBezTo>
                  <a:pt x="15343" y="14130"/>
                  <a:pt x="15277" y="14269"/>
                  <a:pt x="15156" y="14461"/>
                </a:cubicBezTo>
                <a:cubicBezTo>
                  <a:pt x="15322" y="14414"/>
                  <a:pt x="15384" y="14429"/>
                  <a:pt x="15553" y="14486"/>
                </a:cubicBezTo>
                <a:cubicBezTo>
                  <a:pt x="15685" y="14530"/>
                  <a:pt x="15633" y="14526"/>
                  <a:pt x="15726" y="14387"/>
                </a:cubicBezTo>
              </a:path>
              <a:path w="1564" h="3449">
                <a:moveTo>
                  <a:pt x="15751" y="13841"/>
                </a:moveTo>
                <a:cubicBezTo>
                  <a:pt x="15671" y="14199"/>
                  <a:pt x="15636" y="14558"/>
                  <a:pt x="15528" y="14908"/>
                </a:cubicBezTo>
                <a:cubicBezTo>
                  <a:pt x="15520" y="14933"/>
                  <a:pt x="15511" y="14957"/>
                  <a:pt x="15503" y="14982"/>
                </a:cubicBezTo>
              </a:path>
              <a:path w="1564" h="3449">
                <a:moveTo>
                  <a:pt x="14684" y="16197"/>
                </a:moveTo>
                <a:cubicBezTo>
                  <a:pt x="14956" y="16184"/>
                  <a:pt x="15206" y="16124"/>
                  <a:pt x="15478" y="16098"/>
                </a:cubicBezTo>
                <a:cubicBezTo>
                  <a:pt x="15737" y="16073"/>
                  <a:pt x="15989" y="16073"/>
                  <a:pt x="16247" y="16073"/>
                </a:cubicBezTo>
              </a:path>
              <a:path w="1564" h="3449">
                <a:moveTo>
                  <a:pt x="15503" y="16520"/>
                </a:moveTo>
                <a:cubicBezTo>
                  <a:pt x="15527" y="16398"/>
                  <a:pt x="15476" y="16646"/>
                  <a:pt x="15453" y="16768"/>
                </a:cubicBezTo>
                <a:cubicBezTo>
                  <a:pt x="15443" y="16822"/>
                  <a:pt x="15345" y="17281"/>
                  <a:pt x="15379" y="17264"/>
                </a:cubicBezTo>
                <a:cubicBezTo>
                  <a:pt x="15379" y="17161"/>
                  <a:pt x="15381" y="17124"/>
                  <a:pt x="15429" y="17066"/>
                </a:cubicBezTo>
              </a:path>
              <a:path w="1564" h="3449">
                <a:moveTo>
                  <a:pt x="14883" y="15453"/>
                </a:moveTo>
                <a:cubicBezTo>
                  <a:pt x="14976" y="15434"/>
                  <a:pt x="15059" y="15429"/>
                  <a:pt x="15156" y="15429"/>
                </a:cubicBezTo>
              </a:path>
              <a:path w="1564" h="3449">
                <a:moveTo>
                  <a:pt x="15429" y="15180"/>
                </a:moveTo>
                <a:cubicBezTo>
                  <a:pt x="15466" y="15174"/>
                  <a:pt x="15892" y="15108"/>
                  <a:pt x="15751" y="15280"/>
                </a:cubicBezTo>
                <a:cubicBezTo>
                  <a:pt x="15621" y="15366"/>
                  <a:pt x="15591" y="15389"/>
                  <a:pt x="15503" y="15429"/>
                </a:cubicBezTo>
                <a:cubicBezTo>
                  <a:pt x="15589" y="15429"/>
                  <a:pt x="15837" y="15403"/>
                  <a:pt x="15825" y="15553"/>
                </a:cubicBezTo>
                <a:cubicBezTo>
                  <a:pt x="15810" y="15743"/>
                  <a:pt x="15496" y="15782"/>
                  <a:pt x="15429" y="157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360" y="4911840"/>
            <a:ext cx="2009880" cy="1249200"/>
          </a:xfrm>
          <a:custGeom>
            <a:avLst/>
            <a:gdLst/>
            <a:ahLst/>
            <a:rect l="l" t="t" r="r" b="b"/>
            <a:pathLst>
              <a:path w="5582" h="3473">
                <a:moveTo>
                  <a:pt x="19893" y="14560"/>
                </a:moveTo>
                <a:cubicBezTo>
                  <a:pt x="19863" y="14708"/>
                  <a:pt x="19839" y="14808"/>
                  <a:pt x="19819" y="14957"/>
                </a:cubicBezTo>
                <a:cubicBezTo>
                  <a:pt x="19761" y="15379"/>
                  <a:pt x="19734" y="15809"/>
                  <a:pt x="19621" y="16222"/>
                </a:cubicBezTo>
                <a:cubicBezTo>
                  <a:pt x="19582" y="16339"/>
                  <a:pt x="19580" y="16358"/>
                  <a:pt x="19546" y="16421"/>
                </a:cubicBezTo>
                <a:cubicBezTo>
                  <a:pt x="19756" y="16370"/>
                  <a:pt x="19968" y="16328"/>
                  <a:pt x="20191" y="16321"/>
                </a:cubicBezTo>
                <a:cubicBezTo>
                  <a:pt x="20673" y="16305"/>
                  <a:pt x="21149" y="16316"/>
                  <a:pt x="21630" y="16321"/>
                </a:cubicBezTo>
                <a:cubicBezTo>
                  <a:pt x="21630" y="16321"/>
                  <a:pt x="21973" y="16332"/>
                  <a:pt x="22002" y="16297"/>
                </a:cubicBezTo>
                <a:cubicBezTo>
                  <a:pt x="22067" y="16216"/>
                  <a:pt x="22059" y="15850"/>
                  <a:pt x="22076" y="15751"/>
                </a:cubicBezTo>
                <a:cubicBezTo>
                  <a:pt x="22123" y="15485"/>
                  <a:pt x="22178" y="15223"/>
                  <a:pt x="22225" y="14957"/>
                </a:cubicBezTo>
                <a:cubicBezTo>
                  <a:pt x="22246" y="14841"/>
                  <a:pt x="22272" y="14751"/>
                  <a:pt x="22275" y="14635"/>
                </a:cubicBezTo>
                <a:cubicBezTo>
                  <a:pt x="22276" y="14601"/>
                  <a:pt x="22286" y="14538"/>
                  <a:pt x="22275" y="14486"/>
                </a:cubicBezTo>
                <a:cubicBezTo>
                  <a:pt x="22268" y="14451"/>
                  <a:pt x="22259" y="14424"/>
                  <a:pt x="22250" y="14387"/>
                </a:cubicBezTo>
                <a:cubicBezTo>
                  <a:pt x="22161" y="14387"/>
                  <a:pt x="22087" y="14403"/>
                  <a:pt x="22002" y="14412"/>
                </a:cubicBezTo>
                <a:cubicBezTo>
                  <a:pt x="21895" y="14424"/>
                  <a:pt x="21786" y="14433"/>
                  <a:pt x="21679" y="14436"/>
                </a:cubicBezTo>
                <a:cubicBezTo>
                  <a:pt x="21510" y="14441"/>
                  <a:pt x="21348" y="14425"/>
                  <a:pt x="21183" y="14412"/>
                </a:cubicBezTo>
                <a:cubicBezTo>
                  <a:pt x="21067" y="14403"/>
                  <a:pt x="20951" y="14391"/>
                  <a:pt x="20836" y="14387"/>
                </a:cubicBezTo>
                <a:cubicBezTo>
                  <a:pt x="20649" y="14380"/>
                  <a:pt x="20420" y="14360"/>
                  <a:pt x="20241" y="14412"/>
                </a:cubicBezTo>
                <a:cubicBezTo>
                  <a:pt x="20182" y="14429"/>
                  <a:pt x="20131" y="14423"/>
                  <a:pt x="20067" y="14436"/>
                </a:cubicBezTo>
                <a:cubicBezTo>
                  <a:pt x="20011" y="14447"/>
                  <a:pt x="19978" y="14456"/>
                  <a:pt x="19918" y="14461"/>
                </a:cubicBezTo>
              </a:path>
              <a:path w="5582" h="3473">
                <a:moveTo>
                  <a:pt x="19596" y="13990"/>
                </a:moveTo>
                <a:cubicBezTo>
                  <a:pt x="19567" y="14162"/>
                  <a:pt x="19513" y="14338"/>
                  <a:pt x="19472" y="14511"/>
                </a:cubicBezTo>
                <a:cubicBezTo>
                  <a:pt x="19499" y="14317"/>
                  <a:pt x="19576" y="14086"/>
                  <a:pt x="19670" y="13915"/>
                </a:cubicBezTo>
                <a:cubicBezTo>
                  <a:pt x="19752" y="13812"/>
                  <a:pt x="19760" y="13779"/>
                  <a:pt x="19844" y="13767"/>
                </a:cubicBezTo>
                <a:cubicBezTo>
                  <a:pt x="19906" y="13948"/>
                  <a:pt x="19974" y="14122"/>
                  <a:pt x="19869" y="14312"/>
                </a:cubicBezTo>
                <a:cubicBezTo>
                  <a:pt x="19869" y="14304"/>
                  <a:pt x="19869" y="14296"/>
                  <a:pt x="19869" y="14288"/>
                </a:cubicBezTo>
              </a:path>
              <a:path w="5582" h="3473">
                <a:moveTo>
                  <a:pt x="22349" y="14089"/>
                </a:moveTo>
                <a:cubicBezTo>
                  <a:pt x="22426" y="14038"/>
                  <a:pt x="22352" y="14321"/>
                  <a:pt x="22349" y="14337"/>
                </a:cubicBezTo>
                <a:cubicBezTo>
                  <a:pt x="22330" y="14395"/>
                  <a:pt x="22321" y="14401"/>
                  <a:pt x="22324" y="14436"/>
                </a:cubicBezTo>
                <a:cubicBezTo>
                  <a:pt x="22355" y="14220"/>
                  <a:pt x="22387" y="13983"/>
                  <a:pt x="22572" y="13841"/>
                </a:cubicBezTo>
                <a:cubicBezTo>
                  <a:pt x="22743" y="13710"/>
                  <a:pt x="22691" y="13976"/>
                  <a:pt x="22647" y="14039"/>
                </a:cubicBezTo>
                <a:cubicBezTo>
                  <a:pt x="22602" y="14084"/>
                  <a:pt x="22592" y="14101"/>
                  <a:pt x="22547" y="14089"/>
                </a:cubicBezTo>
                <a:cubicBezTo>
                  <a:pt x="22647" y="14089"/>
                  <a:pt x="22782" y="14076"/>
                  <a:pt x="22746" y="14238"/>
                </a:cubicBezTo>
                <a:cubicBezTo>
                  <a:pt x="22686" y="14505"/>
                  <a:pt x="22462" y="14423"/>
                  <a:pt x="22423" y="14238"/>
                </a:cubicBezTo>
              </a:path>
              <a:path w="5582" h="3473">
                <a:moveTo>
                  <a:pt x="22324" y="16396"/>
                </a:moveTo>
                <a:cubicBezTo>
                  <a:pt x="22324" y="16454"/>
                  <a:pt x="22324" y="16330"/>
                  <a:pt x="22324" y="16272"/>
                </a:cubicBezTo>
                <a:cubicBezTo>
                  <a:pt x="22190" y="16291"/>
                  <a:pt x="22022" y="16430"/>
                  <a:pt x="22076" y="16594"/>
                </a:cubicBezTo>
                <a:cubicBezTo>
                  <a:pt x="22140" y="16787"/>
                  <a:pt x="22429" y="16606"/>
                  <a:pt x="22523" y="16570"/>
                </a:cubicBezTo>
              </a:path>
              <a:path w="5582" h="3473">
                <a:moveTo>
                  <a:pt x="19248" y="16644"/>
                </a:moveTo>
                <a:cubicBezTo>
                  <a:pt x="19287" y="16800"/>
                  <a:pt x="19256" y="16953"/>
                  <a:pt x="19248" y="17115"/>
                </a:cubicBezTo>
              </a:path>
              <a:path w="5582" h="3473">
                <a:moveTo>
                  <a:pt x="19918" y="14436"/>
                </a:moveTo>
                <a:cubicBezTo>
                  <a:pt x="19918" y="14365"/>
                  <a:pt x="19893" y="14389"/>
                  <a:pt x="19869" y="14436"/>
                </a:cubicBezTo>
                <a:cubicBezTo>
                  <a:pt x="19931" y="14512"/>
                  <a:pt x="20016" y="14483"/>
                  <a:pt x="19993" y="14362"/>
                </a:cubicBezTo>
                <a:cubicBezTo>
                  <a:pt x="19974" y="14264"/>
                  <a:pt x="19864" y="14425"/>
                  <a:pt x="19869" y="14486"/>
                </a:cubicBezTo>
                <a:cubicBezTo>
                  <a:pt x="19877" y="14503"/>
                  <a:pt x="19885" y="14519"/>
                  <a:pt x="19893" y="14536"/>
                </a:cubicBezTo>
                <a:cubicBezTo>
                  <a:pt x="19954" y="14506"/>
                  <a:pt x="20033" y="14307"/>
                  <a:pt x="19943" y="14337"/>
                </a:cubicBezTo>
                <a:cubicBezTo>
                  <a:pt x="19898" y="14352"/>
                  <a:pt x="19869" y="14558"/>
                  <a:pt x="19943" y="14511"/>
                </a:cubicBezTo>
                <a:cubicBezTo>
                  <a:pt x="20005" y="14471"/>
                  <a:pt x="20050" y="14389"/>
                  <a:pt x="19968" y="14362"/>
                </a:cubicBezTo>
                <a:cubicBezTo>
                  <a:pt x="19943" y="14362"/>
                  <a:pt x="19935" y="14362"/>
                  <a:pt x="19943" y="14387"/>
                </a:cubicBezTo>
              </a:path>
              <a:path w="5582" h="3473">
                <a:moveTo>
                  <a:pt x="19968" y="14486"/>
                </a:moveTo>
                <a:cubicBezTo>
                  <a:pt x="20029" y="14553"/>
                  <a:pt x="20064" y="14546"/>
                  <a:pt x="20117" y="14610"/>
                </a:cubicBezTo>
                <a:cubicBezTo>
                  <a:pt x="20159" y="14661"/>
                  <a:pt x="20194" y="14710"/>
                  <a:pt x="20241" y="14759"/>
                </a:cubicBezTo>
                <a:cubicBezTo>
                  <a:pt x="20283" y="14803"/>
                  <a:pt x="20328" y="14866"/>
                  <a:pt x="20365" y="14908"/>
                </a:cubicBezTo>
                <a:cubicBezTo>
                  <a:pt x="20422" y="14974"/>
                  <a:pt x="20508" y="15022"/>
                  <a:pt x="20563" y="15081"/>
                </a:cubicBezTo>
                <a:cubicBezTo>
                  <a:pt x="20640" y="15163"/>
                  <a:pt x="20700" y="15230"/>
                  <a:pt x="20786" y="15304"/>
                </a:cubicBezTo>
                <a:cubicBezTo>
                  <a:pt x="20870" y="15376"/>
                  <a:pt x="20951" y="15455"/>
                  <a:pt x="21034" y="15528"/>
                </a:cubicBezTo>
                <a:cubicBezTo>
                  <a:pt x="21127" y="15610"/>
                  <a:pt x="21189" y="15724"/>
                  <a:pt x="21282" y="15801"/>
                </a:cubicBezTo>
                <a:cubicBezTo>
                  <a:pt x="21359" y="15864"/>
                  <a:pt x="21455" y="15911"/>
                  <a:pt x="21530" y="15974"/>
                </a:cubicBezTo>
                <a:cubicBezTo>
                  <a:pt x="21627" y="16055"/>
                  <a:pt x="21648" y="16035"/>
                  <a:pt x="21754" y="16098"/>
                </a:cubicBezTo>
                <a:cubicBezTo>
                  <a:pt x="21812" y="16133"/>
                  <a:pt x="21858" y="16188"/>
                  <a:pt x="21903" y="16222"/>
                </a:cubicBezTo>
                <a:cubicBezTo>
                  <a:pt x="21925" y="16239"/>
                  <a:pt x="21992" y="16308"/>
                  <a:pt x="22027" y="16321"/>
                </a:cubicBezTo>
                <a:cubicBezTo>
                  <a:pt x="22027" y="16313"/>
                  <a:pt x="22027" y="16305"/>
                  <a:pt x="22027" y="16297"/>
                </a:cubicBezTo>
              </a:path>
              <a:path w="5582" h="3473">
                <a:moveTo>
                  <a:pt x="23490" y="14263"/>
                </a:moveTo>
                <a:cubicBezTo>
                  <a:pt x="23420" y="14430"/>
                  <a:pt x="23332" y="14609"/>
                  <a:pt x="23292" y="14784"/>
                </a:cubicBezTo>
                <a:cubicBezTo>
                  <a:pt x="23321" y="14543"/>
                  <a:pt x="23422" y="14286"/>
                  <a:pt x="23564" y="14089"/>
                </a:cubicBezTo>
                <a:cubicBezTo>
                  <a:pt x="23710" y="13943"/>
                  <a:pt x="23729" y="13893"/>
                  <a:pt x="23862" y="13891"/>
                </a:cubicBezTo>
                <a:cubicBezTo>
                  <a:pt x="23916" y="14204"/>
                  <a:pt x="23908" y="14448"/>
                  <a:pt x="23837" y="14759"/>
                </a:cubicBezTo>
              </a:path>
              <a:path w="5582" h="3473">
                <a:moveTo>
                  <a:pt x="24358" y="14238"/>
                </a:moveTo>
                <a:cubicBezTo>
                  <a:pt x="24358" y="14297"/>
                  <a:pt x="24346" y="14171"/>
                  <a:pt x="24333" y="14114"/>
                </a:cubicBezTo>
                <a:cubicBezTo>
                  <a:pt x="24104" y="14206"/>
                  <a:pt x="23968" y="14447"/>
                  <a:pt x="24110" y="14709"/>
                </a:cubicBezTo>
                <a:cubicBezTo>
                  <a:pt x="24209" y="14891"/>
                  <a:pt x="24452" y="14570"/>
                  <a:pt x="24482" y="14511"/>
                </a:cubicBezTo>
              </a:path>
              <a:path w="5582" h="3473">
                <a:moveTo>
                  <a:pt x="23688" y="13816"/>
                </a:moveTo>
                <a:cubicBezTo>
                  <a:pt x="23876" y="13793"/>
                  <a:pt x="24061" y="13791"/>
                  <a:pt x="24259" y="13791"/>
                </a:cubicBezTo>
                <a:cubicBezTo>
                  <a:pt x="24412" y="13791"/>
                  <a:pt x="24730" y="13759"/>
                  <a:pt x="24433" y="13866"/>
                </a:cubicBezTo>
              </a:path>
              <a:path w="5582" h="3473">
                <a:moveTo>
                  <a:pt x="19844" y="14486"/>
                </a:moveTo>
                <a:cubicBezTo>
                  <a:pt x="19894" y="14486"/>
                  <a:pt x="19902" y="14475"/>
                  <a:pt x="19943" y="14461"/>
                </a:cubicBezTo>
                <a:cubicBezTo>
                  <a:pt x="19998" y="14443"/>
                  <a:pt x="19959" y="14363"/>
                  <a:pt x="19869" y="14412"/>
                </a:cubicBezTo>
                <a:cubicBezTo>
                  <a:pt x="19852" y="14428"/>
                  <a:pt x="19836" y="14445"/>
                  <a:pt x="19819" y="14461"/>
                </a:cubicBezTo>
                <a:cubicBezTo>
                  <a:pt x="19780" y="14595"/>
                  <a:pt x="19851" y="14700"/>
                  <a:pt x="20017" y="14585"/>
                </a:cubicBezTo>
                <a:cubicBezTo>
                  <a:pt x="20110" y="14521"/>
                  <a:pt x="20059" y="14365"/>
                  <a:pt x="19943" y="14387"/>
                </a:cubicBezTo>
                <a:cubicBezTo>
                  <a:pt x="19788" y="14416"/>
                  <a:pt x="19844" y="14543"/>
                  <a:pt x="19918" y="14585"/>
                </a:cubicBezTo>
                <a:cubicBezTo>
                  <a:pt x="19928" y="14581"/>
                  <a:pt x="20206" y="14371"/>
                  <a:pt x="20042" y="14387"/>
                </a:cubicBezTo>
                <a:cubicBezTo>
                  <a:pt x="19936" y="14397"/>
                  <a:pt x="19930" y="14515"/>
                  <a:pt x="19918" y="14585"/>
                </a:cubicBezTo>
                <a:cubicBezTo>
                  <a:pt x="20013" y="14617"/>
                  <a:pt x="20136" y="14511"/>
                  <a:pt x="20117" y="14387"/>
                </a:cubicBezTo>
                <a:cubicBezTo>
                  <a:pt x="20094" y="14236"/>
                  <a:pt x="19847" y="14442"/>
                  <a:pt x="19893" y="14585"/>
                </a:cubicBezTo>
                <a:cubicBezTo>
                  <a:pt x="19950" y="14763"/>
                  <a:pt x="20131" y="14413"/>
                  <a:pt x="20141" y="14387"/>
                </a:cubicBezTo>
                <a:cubicBezTo>
                  <a:pt x="20054" y="14374"/>
                  <a:pt x="19894" y="14450"/>
                  <a:pt x="19968" y="14585"/>
                </a:cubicBezTo>
                <a:cubicBezTo>
                  <a:pt x="20021" y="14680"/>
                  <a:pt x="20224" y="14474"/>
                  <a:pt x="20141" y="14412"/>
                </a:cubicBezTo>
                <a:cubicBezTo>
                  <a:pt x="20092" y="14375"/>
                  <a:pt x="20020" y="14375"/>
                  <a:pt x="19993" y="14436"/>
                </a:cubicBezTo>
                <a:cubicBezTo>
                  <a:pt x="19993" y="14461"/>
                  <a:pt x="19993" y="14469"/>
                  <a:pt x="19993" y="14486"/>
                </a:cubicBezTo>
              </a:path>
              <a:path w="5582" h="3473">
                <a:moveTo>
                  <a:pt x="19496" y="13643"/>
                </a:moveTo>
                <a:cubicBezTo>
                  <a:pt x="19463" y="13741"/>
                  <a:pt x="19376" y="13576"/>
                  <a:pt x="19521" y="13816"/>
                </a:cubicBezTo>
                <a:cubicBezTo>
                  <a:pt x="19610" y="13963"/>
                  <a:pt x="19790" y="14140"/>
                  <a:pt x="19819" y="14312"/>
                </a:cubicBezTo>
                <a:cubicBezTo>
                  <a:pt x="19826" y="14355"/>
                  <a:pt x="19830" y="14321"/>
                  <a:pt x="19844" y="14362"/>
                </a:cubicBezTo>
              </a:path>
              <a:path w="5582" h="3473">
                <a:moveTo>
                  <a:pt x="20017" y="13692"/>
                </a:moveTo>
                <a:cubicBezTo>
                  <a:pt x="19803" y="13895"/>
                  <a:pt x="19596" y="14094"/>
                  <a:pt x="19397" y="14312"/>
                </a:cubicBezTo>
                <a:cubicBezTo>
                  <a:pt x="19349" y="14365"/>
                  <a:pt x="19337" y="14346"/>
                  <a:pt x="19323" y="14387"/>
                </a:cubicBezTo>
              </a:path>
              <a:path w="5582" h="3473">
                <a:moveTo>
                  <a:pt x="22299" y="13791"/>
                </a:moveTo>
                <a:cubicBezTo>
                  <a:pt x="22299" y="13767"/>
                  <a:pt x="22299" y="13758"/>
                  <a:pt x="22299" y="13742"/>
                </a:cubicBezTo>
                <a:cubicBezTo>
                  <a:pt x="22339" y="13840"/>
                  <a:pt x="22454" y="13952"/>
                  <a:pt x="22523" y="14039"/>
                </a:cubicBezTo>
                <a:cubicBezTo>
                  <a:pt x="22587" y="14119"/>
                  <a:pt x="22642" y="14198"/>
                  <a:pt x="22671" y="14288"/>
                </a:cubicBezTo>
                <a:cubicBezTo>
                  <a:pt x="22671" y="14296"/>
                  <a:pt x="22671" y="14304"/>
                  <a:pt x="22671" y="14312"/>
                </a:cubicBezTo>
              </a:path>
              <a:path w="5582" h="3473">
                <a:moveTo>
                  <a:pt x="22796" y="13767"/>
                </a:moveTo>
                <a:cubicBezTo>
                  <a:pt x="22659" y="13947"/>
                  <a:pt x="22439" y="14078"/>
                  <a:pt x="22250" y="14213"/>
                </a:cubicBezTo>
                <a:cubicBezTo>
                  <a:pt x="22178" y="14268"/>
                  <a:pt x="22145" y="14259"/>
                  <a:pt x="22151" y="14312"/>
                </a:cubicBezTo>
              </a:path>
              <a:path w="5582" h="3473">
                <a:moveTo>
                  <a:pt x="19000" y="16619"/>
                </a:moveTo>
                <a:cubicBezTo>
                  <a:pt x="19092" y="16619"/>
                  <a:pt x="19116" y="16671"/>
                  <a:pt x="19199" y="16718"/>
                </a:cubicBezTo>
                <a:cubicBezTo>
                  <a:pt x="19332" y="16794"/>
                  <a:pt x="19481" y="16839"/>
                  <a:pt x="19596" y="16942"/>
                </a:cubicBezTo>
                <a:cubicBezTo>
                  <a:pt x="19606" y="16951"/>
                  <a:pt x="19692" y="17052"/>
                  <a:pt x="19645" y="17016"/>
                </a:cubicBezTo>
                <a:cubicBezTo>
                  <a:pt x="19629" y="16999"/>
                  <a:pt x="19612" y="16983"/>
                  <a:pt x="19596" y="16966"/>
                </a:cubicBezTo>
              </a:path>
              <a:path w="5582" h="3473">
                <a:moveTo>
                  <a:pt x="19496" y="16470"/>
                </a:moveTo>
                <a:cubicBezTo>
                  <a:pt x="19472" y="16619"/>
                  <a:pt x="19358" y="16746"/>
                  <a:pt x="19273" y="16867"/>
                </a:cubicBezTo>
                <a:cubicBezTo>
                  <a:pt x="19232" y="16926"/>
                  <a:pt x="19199" y="17010"/>
                  <a:pt x="19199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52840" y="6402240"/>
            <a:ext cx="2714400" cy="71640"/>
          </a:xfrm>
          <a:custGeom>
            <a:avLst/>
            <a:gdLst/>
            <a:ahLst/>
            <a:rect l="l" t="t" r="r" b="b"/>
            <a:pathLst>
              <a:path w="7542" h="199">
                <a:moveTo>
                  <a:pt x="7367" y="17810"/>
                </a:moveTo>
                <a:cubicBezTo>
                  <a:pt x="7367" y="17802"/>
                  <a:pt x="7367" y="17793"/>
                  <a:pt x="7367" y="17785"/>
                </a:cubicBezTo>
              </a:path>
              <a:path w="7542" h="199">
                <a:moveTo>
                  <a:pt x="7367" y="17785"/>
                </a:moveTo>
                <a:lnTo>
                  <a:pt x="7367" y="17785"/>
                </a:lnTo>
              </a:path>
              <a:path w="7542" h="199">
                <a:moveTo>
                  <a:pt x="14908" y="17983"/>
                </a:moveTo>
                <a:cubicBezTo>
                  <a:pt x="14908" y="17975"/>
                  <a:pt x="14908" y="17967"/>
                  <a:pt x="14908" y="17959"/>
                </a:cubicBezTo>
              </a:path>
              <a:path w="7542" h="199">
                <a:moveTo>
                  <a:pt x="14908" y="17959"/>
                </a:moveTo>
                <a:lnTo>
                  <a:pt x="14908" y="1795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8160" y="6384960"/>
            <a:ext cx="1035000" cy="231840"/>
          </a:xfrm>
          <a:custGeom>
            <a:avLst/>
            <a:gdLst/>
            <a:ahLst/>
            <a:rect l="l" t="t" r="r" b="b"/>
            <a:pathLst>
              <a:path w="2878" h="646">
                <a:moveTo>
                  <a:pt x="5854" y="18033"/>
                </a:moveTo>
                <a:cubicBezTo>
                  <a:pt x="5910" y="18139"/>
                  <a:pt x="5975" y="18237"/>
                  <a:pt x="6003" y="18355"/>
                </a:cubicBezTo>
                <a:cubicBezTo>
                  <a:pt x="6003" y="18363"/>
                  <a:pt x="6003" y="18372"/>
                  <a:pt x="6003" y="18380"/>
                </a:cubicBezTo>
                <a:cubicBezTo>
                  <a:pt x="6021" y="18258"/>
                  <a:pt x="6065" y="18126"/>
                  <a:pt x="6152" y="18033"/>
                </a:cubicBezTo>
                <a:cubicBezTo>
                  <a:pt x="6160" y="18033"/>
                  <a:pt x="6168" y="18033"/>
                  <a:pt x="6176" y="18033"/>
                </a:cubicBezTo>
              </a:path>
              <a:path w="2878" h="646">
                <a:moveTo>
                  <a:pt x="6300" y="18132"/>
                </a:moveTo>
                <a:cubicBezTo>
                  <a:pt x="6333" y="18121"/>
                  <a:pt x="6508" y="18099"/>
                  <a:pt x="6524" y="18083"/>
                </a:cubicBezTo>
                <a:cubicBezTo>
                  <a:pt x="6524" y="18075"/>
                  <a:pt x="6524" y="18066"/>
                  <a:pt x="6524" y="18058"/>
                </a:cubicBezTo>
                <a:cubicBezTo>
                  <a:pt x="6446" y="17996"/>
                  <a:pt x="6405" y="17966"/>
                  <a:pt x="6325" y="18033"/>
                </a:cubicBezTo>
                <a:cubicBezTo>
                  <a:pt x="6217" y="18123"/>
                  <a:pt x="6168" y="18273"/>
                  <a:pt x="6300" y="18355"/>
                </a:cubicBezTo>
                <a:cubicBezTo>
                  <a:pt x="6437" y="18440"/>
                  <a:pt x="6493" y="18312"/>
                  <a:pt x="6573" y="18231"/>
                </a:cubicBezTo>
              </a:path>
              <a:path w="2878" h="646">
                <a:moveTo>
                  <a:pt x="6648" y="18058"/>
                </a:moveTo>
                <a:cubicBezTo>
                  <a:pt x="6648" y="18174"/>
                  <a:pt x="6648" y="18207"/>
                  <a:pt x="6648" y="18281"/>
                </a:cubicBezTo>
                <a:cubicBezTo>
                  <a:pt x="6648" y="18364"/>
                  <a:pt x="6628" y="18163"/>
                  <a:pt x="6648" y="18083"/>
                </a:cubicBezTo>
                <a:cubicBezTo>
                  <a:pt x="6691" y="17907"/>
                  <a:pt x="6743" y="17944"/>
                  <a:pt x="6871" y="17934"/>
                </a:cubicBezTo>
                <a:cubicBezTo>
                  <a:pt x="6912" y="17926"/>
                  <a:pt x="6954" y="17917"/>
                  <a:pt x="6995" y="17909"/>
                </a:cubicBezTo>
              </a:path>
              <a:path w="2878" h="646">
                <a:moveTo>
                  <a:pt x="7069" y="17735"/>
                </a:moveTo>
                <a:cubicBezTo>
                  <a:pt x="7069" y="17925"/>
                  <a:pt x="7069" y="18116"/>
                  <a:pt x="7069" y="18306"/>
                </a:cubicBezTo>
              </a:path>
              <a:path w="2878" h="646">
                <a:moveTo>
                  <a:pt x="6871" y="18033"/>
                </a:moveTo>
                <a:cubicBezTo>
                  <a:pt x="7024" y="17999"/>
                  <a:pt x="7161" y="17983"/>
                  <a:pt x="7317" y="17983"/>
                </a:cubicBezTo>
                <a:cubicBezTo>
                  <a:pt x="7411" y="17983"/>
                  <a:pt x="7413" y="18144"/>
                  <a:pt x="7417" y="18207"/>
                </a:cubicBezTo>
                <a:cubicBezTo>
                  <a:pt x="7420" y="18264"/>
                  <a:pt x="7417" y="18140"/>
                  <a:pt x="7417" y="18083"/>
                </a:cubicBezTo>
              </a:path>
              <a:path w="2878" h="646">
                <a:moveTo>
                  <a:pt x="7739" y="17859"/>
                </a:moveTo>
                <a:cubicBezTo>
                  <a:pt x="7790" y="17785"/>
                  <a:pt x="7629" y="17902"/>
                  <a:pt x="7590" y="17983"/>
                </a:cubicBezTo>
                <a:cubicBezTo>
                  <a:pt x="7515" y="18136"/>
                  <a:pt x="7639" y="18246"/>
                  <a:pt x="7789" y="18207"/>
                </a:cubicBezTo>
                <a:cubicBezTo>
                  <a:pt x="7882" y="18160"/>
                  <a:pt x="7911" y="18150"/>
                  <a:pt x="7938" y="18083"/>
                </a:cubicBezTo>
              </a:path>
              <a:path w="2878" h="646">
                <a:moveTo>
                  <a:pt x="7987" y="17959"/>
                </a:moveTo>
                <a:cubicBezTo>
                  <a:pt x="8052" y="17959"/>
                  <a:pt x="8216" y="17990"/>
                  <a:pt x="8235" y="17934"/>
                </a:cubicBezTo>
                <a:cubicBezTo>
                  <a:pt x="8156" y="17864"/>
                  <a:pt x="8110" y="17819"/>
                  <a:pt x="8037" y="17909"/>
                </a:cubicBezTo>
                <a:cubicBezTo>
                  <a:pt x="7959" y="18005"/>
                  <a:pt x="7900" y="18173"/>
                  <a:pt x="8062" y="18231"/>
                </a:cubicBezTo>
                <a:cubicBezTo>
                  <a:pt x="8148" y="18231"/>
                  <a:pt x="8184" y="18226"/>
                  <a:pt x="8235" y="18182"/>
                </a:cubicBezTo>
              </a:path>
              <a:path w="2878" h="646">
                <a:moveTo>
                  <a:pt x="8582" y="17835"/>
                </a:moveTo>
                <a:cubicBezTo>
                  <a:pt x="8521" y="17884"/>
                  <a:pt x="8503" y="17902"/>
                  <a:pt x="8458" y="17959"/>
                </a:cubicBezTo>
                <a:cubicBezTo>
                  <a:pt x="8555" y="17993"/>
                  <a:pt x="8731" y="18018"/>
                  <a:pt x="8731" y="18157"/>
                </a:cubicBezTo>
                <a:cubicBezTo>
                  <a:pt x="8731" y="18321"/>
                  <a:pt x="8477" y="18319"/>
                  <a:pt x="8384" y="18256"/>
                </a:cubicBezTo>
                <a:cubicBezTo>
                  <a:pt x="8376" y="18240"/>
                  <a:pt x="8367" y="18223"/>
                  <a:pt x="8359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71960" y="645624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1336" y="17934"/>
                </a:moveTo>
                <a:cubicBezTo>
                  <a:pt x="11464" y="17934"/>
                  <a:pt x="11619" y="17897"/>
                  <a:pt x="11633" y="17983"/>
                </a:cubicBezTo>
              </a:path>
              <a:path w="398" h="224">
                <a:moveTo>
                  <a:pt x="11311" y="18157"/>
                </a:moveTo>
                <a:cubicBezTo>
                  <a:pt x="11418" y="18135"/>
                  <a:pt x="11557" y="18137"/>
                  <a:pt x="11658" y="18107"/>
                </a:cubicBezTo>
                <a:cubicBezTo>
                  <a:pt x="11675" y="18099"/>
                  <a:pt x="11691" y="18091"/>
                  <a:pt x="11708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7160" y="6357960"/>
            <a:ext cx="606600" cy="295200"/>
          </a:xfrm>
          <a:custGeom>
            <a:avLst/>
            <a:gdLst/>
            <a:ahLst/>
            <a:rect l="l" t="t" r="r" b="b"/>
            <a:pathLst>
              <a:path w="1688" h="819">
                <a:moveTo>
                  <a:pt x="12229" y="17661"/>
                </a:moveTo>
                <a:cubicBezTo>
                  <a:pt x="12248" y="17784"/>
                  <a:pt x="12149" y="18100"/>
                  <a:pt x="12254" y="18033"/>
                </a:cubicBezTo>
                <a:cubicBezTo>
                  <a:pt x="12262" y="18016"/>
                  <a:pt x="12270" y="18000"/>
                  <a:pt x="12278" y="17983"/>
                </a:cubicBezTo>
              </a:path>
              <a:path w="1688" h="819">
                <a:moveTo>
                  <a:pt x="12477" y="17711"/>
                </a:moveTo>
                <a:cubicBezTo>
                  <a:pt x="12480" y="17734"/>
                  <a:pt x="12558" y="18146"/>
                  <a:pt x="12477" y="17934"/>
                </a:cubicBezTo>
              </a:path>
              <a:path w="1688" h="819">
                <a:moveTo>
                  <a:pt x="12129" y="17835"/>
                </a:moveTo>
                <a:cubicBezTo>
                  <a:pt x="12293" y="17798"/>
                  <a:pt x="12445" y="17733"/>
                  <a:pt x="12601" y="17785"/>
                </a:cubicBezTo>
              </a:path>
              <a:path w="1688" h="819">
                <a:moveTo>
                  <a:pt x="12204" y="17934"/>
                </a:moveTo>
                <a:cubicBezTo>
                  <a:pt x="12359" y="17928"/>
                  <a:pt x="12499" y="17912"/>
                  <a:pt x="12650" y="17934"/>
                </a:cubicBezTo>
              </a:path>
              <a:path w="1688" h="819">
                <a:moveTo>
                  <a:pt x="13146" y="18157"/>
                </a:moveTo>
                <a:cubicBezTo>
                  <a:pt x="13146" y="18066"/>
                  <a:pt x="13097" y="18105"/>
                  <a:pt x="13022" y="18182"/>
                </a:cubicBezTo>
                <a:cubicBezTo>
                  <a:pt x="12935" y="18290"/>
                  <a:pt x="12902" y="18312"/>
                  <a:pt x="12923" y="18405"/>
                </a:cubicBezTo>
                <a:cubicBezTo>
                  <a:pt x="13040" y="18477"/>
                  <a:pt x="13275" y="18510"/>
                  <a:pt x="13295" y="18281"/>
                </a:cubicBezTo>
                <a:cubicBezTo>
                  <a:pt x="13307" y="18148"/>
                  <a:pt x="13219" y="18132"/>
                  <a:pt x="13122" y="18132"/>
                </a:cubicBezTo>
              </a:path>
              <a:path w="1688" h="819">
                <a:moveTo>
                  <a:pt x="13791" y="17785"/>
                </a:moveTo>
                <a:cubicBezTo>
                  <a:pt x="13723" y="17762"/>
                  <a:pt x="13647" y="17671"/>
                  <a:pt x="13568" y="17735"/>
                </a:cubicBezTo>
                <a:cubicBezTo>
                  <a:pt x="13408" y="17866"/>
                  <a:pt x="13593" y="18090"/>
                  <a:pt x="13618" y="18231"/>
                </a:cubicBezTo>
                <a:cubicBezTo>
                  <a:pt x="13618" y="18330"/>
                  <a:pt x="13618" y="18347"/>
                  <a:pt x="13618" y="18405"/>
                </a:cubicBezTo>
              </a:path>
              <a:path w="1688" h="819">
                <a:moveTo>
                  <a:pt x="13320" y="18132"/>
                </a:moveTo>
                <a:cubicBezTo>
                  <a:pt x="13480" y="18098"/>
                  <a:pt x="13627" y="18083"/>
                  <a:pt x="13791" y="18083"/>
                </a:cubicBezTo>
                <a:cubicBezTo>
                  <a:pt x="13799" y="18083"/>
                  <a:pt x="13808" y="18083"/>
                  <a:pt x="13816" y="180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70320" y="6357960"/>
            <a:ext cx="1830600" cy="384120"/>
          </a:xfrm>
          <a:custGeom>
            <a:avLst/>
            <a:gdLst/>
            <a:ahLst/>
            <a:rect l="l" t="t" r="r" b="b"/>
            <a:pathLst>
              <a:path w="5086" h="1068">
                <a:moveTo>
                  <a:pt x="14660" y="18231"/>
                </a:moveTo>
                <a:cubicBezTo>
                  <a:pt x="14688" y="18231"/>
                  <a:pt x="14698" y="18229"/>
                  <a:pt x="14709" y="18207"/>
                </a:cubicBezTo>
                <a:cubicBezTo>
                  <a:pt x="14691" y="18118"/>
                  <a:pt x="14652" y="18088"/>
                  <a:pt x="14560" y="18132"/>
                </a:cubicBezTo>
                <a:cubicBezTo>
                  <a:pt x="14385" y="18215"/>
                  <a:pt x="14387" y="18287"/>
                  <a:pt x="14362" y="18455"/>
                </a:cubicBezTo>
                <a:cubicBezTo>
                  <a:pt x="14532" y="18472"/>
                  <a:pt x="14528" y="18481"/>
                  <a:pt x="14660" y="18380"/>
                </a:cubicBezTo>
              </a:path>
              <a:path w="5086" h="1068">
                <a:moveTo>
                  <a:pt x="14635" y="17711"/>
                </a:moveTo>
                <a:cubicBezTo>
                  <a:pt x="14683" y="17913"/>
                  <a:pt x="14731" y="18145"/>
                  <a:pt x="14709" y="18355"/>
                </a:cubicBezTo>
                <a:cubicBezTo>
                  <a:pt x="14703" y="18414"/>
                  <a:pt x="14654" y="18412"/>
                  <a:pt x="14709" y="18430"/>
                </a:cubicBezTo>
              </a:path>
              <a:path w="5086" h="1068">
                <a:moveTo>
                  <a:pt x="14883" y="18107"/>
                </a:moveTo>
                <a:cubicBezTo>
                  <a:pt x="14893" y="18215"/>
                  <a:pt x="14919" y="18322"/>
                  <a:pt x="14932" y="18430"/>
                </a:cubicBezTo>
              </a:path>
              <a:path w="5086" h="1068">
                <a:moveTo>
                  <a:pt x="15404" y="18157"/>
                </a:moveTo>
                <a:cubicBezTo>
                  <a:pt x="15261" y="18095"/>
                  <a:pt x="15174" y="18166"/>
                  <a:pt x="15106" y="18306"/>
                </a:cubicBezTo>
                <a:cubicBezTo>
                  <a:pt x="15084" y="18395"/>
                  <a:pt x="15068" y="18420"/>
                  <a:pt x="15131" y="18455"/>
                </a:cubicBezTo>
                <a:cubicBezTo>
                  <a:pt x="15243" y="18380"/>
                  <a:pt x="15284" y="18326"/>
                  <a:pt x="15304" y="18182"/>
                </a:cubicBezTo>
                <a:cubicBezTo>
                  <a:pt x="15304" y="18318"/>
                  <a:pt x="15291" y="18324"/>
                  <a:pt x="15404" y="18380"/>
                </a:cubicBezTo>
              </a:path>
              <a:path w="5086" h="1068">
                <a:moveTo>
                  <a:pt x="15726" y="18083"/>
                </a:moveTo>
                <a:cubicBezTo>
                  <a:pt x="15659" y="18089"/>
                  <a:pt x="15404" y="18209"/>
                  <a:pt x="15503" y="18355"/>
                </a:cubicBezTo>
                <a:cubicBezTo>
                  <a:pt x="15602" y="18500"/>
                  <a:pt x="15716" y="18201"/>
                  <a:pt x="15726" y="18157"/>
                </a:cubicBezTo>
                <a:cubicBezTo>
                  <a:pt x="15726" y="18299"/>
                  <a:pt x="15799" y="18403"/>
                  <a:pt x="15776" y="18554"/>
                </a:cubicBezTo>
                <a:cubicBezTo>
                  <a:pt x="15752" y="18715"/>
                  <a:pt x="15470" y="18835"/>
                  <a:pt x="15379" y="18653"/>
                </a:cubicBezTo>
                <a:cubicBezTo>
                  <a:pt x="15379" y="18612"/>
                  <a:pt x="15379" y="18570"/>
                  <a:pt x="15379" y="18529"/>
                </a:cubicBezTo>
              </a:path>
              <a:path w="5086" h="1068">
                <a:moveTo>
                  <a:pt x="16024" y="18058"/>
                </a:moveTo>
                <a:cubicBezTo>
                  <a:pt x="15953" y="18167"/>
                  <a:pt x="15922" y="18232"/>
                  <a:pt x="15900" y="18355"/>
                </a:cubicBezTo>
                <a:cubicBezTo>
                  <a:pt x="16040" y="18420"/>
                  <a:pt x="16210" y="18366"/>
                  <a:pt x="16173" y="18157"/>
                </a:cubicBezTo>
                <a:cubicBezTo>
                  <a:pt x="16153" y="18045"/>
                  <a:pt x="16061" y="18080"/>
                  <a:pt x="16024" y="18107"/>
                </a:cubicBezTo>
              </a:path>
              <a:path w="5086" h="1068">
                <a:moveTo>
                  <a:pt x="16247" y="18207"/>
                </a:moveTo>
                <a:cubicBezTo>
                  <a:pt x="16259" y="18281"/>
                  <a:pt x="16272" y="18455"/>
                  <a:pt x="16272" y="18380"/>
                </a:cubicBezTo>
                <a:cubicBezTo>
                  <a:pt x="16293" y="18233"/>
                  <a:pt x="16346" y="18157"/>
                  <a:pt x="16446" y="18058"/>
                </a:cubicBezTo>
                <a:cubicBezTo>
                  <a:pt x="16589" y="18115"/>
                  <a:pt x="16548" y="18221"/>
                  <a:pt x="16520" y="18380"/>
                </a:cubicBezTo>
              </a:path>
              <a:path w="5086" h="1068">
                <a:moveTo>
                  <a:pt x="16892" y="18107"/>
                </a:moveTo>
                <a:cubicBezTo>
                  <a:pt x="16767" y="18058"/>
                  <a:pt x="16748" y="18053"/>
                  <a:pt x="16619" y="18182"/>
                </a:cubicBezTo>
                <a:cubicBezTo>
                  <a:pt x="16500" y="18301"/>
                  <a:pt x="16567" y="18447"/>
                  <a:pt x="16718" y="18306"/>
                </a:cubicBezTo>
                <a:cubicBezTo>
                  <a:pt x="16743" y="18265"/>
                  <a:pt x="16768" y="18223"/>
                  <a:pt x="16793" y="18182"/>
                </a:cubicBezTo>
                <a:cubicBezTo>
                  <a:pt x="16801" y="18174"/>
                  <a:pt x="16810" y="18165"/>
                  <a:pt x="16818" y="18157"/>
                </a:cubicBezTo>
                <a:cubicBezTo>
                  <a:pt x="16800" y="18199"/>
                  <a:pt x="16805" y="18411"/>
                  <a:pt x="16917" y="18306"/>
                </a:cubicBezTo>
                <a:cubicBezTo>
                  <a:pt x="16950" y="18256"/>
                  <a:pt x="16983" y="18207"/>
                  <a:pt x="17016" y="18157"/>
                </a:cubicBezTo>
              </a:path>
              <a:path w="5086" h="1068">
                <a:moveTo>
                  <a:pt x="17016" y="17711"/>
                </a:moveTo>
                <a:cubicBezTo>
                  <a:pt x="17016" y="17853"/>
                  <a:pt x="16943" y="18315"/>
                  <a:pt x="17066" y="18355"/>
                </a:cubicBezTo>
              </a:path>
              <a:path w="5086" h="1068">
                <a:moveTo>
                  <a:pt x="17413" y="17959"/>
                </a:moveTo>
                <a:cubicBezTo>
                  <a:pt x="17358" y="17983"/>
                  <a:pt x="17313" y="18013"/>
                  <a:pt x="17264" y="18033"/>
                </a:cubicBezTo>
                <a:cubicBezTo>
                  <a:pt x="17309" y="18154"/>
                  <a:pt x="17502" y="18125"/>
                  <a:pt x="17462" y="18281"/>
                </a:cubicBezTo>
                <a:cubicBezTo>
                  <a:pt x="17422" y="18436"/>
                  <a:pt x="17229" y="18312"/>
                  <a:pt x="17190" y="18256"/>
                </a:cubicBezTo>
              </a:path>
              <a:path w="5086" h="1068">
                <a:moveTo>
                  <a:pt x="18207" y="17859"/>
                </a:moveTo>
                <a:cubicBezTo>
                  <a:pt x="18207" y="17795"/>
                  <a:pt x="18225" y="17668"/>
                  <a:pt x="18132" y="17661"/>
                </a:cubicBezTo>
                <a:cubicBezTo>
                  <a:pt x="17865" y="17641"/>
                  <a:pt x="17954" y="18072"/>
                  <a:pt x="17959" y="18207"/>
                </a:cubicBezTo>
                <a:cubicBezTo>
                  <a:pt x="17959" y="18298"/>
                  <a:pt x="17959" y="18306"/>
                  <a:pt x="17959" y="18355"/>
                </a:cubicBezTo>
              </a:path>
              <a:path w="5086" h="1068">
                <a:moveTo>
                  <a:pt x="17785" y="18083"/>
                </a:moveTo>
                <a:cubicBezTo>
                  <a:pt x="17861" y="18072"/>
                  <a:pt x="18162" y="17978"/>
                  <a:pt x="18231" y="18033"/>
                </a:cubicBezTo>
                <a:cubicBezTo>
                  <a:pt x="18285" y="18076"/>
                  <a:pt x="18276" y="18267"/>
                  <a:pt x="18281" y="18331"/>
                </a:cubicBezTo>
                <a:cubicBezTo>
                  <a:pt x="18323" y="18226"/>
                  <a:pt x="18357" y="18123"/>
                  <a:pt x="18430" y="18033"/>
                </a:cubicBezTo>
                <a:cubicBezTo>
                  <a:pt x="18501" y="17945"/>
                  <a:pt x="18634" y="17945"/>
                  <a:pt x="18604" y="18083"/>
                </a:cubicBezTo>
                <a:cubicBezTo>
                  <a:pt x="18555" y="18205"/>
                  <a:pt x="18539" y="18244"/>
                  <a:pt x="18529" y="18331"/>
                </a:cubicBezTo>
                <a:cubicBezTo>
                  <a:pt x="18674" y="18339"/>
                  <a:pt x="18836" y="18307"/>
                  <a:pt x="18752" y="18107"/>
                </a:cubicBezTo>
                <a:cubicBezTo>
                  <a:pt x="18736" y="18091"/>
                  <a:pt x="18719" y="18074"/>
                  <a:pt x="18703" y="18058"/>
                </a:cubicBezTo>
                <a:cubicBezTo>
                  <a:pt x="18695" y="18058"/>
                  <a:pt x="18686" y="18058"/>
                  <a:pt x="18678" y="18058"/>
                </a:cubicBezTo>
                <a:cubicBezTo>
                  <a:pt x="18833" y="18013"/>
                  <a:pt x="18903" y="18164"/>
                  <a:pt x="18951" y="18306"/>
                </a:cubicBezTo>
                <a:cubicBezTo>
                  <a:pt x="18951" y="18322"/>
                  <a:pt x="18951" y="18339"/>
                  <a:pt x="18951" y="18355"/>
                </a:cubicBezTo>
                <a:cubicBezTo>
                  <a:pt x="18931" y="18237"/>
                  <a:pt x="18935" y="18144"/>
                  <a:pt x="19025" y="18033"/>
                </a:cubicBezTo>
                <a:cubicBezTo>
                  <a:pt x="19157" y="17870"/>
                  <a:pt x="19187" y="18181"/>
                  <a:pt x="19199" y="18256"/>
                </a:cubicBezTo>
                <a:cubicBezTo>
                  <a:pt x="19237" y="18100"/>
                  <a:pt x="19240" y="18053"/>
                  <a:pt x="19348" y="17934"/>
                </a:cubicBezTo>
                <a:cubicBezTo>
                  <a:pt x="19378" y="18011"/>
                  <a:pt x="19549" y="18286"/>
                  <a:pt x="19422" y="18355"/>
                </a:cubicBezTo>
                <a:cubicBezTo>
                  <a:pt x="19405" y="18347"/>
                  <a:pt x="19389" y="18339"/>
                  <a:pt x="19372" y="183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2120" y="6367320"/>
            <a:ext cx="17640" cy="223920"/>
          </a:xfrm>
          <a:custGeom>
            <a:avLst/>
            <a:gdLst/>
            <a:ahLst/>
            <a:rect l="l" t="t" r="r" b="b"/>
            <a:pathLst>
              <a:path w="50" h="621">
                <a:moveTo>
                  <a:pt x="20117" y="17686"/>
                </a:moveTo>
                <a:cubicBezTo>
                  <a:pt x="20117" y="17843"/>
                  <a:pt x="20155" y="18000"/>
                  <a:pt x="20166" y="18157"/>
                </a:cubicBezTo>
                <a:cubicBezTo>
                  <a:pt x="20169" y="18205"/>
                  <a:pt x="20166" y="18257"/>
                  <a:pt x="20166" y="183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12040" y="6340320"/>
            <a:ext cx="795240" cy="250920"/>
          </a:xfrm>
          <a:custGeom>
            <a:avLst/>
            <a:gdLst/>
            <a:ahLst/>
            <a:rect l="l" t="t" r="r" b="b"/>
            <a:pathLst>
              <a:path w="2209" h="696">
                <a:moveTo>
                  <a:pt x="20588" y="17810"/>
                </a:moveTo>
                <a:cubicBezTo>
                  <a:pt x="20630" y="17976"/>
                  <a:pt x="20705" y="18142"/>
                  <a:pt x="20762" y="18306"/>
                </a:cubicBezTo>
                <a:cubicBezTo>
                  <a:pt x="20848" y="18201"/>
                  <a:pt x="20857" y="18023"/>
                  <a:pt x="20910" y="17884"/>
                </a:cubicBezTo>
                <a:cubicBezTo>
                  <a:pt x="20933" y="17823"/>
                  <a:pt x="20969" y="17848"/>
                  <a:pt x="21010" y="17859"/>
                </a:cubicBezTo>
              </a:path>
              <a:path w="2209" h="696">
                <a:moveTo>
                  <a:pt x="21084" y="17983"/>
                </a:moveTo>
                <a:cubicBezTo>
                  <a:pt x="21100" y="18030"/>
                  <a:pt x="21198" y="18015"/>
                  <a:pt x="21258" y="18033"/>
                </a:cubicBezTo>
                <a:cubicBezTo>
                  <a:pt x="21258" y="18002"/>
                  <a:pt x="21242" y="17889"/>
                  <a:pt x="21208" y="17884"/>
                </a:cubicBezTo>
                <a:cubicBezTo>
                  <a:pt x="21066" y="17862"/>
                  <a:pt x="20987" y="18161"/>
                  <a:pt x="21034" y="18256"/>
                </a:cubicBezTo>
                <a:cubicBezTo>
                  <a:pt x="21110" y="18407"/>
                  <a:pt x="21348" y="18128"/>
                  <a:pt x="21382" y="18083"/>
                </a:cubicBezTo>
                <a:cubicBezTo>
                  <a:pt x="21398" y="18058"/>
                  <a:pt x="21415" y="18033"/>
                  <a:pt x="21431" y="18008"/>
                </a:cubicBezTo>
              </a:path>
              <a:path w="2209" h="696">
                <a:moveTo>
                  <a:pt x="21431" y="18033"/>
                </a:moveTo>
                <a:cubicBezTo>
                  <a:pt x="21406" y="18131"/>
                  <a:pt x="21398" y="18163"/>
                  <a:pt x="21406" y="18231"/>
                </a:cubicBezTo>
                <a:cubicBezTo>
                  <a:pt x="21406" y="18130"/>
                  <a:pt x="21428" y="17984"/>
                  <a:pt x="21506" y="17909"/>
                </a:cubicBezTo>
                <a:cubicBezTo>
                  <a:pt x="21545" y="17872"/>
                  <a:pt x="21663" y="17884"/>
                  <a:pt x="21704" y="17884"/>
                </a:cubicBezTo>
              </a:path>
              <a:path w="2209" h="696">
                <a:moveTo>
                  <a:pt x="21828" y="17611"/>
                </a:moveTo>
                <a:cubicBezTo>
                  <a:pt x="21828" y="17779"/>
                  <a:pt x="21813" y="17941"/>
                  <a:pt x="21803" y="18107"/>
                </a:cubicBezTo>
                <a:cubicBezTo>
                  <a:pt x="21803" y="18182"/>
                  <a:pt x="21803" y="18190"/>
                  <a:pt x="21803" y="18231"/>
                </a:cubicBezTo>
              </a:path>
              <a:path w="2209" h="696">
                <a:moveTo>
                  <a:pt x="21654" y="17859"/>
                </a:moveTo>
                <a:cubicBezTo>
                  <a:pt x="21748" y="17870"/>
                  <a:pt x="21921" y="17860"/>
                  <a:pt x="22002" y="17909"/>
                </a:cubicBezTo>
              </a:path>
              <a:path w="2209" h="696">
                <a:moveTo>
                  <a:pt x="22151" y="17934"/>
                </a:moveTo>
                <a:cubicBezTo>
                  <a:pt x="22190" y="17944"/>
                  <a:pt x="22205" y="17959"/>
                  <a:pt x="22250" y="17959"/>
                </a:cubicBezTo>
                <a:cubicBezTo>
                  <a:pt x="22250" y="17893"/>
                  <a:pt x="22240" y="17794"/>
                  <a:pt x="22151" y="17884"/>
                </a:cubicBezTo>
                <a:cubicBezTo>
                  <a:pt x="22112" y="17924"/>
                  <a:pt x="21988" y="18123"/>
                  <a:pt x="22051" y="18182"/>
                </a:cubicBezTo>
                <a:cubicBezTo>
                  <a:pt x="22157" y="18282"/>
                  <a:pt x="22290" y="18267"/>
                  <a:pt x="22374" y="18182"/>
                </a:cubicBezTo>
                <a:cubicBezTo>
                  <a:pt x="22390" y="18165"/>
                  <a:pt x="22407" y="18149"/>
                  <a:pt x="22423" y="18132"/>
                </a:cubicBezTo>
              </a:path>
              <a:path w="2209" h="696">
                <a:moveTo>
                  <a:pt x="22498" y="17810"/>
                </a:moveTo>
                <a:cubicBezTo>
                  <a:pt x="22537" y="17920"/>
                  <a:pt x="22568" y="18019"/>
                  <a:pt x="22647" y="18107"/>
                </a:cubicBezTo>
                <a:cubicBezTo>
                  <a:pt x="22721" y="18189"/>
                  <a:pt x="22748" y="18105"/>
                  <a:pt x="22796" y="18058"/>
                </a:cubicBezTo>
              </a:path>
              <a:path w="2209" h="696">
                <a:moveTo>
                  <a:pt x="22796" y="17760"/>
                </a:moveTo>
                <a:cubicBezTo>
                  <a:pt x="22692" y="17864"/>
                  <a:pt x="22601" y="17977"/>
                  <a:pt x="22498" y="18083"/>
                </a:cubicBezTo>
                <a:cubicBezTo>
                  <a:pt x="22442" y="18141"/>
                  <a:pt x="22349" y="18179"/>
                  <a:pt x="22349" y="182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8880" y="3071880"/>
            <a:ext cx="519120" cy="992160"/>
          </a:xfrm>
          <a:custGeom>
            <a:avLst/>
            <a:gdLst/>
            <a:ahLst/>
            <a:rect l="l" t="t" r="r" b="b"/>
            <a:pathLst>
              <a:path w="1440" h="2754">
                <a:moveTo>
                  <a:pt x="2679" y="8533"/>
                </a:moveTo>
                <a:cubicBezTo>
                  <a:pt x="2679" y="8653"/>
                  <a:pt x="2670" y="8759"/>
                  <a:pt x="2654" y="8880"/>
                </a:cubicBezTo>
                <a:cubicBezTo>
                  <a:pt x="2643" y="8959"/>
                  <a:pt x="2527" y="9327"/>
                  <a:pt x="2729" y="9327"/>
                </a:cubicBezTo>
                <a:cubicBezTo>
                  <a:pt x="2881" y="9327"/>
                  <a:pt x="3096" y="9165"/>
                  <a:pt x="3150" y="9029"/>
                </a:cubicBezTo>
                <a:cubicBezTo>
                  <a:pt x="3150" y="8987"/>
                  <a:pt x="3150" y="8979"/>
                  <a:pt x="3150" y="8954"/>
                </a:cubicBezTo>
                <a:cubicBezTo>
                  <a:pt x="2997" y="8967"/>
                  <a:pt x="2923" y="9001"/>
                  <a:pt x="2853" y="9153"/>
                </a:cubicBezTo>
                <a:cubicBezTo>
                  <a:pt x="2832" y="9235"/>
                  <a:pt x="2824" y="9251"/>
                  <a:pt x="2828" y="9302"/>
                </a:cubicBezTo>
              </a:path>
              <a:path w="1440" h="2754">
                <a:moveTo>
                  <a:pt x="2108" y="10418"/>
                </a:moveTo>
                <a:cubicBezTo>
                  <a:pt x="2432" y="10331"/>
                  <a:pt x="2789" y="10345"/>
                  <a:pt x="3125" y="10319"/>
                </a:cubicBezTo>
                <a:cubicBezTo>
                  <a:pt x="3280" y="10307"/>
                  <a:pt x="3398" y="10294"/>
                  <a:pt x="3547" y="10294"/>
                </a:cubicBezTo>
              </a:path>
              <a:path w="1440" h="2754">
                <a:moveTo>
                  <a:pt x="2580" y="10691"/>
                </a:moveTo>
                <a:cubicBezTo>
                  <a:pt x="2545" y="10622"/>
                  <a:pt x="2665" y="10593"/>
                  <a:pt x="2729" y="10542"/>
                </a:cubicBezTo>
                <a:cubicBezTo>
                  <a:pt x="2824" y="10665"/>
                  <a:pt x="2813" y="10758"/>
                  <a:pt x="2704" y="10889"/>
                </a:cubicBezTo>
                <a:cubicBezTo>
                  <a:pt x="2663" y="10909"/>
                  <a:pt x="2657" y="10918"/>
                  <a:pt x="2629" y="10914"/>
                </a:cubicBezTo>
                <a:cubicBezTo>
                  <a:pt x="2723" y="10923"/>
                  <a:pt x="2941" y="10932"/>
                  <a:pt x="2877" y="11088"/>
                </a:cubicBezTo>
                <a:cubicBezTo>
                  <a:pt x="2805" y="11263"/>
                  <a:pt x="2675" y="11261"/>
                  <a:pt x="2530" y="11261"/>
                </a:cubicBezTo>
              </a:path>
              <a:path w="1440" h="2754">
                <a:moveTo>
                  <a:pt x="2232" y="9847"/>
                </a:moveTo>
                <a:cubicBezTo>
                  <a:pt x="2337" y="9827"/>
                  <a:pt x="2366" y="9808"/>
                  <a:pt x="2480" y="9823"/>
                </a:cubicBezTo>
              </a:path>
              <a:path w="1440" h="2754">
                <a:moveTo>
                  <a:pt x="2729" y="9649"/>
                </a:moveTo>
                <a:cubicBezTo>
                  <a:pt x="2729" y="9649"/>
                  <a:pt x="3030" y="9532"/>
                  <a:pt x="2977" y="9674"/>
                </a:cubicBezTo>
                <a:cubicBezTo>
                  <a:pt x="2905" y="9769"/>
                  <a:pt x="2884" y="9800"/>
                  <a:pt x="2803" y="9823"/>
                </a:cubicBezTo>
                <a:cubicBezTo>
                  <a:pt x="2803" y="9831"/>
                  <a:pt x="2803" y="9839"/>
                  <a:pt x="2803" y="9847"/>
                </a:cubicBezTo>
                <a:cubicBezTo>
                  <a:pt x="2880" y="9746"/>
                  <a:pt x="3048" y="9827"/>
                  <a:pt x="3051" y="9971"/>
                </a:cubicBezTo>
                <a:cubicBezTo>
                  <a:pt x="3053" y="10050"/>
                  <a:pt x="2902" y="10253"/>
                  <a:pt x="2803" y="10170"/>
                </a:cubicBezTo>
                <a:cubicBezTo>
                  <a:pt x="2803" y="10145"/>
                  <a:pt x="2803" y="10137"/>
                  <a:pt x="2778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10360" y="2589120"/>
            <a:ext cx="463680" cy="795600"/>
          </a:xfrm>
          <a:custGeom>
            <a:avLst/>
            <a:gdLst/>
            <a:ahLst/>
            <a:rect l="l" t="t" r="r" b="b"/>
            <a:pathLst>
              <a:path w="1291" h="2209">
                <a:moveTo>
                  <a:pt x="22895" y="7218"/>
                </a:moveTo>
                <a:cubicBezTo>
                  <a:pt x="22812" y="7218"/>
                  <a:pt x="22752" y="7175"/>
                  <a:pt x="22671" y="7193"/>
                </a:cubicBezTo>
                <a:cubicBezTo>
                  <a:pt x="22607" y="7208"/>
                  <a:pt x="22572" y="7342"/>
                  <a:pt x="22547" y="7392"/>
                </a:cubicBezTo>
                <a:cubicBezTo>
                  <a:pt x="22679" y="7392"/>
                  <a:pt x="22814" y="7383"/>
                  <a:pt x="22944" y="7417"/>
                </a:cubicBezTo>
                <a:cubicBezTo>
                  <a:pt x="22977" y="7433"/>
                  <a:pt x="23011" y="7450"/>
                  <a:pt x="23044" y="7466"/>
                </a:cubicBezTo>
                <a:cubicBezTo>
                  <a:pt x="22998" y="7616"/>
                  <a:pt x="22855" y="7746"/>
                  <a:pt x="22671" y="7640"/>
                </a:cubicBezTo>
                <a:cubicBezTo>
                  <a:pt x="22671" y="7623"/>
                  <a:pt x="22671" y="7607"/>
                  <a:pt x="22671" y="7590"/>
                </a:cubicBezTo>
              </a:path>
              <a:path w="1291" h="2209">
                <a:moveTo>
                  <a:pt x="22250" y="8483"/>
                </a:moveTo>
                <a:cubicBezTo>
                  <a:pt x="22670" y="8554"/>
                  <a:pt x="23090" y="8495"/>
                  <a:pt x="23515" y="8533"/>
                </a:cubicBezTo>
                <a:cubicBezTo>
                  <a:pt x="23523" y="8541"/>
                  <a:pt x="23532" y="8550"/>
                  <a:pt x="23540" y="8558"/>
                </a:cubicBezTo>
              </a:path>
              <a:path w="1291" h="2209">
                <a:moveTo>
                  <a:pt x="22671" y="8905"/>
                </a:moveTo>
                <a:cubicBezTo>
                  <a:pt x="22791" y="8885"/>
                  <a:pt x="22875" y="8881"/>
                  <a:pt x="22994" y="8905"/>
                </a:cubicBezTo>
                <a:cubicBezTo>
                  <a:pt x="22881" y="9108"/>
                  <a:pt x="22724" y="9196"/>
                  <a:pt x="22523" y="9327"/>
                </a:cubicBezTo>
                <a:cubicBezTo>
                  <a:pt x="22741" y="9410"/>
                  <a:pt x="22891" y="9396"/>
                  <a:pt x="23118" y="9376"/>
                </a:cubicBezTo>
                <a:cubicBezTo>
                  <a:pt x="23126" y="9376"/>
                  <a:pt x="23135" y="9376"/>
                  <a:pt x="23143" y="9376"/>
                </a:cubicBezTo>
              </a:path>
              <a:path w="1291" h="2209">
                <a:moveTo>
                  <a:pt x="22349" y="8037"/>
                </a:moveTo>
                <a:cubicBezTo>
                  <a:pt x="22280" y="8037"/>
                  <a:pt x="22462" y="8061"/>
                  <a:pt x="22473" y="8062"/>
                </a:cubicBezTo>
                <a:cubicBezTo>
                  <a:pt x="22481" y="8062"/>
                  <a:pt x="22490" y="8062"/>
                  <a:pt x="22498" y="8062"/>
                </a:cubicBezTo>
              </a:path>
              <a:path w="1291" h="2209">
                <a:moveTo>
                  <a:pt x="22796" y="7987"/>
                </a:moveTo>
                <a:cubicBezTo>
                  <a:pt x="22864" y="7933"/>
                  <a:pt x="23014" y="7875"/>
                  <a:pt x="23019" y="7962"/>
                </a:cubicBezTo>
                <a:cubicBezTo>
                  <a:pt x="22993" y="8040"/>
                  <a:pt x="22982" y="8067"/>
                  <a:pt x="22920" y="8086"/>
                </a:cubicBezTo>
                <a:cubicBezTo>
                  <a:pt x="22905" y="8115"/>
                  <a:pt x="23047" y="8089"/>
                  <a:pt x="23068" y="8235"/>
                </a:cubicBezTo>
                <a:cubicBezTo>
                  <a:pt x="23090" y="8388"/>
                  <a:pt x="22849" y="8373"/>
                  <a:pt x="22771" y="8334"/>
                </a:cubicBezTo>
                <a:cubicBezTo>
                  <a:pt x="22741" y="8305"/>
                  <a:pt x="22726" y="8294"/>
                  <a:pt x="22696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840" y="5991120"/>
            <a:ext cx="196920" cy="29556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1141" y="16793"/>
                </a:moveTo>
                <a:cubicBezTo>
                  <a:pt x="1124" y="16891"/>
                  <a:pt x="1103" y="16992"/>
                  <a:pt x="1091" y="17090"/>
                </a:cubicBezTo>
                <a:cubicBezTo>
                  <a:pt x="1183" y="17075"/>
                  <a:pt x="1272" y="17037"/>
                  <a:pt x="1364" y="17016"/>
                </a:cubicBezTo>
                <a:cubicBezTo>
                  <a:pt x="1389" y="17016"/>
                  <a:pt x="1397" y="17016"/>
                  <a:pt x="1414" y="17016"/>
                </a:cubicBezTo>
              </a:path>
              <a:path w="547" h="819">
                <a:moveTo>
                  <a:pt x="1191" y="16644"/>
                </a:moveTo>
                <a:cubicBezTo>
                  <a:pt x="1191" y="16853"/>
                  <a:pt x="1175" y="17056"/>
                  <a:pt x="1166" y="17264"/>
                </a:cubicBezTo>
                <a:cubicBezTo>
                  <a:pt x="1159" y="17426"/>
                  <a:pt x="1164" y="17535"/>
                  <a:pt x="1265" y="17363"/>
                </a:cubicBezTo>
              </a:path>
              <a:path w="547" h="819">
                <a:moveTo>
                  <a:pt x="893" y="16644"/>
                </a:moveTo>
                <a:cubicBezTo>
                  <a:pt x="833" y="16664"/>
                  <a:pt x="884" y="16787"/>
                  <a:pt x="893" y="16842"/>
                </a:cubicBezTo>
                <a:cubicBezTo>
                  <a:pt x="895" y="16856"/>
                  <a:pt x="925" y="17170"/>
                  <a:pt x="967" y="17165"/>
                </a:cubicBezTo>
                <a:cubicBezTo>
                  <a:pt x="1054" y="17154"/>
                  <a:pt x="1163" y="17140"/>
                  <a:pt x="1265" y="17140"/>
                </a:cubicBezTo>
                <a:cubicBezTo>
                  <a:pt x="1315" y="17140"/>
                  <a:pt x="1364" y="17140"/>
                  <a:pt x="1414" y="171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96080" y="1776240"/>
            <a:ext cx="633600" cy="546120"/>
          </a:xfrm>
          <a:custGeom>
            <a:avLst/>
            <a:gdLst/>
            <a:ahLst/>
            <a:rect l="l" t="t" r="r" b="b"/>
            <a:pathLst>
              <a:path w="1763" h="1514">
                <a:moveTo>
                  <a:pt x="19918" y="5035"/>
                </a:moveTo>
                <a:cubicBezTo>
                  <a:pt x="19920" y="4929"/>
                  <a:pt x="19739" y="5282"/>
                  <a:pt x="19645" y="5407"/>
                </a:cubicBezTo>
                <a:cubicBezTo>
                  <a:pt x="19399" y="5732"/>
                  <a:pt x="19173" y="6124"/>
                  <a:pt x="18876" y="6400"/>
                </a:cubicBezTo>
                <a:cubicBezTo>
                  <a:pt x="18971" y="6273"/>
                  <a:pt x="19028" y="6179"/>
                  <a:pt x="19124" y="6052"/>
                </a:cubicBezTo>
                <a:cubicBezTo>
                  <a:pt x="19369" y="5727"/>
                  <a:pt x="19632" y="5421"/>
                  <a:pt x="19893" y="5110"/>
                </a:cubicBezTo>
                <a:cubicBezTo>
                  <a:pt x="19991" y="4993"/>
                  <a:pt x="19992" y="5011"/>
                  <a:pt x="20042" y="4961"/>
                </a:cubicBezTo>
                <a:cubicBezTo>
                  <a:pt x="20042" y="4936"/>
                  <a:pt x="20042" y="4928"/>
                  <a:pt x="20067" y="4936"/>
                </a:cubicBezTo>
                <a:cubicBezTo>
                  <a:pt x="20104" y="5041"/>
                  <a:pt x="20150" y="5152"/>
                  <a:pt x="20191" y="5259"/>
                </a:cubicBezTo>
                <a:cubicBezTo>
                  <a:pt x="20304" y="5555"/>
                  <a:pt x="20436" y="5853"/>
                  <a:pt x="20538" y="6152"/>
                </a:cubicBezTo>
                <a:cubicBezTo>
                  <a:pt x="20563" y="6226"/>
                  <a:pt x="20562" y="6287"/>
                  <a:pt x="20588" y="6350"/>
                </a:cubicBezTo>
                <a:cubicBezTo>
                  <a:pt x="20613" y="6400"/>
                  <a:pt x="20621" y="6416"/>
                  <a:pt x="20638" y="6449"/>
                </a:cubicBezTo>
                <a:cubicBezTo>
                  <a:pt x="20526" y="6427"/>
                  <a:pt x="20404" y="6386"/>
                  <a:pt x="20290" y="6375"/>
                </a:cubicBezTo>
                <a:cubicBezTo>
                  <a:pt x="20149" y="6362"/>
                  <a:pt x="20007" y="6340"/>
                  <a:pt x="19869" y="6325"/>
                </a:cubicBezTo>
                <a:cubicBezTo>
                  <a:pt x="19730" y="6310"/>
                  <a:pt x="19586" y="6314"/>
                  <a:pt x="19447" y="6300"/>
                </a:cubicBezTo>
                <a:cubicBezTo>
                  <a:pt x="19354" y="6291"/>
                  <a:pt x="19243" y="6257"/>
                  <a:pt x="19149" y="6276"/>
                </a:cubicBezTo>
                <a:cubicBezTo>
                  <a:pt x="19110" y="6284"/>
                  <a:pt x="19086" y="6289"/>
                  <a:pt x="19050" y="63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58080" y="1751040"/>
            <a:ext cx="285840" cy="579240"/>
          </a:xfrm>
          <a:custGeom>
            <a:avLst/>
            <a:gdLst/>
            <a:ahLst/>
            <a:rect l="l" t="t" r="r" b="b"/>
            <a:pathLst>
              <a:path w="795" h="1613">
                <a:moveTo>
                  <a:pt x="22151" y="4887"/>
                </a:moveTo>
                <a:cubicBezTo>
                  <a:pt x="22172" y="4901"/>
                  <a:pt x="22229" y="4898"/>
                  <a:pt x="22299" y="4887"/>
                </a:cubicBezTo>
                <a:cubicBezTo>
                  <a:pt x="22377" y="4868"/>
                  <a:pt x="22394" y="4843"/>
                  <a:pt x="22423" y="4887"/>
                </a:cubicBezTo>
                <a:cubicBezTo>
                  <a:pt x="22408" y="5037"/>
                  <a:pt x="22373" y="5038"/>
                  <a:pt x="22275" y="5110"/>
                </a:cubicBezTo>
                <a:cubicBezTo>
                  <a:pt x="22283" y="5110"/>
                  <a:pt x="22291" y="5110"/>
                  <a:pt x="22299" y="5110"/>
                </a:cubicBezTo>
                <a:cubicBezTo>
                  <a:pt x="22398" y="5128"/>
                  <a:pt x="22508" y="5158"/>
                  <a:pt x="22399" y="5283"/>
                </a:cubicBezTo>
                <a:cubicBezTo>
                  <a:pt x="22341" y="5350"/>
                  <a:pt x="22276" y="5333"/>
                  <a:pt x="22200" y="5333"/>
                </a:cubicBezTo>
              </a:path>
              <a:path w="795" h="1613">
                <a:moveTo>
                  <a:pt x="22225" y="5531"/>
                </a:moveTo>
                <a:cubicBezTo>
                  <a:pt x="22225" y="5433"/>
                  <a:pt x="22322" y="5461"/>
                  <a:pt x="22399" y="5457"/>
                </a:cubicBezTo>
                <a:cubicBezTo>
                  <a:pt x="22407" y="5457"/>
                  <a:pt x="22415" y="5457"/>
                  <a:pt x="22423" y="5457"/>
                </a:cubicBezTo>
                <a:cubicBezTo>
                  <a:pt x="22410" y="5592"/>
                  <a:pt x="22364" y="5594"/>
                  <a:pt x="22299" y="5680"/>
                </a:cubicBezTo>
                <a:cubicBezTo>
                  <a:pt x="22299" y="5705"/>
                  <a:pt x="22299" y="5713"/>
                  <a:pt x="22299" y="5680"/>
                </a:cubicBezTo>
                <a:cubicBezTo>
                  <a:pt x="22360" y="5680"/>
                  <a:pt x="22473" y="5667"/>
                  <a:pt x="22423" y="5779"/>
                </a:cubicBezTo>
                <a:cubicBezTo>
                  <a:pt x="22392" y="5848"/>
                  <a:pt x="22265" y="5873"/>
                  <a:pt x="22200" y="5879"/>
                </a:cubicBezTo>
                <a:cubicBezTo>
                  <a:pt x="22192" y="5879"/>
                  <a:pt x="22183" y="5879"/>
                  <a:pt x="22175" y="5879"/>
                </a:cubicBezTo>
              </a:path>
              <a:path w="795" h="1613">
                <a:moveTo>
                  <a:pt x="21828" y="5978"/>
                </a:moveTo>
                <a:cubicBezTo>
                  <a:pt x="22053" y="5961"/>
                  <a:pt x="22272" y="5953"/>
                  <a:pt x="22498" y="5953"/>
                </a:cubicBezTo>
                <a:cubicBezTo>
                  <a:pt x="22539" y="5953"/>
                  <a:pt x="22581" y="5953"/>
                  <a:pt x="22622" y="5953"/>
                </a:cubicBezTo>
              </a:path>
              <a:path w="795" h="1613">
                <a:moveTo>
                  <a:pt x="22275" y="6152"/>
                </a:moveTo>
                <a:cubicBezTo>
                  <a:pt x="22283" y="6152"/>
                  <a:pt x="22291" y="6152"/>
                  <a:pt x="22299" y="6152"/>
                </a:cubicBezTo>
                <a:cubicBezTo>
                  <a:pt x="22212" y="6116"/>
                  <a:pt x="22152" y="6220"/>
                  <a:pt x="22101" y="6300"/>
                </a:cubicBezTo>
                <a:cubicBezTo>
                  <a:pt x="22063" y="6359"/>
                  <a:pt x="22061" y="6425"/>
                  <a:pt x="22126" y="6449"/>
                </a:cubicBezTo>
                <a:cubicBezTo>
                  <a:pt x="22226" y="6486"/>
                  <a:pt x="22243" y="6448"/>
                  <a:pt x="22324" y="6400"/>
                </a:cubicBezTo>
                <a:cubicBezTo>
                  <a:pt x="22351" y="6384"/>
                  <a:pt x="22431" y="6313"/>
                  <a:pt x="22423" y="6276"/>
                </a:cubicBezTo>
                <a:cubicBezTo>
                  <a:pt x="22420" y="6261"/>
                  <a:pt x="22387" y="6160"/>
                  <a:pt x="22374" y="6152"/>
                </a:cubicBezTo>
                <a:cubicBezTo>
                  <a:pt x="22349" y="6152"/>
                  <a:pt x="22341" y="6152"/>
                  <a:pt x="22349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Unit 6: 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760" y="5116680"/>
            <a:ext cx="1490400" cy="161640"/>
          </a:xfrm>
          <a:custGeom>
            <a:avLst/>
            <a:gdLst/>
            <a:ahLst/>
            <a:rect l="l" t="t" r="r" b="b"/>
            <a:pathLst>
              <a:path w="4143" h="448">
                <a:moveTo>
                  <a:pt x="10964" y="14660"/>
                </a:moveTo>
                <a:cubicBezTo>
                  <a:pt x="10980" y="14644"/>
                  <a:pt x="10998" y="14601"/>
                  <a:pt x="11088" y="14585"/>
                </a:cubicBezTo>
                <a:cubicBezTo>
                  <a:pt x="11172" y="14570"/>
                  <a:pt x="11278" y="14567"/>
                  <a:pt x="11361" y="14560"/>
                </a:cubicBezTo>
                <a:cubicBezTo>
                  <a:pt x="11436" y="14553"/>
                  <a:pt x="11511" y="14554"/>
                  <a:pt x="11584" y="14536"/>
                </a:cubicBezTo>
                <a:cubicBezTo>
                  <a:pt x="11634" y="14524"/>
                  <a:pt x="11672" y="14513"/>
                  <a:pt x="11733" y="14511"/>
                </a:cubicBezTo>
                <a:cubicBezTo>
                  <a:pt x="11806" y="14508"/>
                  <a:pt x="11839" y="14500"/>
                  <a:pt x="11906" y="14486"/>
                </a:cubicBezTo>
                <a:cubicBezTo>
                  <a:pt x="11984" y="14469"/>
                  <a:pt x="12078" y="14445"/>
                  <a:pt x="12154" y="14436"/>
                </a:cubicBezTo>
                <a:cubicBezTo>
                  <a:pt x="12303" y="14418"/>
                  <a:pt x="12465" y="14355"/>
                  <a:pt x="12601" y="14337"/>
                </a:cubicBezTo>
                <a:cubicBezTo>
                  <a:pt x="12708" y="14323"/>
                  <a:pt x="12815" y="14298"/>
                  <a:pt x="12923" y="14288"/>
                </a:cubicBezTo>
                <a:cubicBezTo>
                  <a:pt x="13007" y="14280"/>
                  <a:pt x="13088" y="14279"/>
                  <a:pt x="13171" y="14263"/>
                </a:cubicBezTo>
                <a:cubicBezTo>
                  <a:pt x="13268" y="14245"/>
                  <a:pt x="13372" y="14223"/>
                  <a:pt x="13469" y="14213"/>
                </a:cubicBezTo>
                <a:cubicBezTo>
                  <a:pt x="13601" y="14199"/>
                  <a:pt x="13764" y="14201"/>
                  <a:pt x="13891" y="14238"/>
                </a:cubicBezTo>
                <a:cubicBezTo>
                  <a:pt x="14046" y="14283"/>
                  <a:pt x="14203" y="14326"/>
                  <a:pt x="14362" y="14337"/>
                </a:cubicBezTo>
                <a:cubicBezTo>
                  <a:pt x="14495" y="14346"/>
                  <a:pt x="14633" y="14350"/>
                  <a:pt x="14759" y="14362"/>
                </a:cubicBezTo>
                <a:cubicBezTo>
                  <a:pt x="14906" y="14376"/>
                  <a:pt x="15005" y="14384"/>
                  <a:pt x="15081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sec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to bisect means to cut something in half, bi = 2 and ‘sect’ = to cut…remember the word ‘disect’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or line that bisects another ray or line at a 90°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: a ray that divides an angle into 2 new angles that have the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mic Sans MS"/>
              </a:rPr>
              <a:t>same degree measure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use the properties of angle bi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6668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6324480"/>
            <a:ext cx="17528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00600" y="5333760"/>
            <a:ext cx="1676520" cy="990360"/>
          </a:xfrm>
          <a:prstGeom prst="line">
            <a:avLst/>
          </a:prstGeom>
          <a:ln w="349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00600" y="4723920"/>
            <a:ext cx="685800" cy="1600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6324480"/>
            <a:ext cx="17524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5638680"/>
            <a:ext cx="60984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5483160"/>
            <a:ext cx="1872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546" y="15230"/>
                </a:moveTo>
                <a:cubicBezTo>
                  <a:pt x="490" y="15380"/>
                  <a:pt x="383" y="15526"/>
                  <a:pt x="322" y="15677"/>
                </a:cubicBezTo>
                <a:cubicBezTo>
                  <a:pt x="298" y="15736"/>
                  <a:pt x="298" y="15770"/>
                  <a:pt x="298" y="15825"/>
                </a:cubicBezTo>
                <a:cubicBezTo>
                  <a:pt x="434" y="15825"/>
                  <a:pt x="560" y="15824"/>
                  <a:pt x="695" y="15801"/>
                </a:cubicBezTo>
                <a:cubicBezTo>
                  <a:pt x="769" y="15782"/>
                  <a:pt x="776" y="15774"/>
                  <a:pt x="819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120" y="5446800"/>
            <a:ext cx="231840" cy="1890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141" y="15255"/>
                </a:moveTo>
                <a:cubicBezTo>
                  <a:pt x="1175" y="15392"/>
                  <a:pt x="1207" y="15508"/>
                  <a:pt x="1215" y="15652"/>
                </a:cubicBezTo>
                <a:cubicBezTo>
                  <a:pt x="1193" y="15513"/>
                  <a:pt x="1154" y="15399"/>
                  <a:pt x="1191" y="15255"/>
                </a:cubicBezTo>
                <a:cubicBezTo>
                  <a:pt x="1235" y="15080"/>
                  <a:pt x="1447" y="15443"/>
                  <a:pt x="1463" y="15478"/>
                </a:cubicBezTo>
                <a:cubicBezTo>
                  <a:pt x="1471" y="15503"/>
                  <a:pt x="1480" y="15528"/>
                  <a:pt x="1488" y="15553"/>
                </a:cubicBezTo>
                <a:cubicBezTo>
                  <a:pt x="1461" y="15444"/>
                  <a:pt x="1426" y="15355"/>
                  <a:pt x="1463" y="15230"/>
                </a:cubicBezTo>
                <a:cubicBezTo>
                  <a:pt x="1480" y="15197"/>
                  <a:pt x="1496" y="15164"/>
                  <a:pt x="1513" y="15131"/>
                </a:cubicBezTo>
                <a:cubicBezTo>
                  <a:pt x="1672" y="15166"/>
                  <a:pt x="1710" y="15303"/>
                  <a:pt x="1761" y="15453"/>
                </a:cubicBezTo>
                <a:cubicBezTo>
                  <a:pt x="1769" y="15486"/>
                  <a:pt x="1778" y="15520"/>
                  <a:pt x="178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5116680"/>
            <a:ext cx="187560" cy="20628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595" y="14213"/>
                </a:moveTo>
                <a:cubicBezTo>
                  <a:pt x="549" y="14401"/>
                  <a:pt x="397" y="14561"/>
                  <a:pt x="273" y="14709"/>
                </a:cubicBezTo>
                <a:cubicBezTo>
                  <a:pt x="248" y="14734"/>
                  <a:pt x="223" y="14759"/>
                  <a:pt x="198" y="14784"/>
                </a:cubicBezTo>
                <a:cubicBezTo>
                  <a:pt x="382" y="14761"/>
                  <a:pt x="543" y="14691"/>
                  <a:pt x="71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7120" y="4964040"/>
            <a:ext cx="581040" cy="270000"/>
          </a:xfrm>
          <a:custGeom>
            <a:avLst/>
            <a:gdLst/>
            <a:ahLst/>
            <a:rect l="l" t="t" r="r" b="b"/>
            <a:pathLst>
              <a:path w="1613" h="746">
                <a:moveTo>
                  <a:pt x="992" y="14188"/>
                </a:moveTo>
                <a:cubicBezTo>
                  <a:pt x="992" y="14118"/>
                  <a:pt x="1014" y="14447"/>
                  <a:pt x="1017" y="14461"/>
                </a:cubicBezTo>
                <a:cubicBezTo>
                  <a:pt x="1037" y="14502"/>
                  <a:pt x="1046" y="14508"/>
                  <a:pt x="1042" y="14536"/>
                </a:cubicBezTo>
                <a:cubicBezTo>
                  <a:pt x="1042" y="14478"/>
                  <a:pt x="1030" y="14389"/>
                  <a:pt x="1017" y="14337"/>
                </a:cubicBezTo>
                <a:cubicBezTo>
                  <a:pt x="1006" y="14295"/>
                  <a:pt x="978" y="14219"/>
                  <a:pt x="1017" y="14238"/>
                </a:cubicBezTo>
                <a:cubicBezTo>
                  <a:pt x="1113" y="14286"/>
                  <a:pt x="1185" y="14366"/>
                  <a:pt x="1265" y="14436"/>
                </a:cubicBezTo>
                <a:cubicBezTo>
                  <a:pt x="1273" y="14444"/>
                  <a:pt x="1282" y="14453"/>
                  <a:pt x="1290" y="14461"/>
                </a:cubicBezTo>
                <a:cubicBezTo>
                  <a:pt x="1268" y="14328"/>
                  <a:pt x="1215" y="14199"/>
                  <a:pt x="1191" y="14064"/>
                </a:cubicBezTo>
                <a:cubicBezTo>
                  <a:pt x="1191" y="14031"/>
                  <a:pt x="1199" y="14023"/>
                  <a:pt x="1240" y="14039"/>
                </a:cubicBezTo>
              </a:path>
              <a:path w="1613" h="746">
                <a:moveTo>
                  <a:pt x="1414" y="14064"/>
                </a:moveTo>
                <a:cubicBezTo>
                  <a:pt x="1433" y="14180"/>
                  <a:pt x="1473" y="14293"/>
                  <a:pt x="1488" y="14412"/>
                </a:cubicBezTo>
                <a:cubicBezTo>
                  <a:pt x="1488" y="14295"/>
                  <a:pt x="1436" y="14178"/>
                  <a:pt x="1439" y="14064"/>
                </a:cubicBezTo>
                <a:cubicBezTo>
                  <a:pt x="1446" y="13798"/>
                  <a:pt x="1707" y="14184"/>
                  <a:pt x="1736" y="14238"/>
                </a:cubicBezTo>
                <a:cubicBezTo>
                  <a:pt x="1744" y="14255"/>
                  <a:pt x="1753" y="14271"/>
                  <a:pt x="1761" y="14288"/>
                </a:cubicBezTo>
                <a:cubicBezTo>
                  <a:pt x="1741" y="14206"/>
                  <a:pt x="1638" y="14007"/>
                  <a:pt x="1761" y="13940"/>
                </a:cubicBezTo>
                <a:cubicBezTo>
                  <a:pt x="1921" y="13853"/>
                  <a:pt x="2037" y="14162"/>
                  <a:pt x="2059" y="14263"/>
                </a:cubicBezTo>
                <a:cubicBezTo>
                  <a:pt x="2059" y="14279"/>
                  <a:pt x="2059" y="14296"/>
                  <a:pt x="2059" y="14312"/>
                </a:cubicBezTo>
              </a:path>
              <a:path w="1613" h="746">
                <a:moveTo>
                  <a:pt x="2183" y="13791"/>
                </a:moveTo>
                <a:cubicBezTo>
                  <a:pt x="2254" y="13919"/>
                  <a:pt x="2279" y="14068"/>
                  <a:pt x="2307" y="14213"/>
                </a:cubicBezTo>
                <a:cubicBezTo>
                  <a:pt x="2307" y="14221"/>
                  <a:pt x="2307" y="14230"/>
                  <a:pt x="2307" y="14238"/>
                </a:cubicBezTo>
                <a:cubicBezTo>
                  <a:pt x="2393" y="14212"/>
                  <a:pt x="2488" y="14195"/>
                  <a:pt x="2580" y="14188"/>
                </a:cubicBezTo>
                <a:cubicBezTo>
                  <a:pt x="2588" y="14188"/>
                  <a:pt x="2596" y="14188"/>
                  <a:pt x="2604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76200" y="3652920"/>
            <a:ext cx="6296040" cy="1455480"/>
          </a:xfrm>
          <a:custGeom>
            <a:avLst/>
            <a:gdLst/>
            <a:ahLst/>
            <a:rect l="l" t="t" r="r" b="b"/>
            <a:pathLst>
              <a:path w="17488" h="4044">
                <a:moveTo>
                  <a:pt x="14734" y="10914"/>
                </a:moveTo>
                <a:cubicBezTo>
                  <a:pt x="14843" y="10881"/>
                  <a:pt x="14920" y="10853"/>
                  <a:pt x="15032" y="10840"/>
                </a:cubicBezTo>
              </a:path>
              <a:path w="17488" h="4044">
                <a:moveTo>
                  <a:pt x="18207" y="10592"/>
                </a:moveTo>
                <a:cubicBezTo>
                  <a:pt x="18207" y="10712"/>
                  <a:pt x="18222" y="10628"/>
                  <a:pt x="18207" y="10616"/>
                </a:cubicBezTo>
                <a:cubicBezTo>
                  <a:pt x="18200" y="10611"/>
                  <a:pt x="18141" y="10546"/>
                  <a:pt x="18132" y="10542"/>
                </a:cubicBezTo>
                <a:cubicBezTo>
                  <a:pt x="18035" y="10500"/>
                  <a:pt x="17985" y="10636"/>
                  <a:pt x="17959" y="10691"/>
                </a:cubicBezTo>
                <a:cubicBezTo>
                  <a:pt x="17925" y="10762"/>
                  <a:pt x="17917" y="10844"/>
                  <a:pt x="17959" y="10914"/>
                </a:cubicBezTo>
                <a:cubicBezTo>
                  <a:pt x="17992" y="10969"/>
                  <a:pt x="18073" y="11002"/>
                  <a:pt x="18132" y="11013"/>
                </a:cubicBezTo>
                <a:cubicBezTo>
                  <a:pt x="18207" y="11027"/>
                  <a:pt x="18264" y="10960"/>
                  <a:pt x="18331" y="10939"/>
                </a:cubicBezTo>
                <a:cubicBezTo>
                  <a:pt x="18359" y="10939"/>
                  <a:pt x="18369" y="10936"/>
                  <a:pt x="18380" y="10914"/>
                </a:cubicBezTo>
              </a:path>
              <a:path w="17488" h="4044">
                <a:moveTo>
                  <a:pt x="18380" y="10914"/>
                </a:moveTo>
                <a:lnTo>
                  <a:pt x="18380" y="10914"/>
                </a:lnTo>
              </a:path>
              <a:path w="17488" h="4044">
                <a:moveTo>
                  <a:pt x="18132" y="10220"/>
                </a:moveTo>
                <a:cubicBezTo>
                  <a:pt x="18100" y="10178"/>
                  <a:pt x="18061" y="10149"/>
                  <a:pt x="18107" y="10195"/>
                </a:cubicBezTo>
                <a:cubicBezTo>
                  <a:pt x="18193" y="10281"/>
                  <a:pt x="18179" y="10171"/>
                  <a:pt x="18157" y="10195"/>
                </a:cubicBezTo>
                <a:cubicBezTo>
                  <a:pt x="18103" y="10254"/>
                  <a:pt x="18154" y="10360"/>
                  <a:pt x="18231" y="10294"/>
                </a:cubicBezTo>
                <a:cubicBezTo>
                  <a:pt x="18257" y="10272"/>
                  <a:pt x="18309" y="10199"/>
                  <a:pt x="18256" y="10195"/>
                </a:cubicBezTo>
                <a:cubicBezTo>
                  <a:pt x="18215" y="10195"/>
                  <a:pt x="18199" y="10187"/>
                  <a:pt x="18207" y="10220"/>
                </a:cubicBezTo>
                <a:cubicBezTo>
                  <a:pt x="18207" y="10239"/>
                  <a:pt x="18318" y="10330"/>
                  <a:pt x="18355" y="10269"/>
                </a:cubicBezTo>
                <a:cubicBezTo>
                  <a:pt x="18421" y="10158"/>
                  <a:pt x="18189" y="10180"/>
                  <a:pt x="18157" y="10195"/>
                </a:cubicBezTo>
                <a:cubicBezTo>
                  <a:pt x="18157" y="10230"/>
                  <a:pt x="18152" y="10247"/>
                  <a:pt x="18132" y="10269"/>
                </a:cubicBezTo>
                <a:cubicBezTo>
                  <a:pt x="18173" y="10269"/>
                  <a:pt x="18198" y="10269"/>
                  <a:pt x="18231" y="10269"/>
                </a:cubicBezTo>
                <a:cubicBezTo>
                  <a:pt x="18243" y="10190"/>
                  <a:pt x="18175" y="10162"/>
                  <a:pt x="18157" y="10244"/>
                </a:cubicBezTo>
                <a:cubicBezTo>
                  <a:pt x="18146" y="10291"/>
                  <a:pt x="18277" y="10279"/>
                  <a:pt x="18256" y="10195"/>
                </a:cubicBezTo>
                <a:cubicBezTo>
                  <a:pt x="18233" y="10104"/>
                  <a:pt x="18162" y="10245"/>
                  <a:pt x="18157" y="10269"/>
                </a:cubicBezTo>
                <a:cubicBezTo>
                  <a:pt x="18175" y="10278"/>
                  <a:pt x="18268" y="10290"/>
                  <a:pt x="18256" y="10220"/>
                </a:cubicBezTo>
                <a:cubicBezTo>
                  <a:pt x="18248" y="10220"/>
                  <a:pt x="18239" y="10220"/>
                  <a:pt x="18231" y="10220"/>
                </a:cubicBezTo>
              </a:path>
              <a:path w="17488" h="4044">
                <a:moveTo>
                  <a:pt x="18231" y="10244"/>
                </a:moveTo>
                <a:cubicBezTo>
                  <a:pt x="18218" y="10204"/>
                  <a:pt x="18169" y="10226"/>
                  <a:pt x="18157" y="10269"/>
                </a:cubicBezTo>
                <a:cubicBezTo>
                  <a:pt x="18157" y="10286"/>
                  <a:pt x="18157" y="10302"/>
                  <a:pt x="18157" y="10319"/>
                </a:cubicBezTo>
                <a:cubicBezTo>
                  <a:pt x="18212" y="10297"/>
                  <a:pt x="18231" y="10281"/>
                  <a:pt x="18231" y="10220"/>
                </a:cubicBezTo>
                <a:cubicBezTo>
                  <a:pt x="18231" y="10244"/>
                  <a:pt x="18231" y="10252"/>
                  <a:pt x="18207" y="10244"/>
                </a:cubicBezTo>
              </a:path>
              <a:path w="17488" h="4044">
                <a:moveTo>
                  <a:pt x="18231" y="10319"/>
                </a:moveTo>
                <a:cubicBezTo>
                  <a:pt x="18212" y="10378"/>
                  <a:pt x="18189" y="10310"/>
                  <a:pt x="18157" y="10344"/>
                </a:cubicBezTo>
                <a:cubicBezTo>
                  <a:pt x="18127" y="10377"/>
                  <a:pt x="18125" y="10451"/>
                  <a:pt x="18182" y="10443"/>
                </a:cubicBezTo>
                <a:cubicBezTo>
                  <a:pt x="18198" y="10435"/>
                  <a:pt x="18215" y="10426"/>
                  <a:pt x="18231" y="10418"/>
                </a:cubicBezTo>
                <a:cubicBezTo>
                  <a:pt x="18265" y="10338"/>
                  <a:pt x="18266" y="10344"/>
                  <a:pt x="18182" y="10344"/>
                </a:cubicBezTo>
                <a:cubicBezTo>
                  <a:pt x="18079" y="10344"/>
                  <a:pt x="18259" y="10330"/>
                  <a:pt x="18231" y="10319"/>
                </a:cubicBezTo>
                <a:cubicBezTo>
                  <a:pt x="18196" y="10305"/>
                  <a:pt x="18104" y="10344"/>
                  <a:pt x="18157" y="10344"/>
                </a:cubicBezTo>
                <a:cubicBezTo>
                  <a:pt x="18168" y="10344"/>
                  <a:pt x="18277" y="10315"/>
                  <a:pt x="18231" y="10294"/>
                </a:cubicBezTo>
                <a:cubicBezTo>
                  <a:pt x="18168" y="10266"/>
                  <a:pt x="18029" y="10391"/>
                  <a:pt x="18182" y="10344"/>
                </a:cubicBezTo>
                <a:cubicBezTo>
                  <a:pt x="18326" y="10300"/>
                  <a:pt x="18179" y="10228"/>
                  <a:pt x="18132" y="10220"/>
                </a:cubicBezTo>
                <a:cubicBezTo>
                  <a:pt x="18051" y="10313"/>
                  <a:pt x="18035" y="10307"/>
                  <a:pt x="18157" y="10344"/>
                </a:cubicBezTo>
                <a:cubicBezTo>
                  <a:pt x="18180" y="10330"/>
                  <a:pt x="18319" y="10215"/>
                  <a:pt x="18207" y="10220"/>
                </a:cubicBezTo>
                <a:cubicBezTo>
                  <a:pt x="18101" y="10225"/>
                  <a:pt x="18054" y="10333"/>
                  <a:pt x="18182" y="10344"/>
                </a:cubicBezTo>
                <a:cubicBezTo>
                  <a:pt x="18285" y="10353"/>
                  <a:pt x="18302" y="10322"/>
                  <a:pt x="18331" y="10244"/>
                </a:cubicBezTo>
                <a:cubicBezTo>
                  <a:pt x="18261" y="10229"/>
                  <a:pt x="18092" y="10224"/>
                  <a:pt x="18107" y="10344"/>
                </a:cubicBezTo>
                <a:cubicBezTo>
                  <a:pt x="18115" y="10344"/>
                  <a:pt x="18124" y="10344"/>
                  <a:pt x="18132" y="10344"/>
                </a:cubicBezTo>
                <a:cubicBezTo>
                  <a:pt x="18208" y="10338"/>
                  <a:pt x="18350" y="10278"/>
                  <a:pt x="18281" y="10244"/>
                </a:cubicBezTo>
                <a:cubicBezTo>
                  <a:pt x="18235" y="10221"/>
                  <a:pt x="18088" y="10328"/>
                  <a:pt x="18207" y="10344"/>
                </a:cubicBezTo>
                <a:cubicBezTo>
                  <a:pt x="18274" y="10353"/>
                  <a:pt x="18282" y="10320"/>
                  <a:pt x="18256" y="10294"/>
                </a:cubicBezTo>
              </a:path>
              <a:path w="17488" h="4044">
                <a:moveTo>
                  <a:pt x="21034" y="10468"/>
                </a:moveTo>
                <a:cubicBezTo>
                  <a:pt x="21018" y="10468"/>
                  <a:pt x="21001" y="10468"/>
                  <a:pt x="20985" y="10468"/>
                </a:cubicBezTo>
              </a:path>
              <a:path w="17488" h="4044">
                <a:moveTo>
                  <a:pt x="4465" y="14089"/>
                </a:moveTo>
                <a:cubicBezTo>
                  <a:pt x="4520" y="14075"/>
                  <a:pt x="4506" y="14074"/>
                  <a:pt x="4514" y="14015"/>
                </a:cubicBezTo>
                <a:cubicBezTo>
                  <a:pt x="4446" y="13911"/>
                  <a:pt x="4349" y="14079"/>
                  <a:pt x="4341" y="14163"/>
                </a:cubicBezTo>
                <a:cubicBezTo>
                  <a:pt x="4334" y="14239"/>
                  <a:pt x="4551" y="14139"/>
                  <a:pt x="4539" y="13990"/>
                </a:cubicBezTo>
                <a:cubicBezTo>
                  <a:pt x="4521" y="13767"/>
                  <a:pt x="4337" y="14036"/>
                  <a:pt x="4316" y="14089"/>
                </a:cubicBezTo>
                <a:cubicBezTo>
                  <a:pt x="4358" y="14092"/>
                  <a:pt x="4669" y="13997"/>
                  <a:pt x="4539" y="13915"/>
                </a:cubicBezTo>
                <a:cubicBezTo>
                  <a:pt x="4500" y="13890"/>
                  <a:pt x="4347" y="14034"/>
                  <a:pt x="4440" y="14089"/>
                </a:cubicBezTo>
              </a:path>
              <a:path w="17488" h="4044">
                <a:moveTo>
                  <a:pt x="3547" y="13469"/>
                </a:moveTo>
                <a:cubicBezTo>
                  <a:pt x="3547" y="13337"/>
                  <a:pt x="3547" y="13684"/>
                  <a:pt x="3547" y="13816"/>
                </a:cubicBezTo>
                <a:cubicBezTo>
                  <a:pt x="3547" y="13857"/>
                  <a:pt x="3547" y="13899"/>
                  <a:pt x="3547" y="13940"/>
                </a:cubicBezTo>
                <a:cubicBezTo>
                  <a:pt x="3646" y="13940"/>
                  <a:pt x="3827" y="13795"/>
                  <a:pt x="3919" y="13816"/>
                </a:cubicBezTo>
                <a:cubicBezTo>
                  <a:pt x="3919" y="13824"/>
                  <a:pt x="3919" y="13833"/>
                  <a:pt x="391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2040" y="3133800"/>
            <a:ext cx="1724040" cy="858600"/>
          </a:xfrm>
          <a:custGeom>
            <a:avLst/>
            <a:gdLst/>
            <a:ahLst/>
            <a:rect l="l" t="t" r="r" b="b"/>
            <a:pathLst>
              <a:path w="4788" h="2383">
                <a:moveTo>
                  <a:pt x="14387" y="9996"/>
                </a:moveTo>
                <a:cubicBezTo>
                  <a:pt x="14427" y="9976"/>
                  <a:pt x="14433" y="9967"/>
                  <a:pt x="14461" y="9971"/>
                </a:cubicBezTo>
                <a:cubicBezTo>
                  <a:pt x="14361" y="10103"/>
                  <a:pt x="14273" y="10250"/>
                  <a:pt x="14114" y="10319"/>
                </a:cubicBezTo>
                <a:cubicBezTo>
                  <a:pt x="14089" y="10319"/>
                  <a:pt x="14081" y="10319"/>
                  <a:pt x="14089" y="10344"/>
                </a:cubicBezTo>
                <a:cubicBezTo>
                  <a:pt x="14193" y="10447"/>
                  <a:pt x="14365" y="10493"/>
                  <a:pt x="14511" y="10542"/>
                </a:cubicBezTo>
                <a:cubicBezTo>
                  <a:pt x="14519" y="10542"/>
                  <a:pt x="14528" y="10542"/>
                  <a:pt x="14536" y="10542"/>
                </a:cubicBezTo>
              </a:path>
              <a:path w="4788" h="2383">
                <a:moveTo>
                  <a:pt x="18132" y="10220"/>
                </a:moveTo>
                <a:cubicBezTo>
                  <a:pt x="18156" y="10190"/>
                  <a:pt x="18178" y="10162"/>
                  <a:pt x="18182" y="10096"/>
                </a:cubicBezTo>
                <a:cubicBezTo>
                  <a:pt x="18188" y="9983"/>
                  <a:pt x="18177" y="9871"/>
                  <a:pt x="18157" y="9773"/>
                </a:cubicBezTo>
                <a:cubicBezTo>
                  <a:pt x="18127" y="9622"/>
                  <a:pt x="18120" y="9286"/>
                  <a:pt x="18132" y="9178"/>
                </a:cubicBezTo>
                <a:cubicBezTo>
                  <a:pt x="18139" y="9113"/>
                  <a:pt x="18157" y="9050"/>
                  <a:pt x="18157" y="8979"/>
                </a:cubicBezTo>
                <a:cubicBezTo>
                  <a:pt x="18157" y="8896"/>
                  <a:pt x="18157" y="8814"/>
                  <a:pt x="18157" y="8731"/>
                </a:cubicBezTo>
                <a:cubicBezTo>
                  <a:pt x="18078" y="8797"/>
                  <a:pt x="18011" y="8863"/>
                  <a:pt x="17934" y="8930"/>
                </a:cubicBezTo>
                <a:cubicBezTo>
                  <a:pt x="17904" y="8956"/>
                  <a:pt x="17874" y="8989"/>
                  <a:pt x="17859" y="9004"/>
                </a:cubicBezTo>
                <a:cubicBezTo>
                  <a:pt x="17898" y="8965"/>
                  <a:pt x="17959" y="8872"/>
                  <a:pt x="18008" y="8830"/>
                </a:cubicBezTo>
                <a:cubicBezTo>
                  <a:pt x="18059" y="8786"/>
                  <a:pt x="18129" y="8763"/>
                  <a:pt x="18182" y="8731"/>
                </a:cubicBezTo>
                <a:cubicBezTo>
                  <a:pt x="18230" y="8702"/>
                  <a:pt x="18263" y="8722"/>
                  <a:pt x="18331" y="8781"/>
                </a:cubicBezTo>
                <a:cubicBezTo>
                  <a:pt x="18365" y="8810"/>
                  <a:pt x="18392" y="8815"/>
                  <a:pt x="18430" y="8830"/>
                </a:cubicBezTo>
              </a:path>
              <a:path w="4788" h="2383">
                <a:moveTo>
                  <a:pt x="14908" y="10443"/>
                </a:moveTo>
                <a:cubicBezTo>
                  <a:pt x="14908" y="10400"/>
                  <a:pt x="14921" y="10345"/>
                  <a:pt x="14858" y="10368"/>
                </a:cubicBezTo>
                <a:cubicBezTo>
                  <a:pt x="14841" y="10376"/>
                  <a:pt x="14825" y="10385"/>
                  <a:pt x="14808" y="10393"/>
                </a:cubicBezTo>
                <a:cubicBezTo>
                  <a:pt x="14792" y="10512"/>
                  <a:pt x="14837" y="10643"/>
                  <a:pt x="14982" y="10492"/>
                </a:cubicBezTo>
                <a:cubicBezTo>
                  <a:pt x="15022" y="10451"/>
                  <a:pt x="15081" y="10211"/>
                  <a:pt x="14932" y="10294"/>
                </a:cubicBezTo>
                <a:cubicBezTo>
                  <a:pt x="14837" y="10347"/>
                  <a:pt x="14824" y="10413"/>
                  <a:pt x="14833" y="10492"/>
                </a:cubicBezTo>
                <a:cubicBezTo>
                  <a:pt x="14910" y="10457"/>
                  <a:pt x="15067" y="10243"/>
                  <a:pt x="14982" y="10294"/>
                </a:cubicBezTo>
                <a:cubicBezTo>
                  <a:pt x="14896" y="10345"/>
                  <a:pt x="14896" y="10405"/>
                  <a:pt x="14883" y="10492"/>
                </a:cubicBezTo>
              </a:path>
              <a:path w="4788" h="2383">
                <a:moveTo>
                  <a:pt x="14709" y="10666"/>
                </a:moveTo>
                <a:cubicBezTo>
                  <a:pt x="14773" y="10746"/>
                  <a:pt x="14762" y="10943"/>
                  <a:pt x="14734" y="11063"/>
                </a:cubicBezTo>
                <a:cubicBezTo>
                  <a:pt x="14711" y="11086"/>
                  <a:pt x="14703" y="11097"/>
                  <a:pt x="14709" y="11063"/>
                </a:cubicBezTo>
                <a:cubicBezTo>
                  <a:pt x="14756" y="10911"/>
                  <a:pt x="14765" y="10742"/>
                  <a:pt x="14883" y="10616"/>
                </a:cubicBezTo>
                <a:cubicBezTo>
                  <a:pt x="14891" y="10616"/>
                  <a:pt x="14900" y="10616"/>
                  <a:pt x="14908" y="10616"/>
                </a:cubicBezTo>
                <a:cubicBezTo>
                  <a:pt x="14970" y="10758"/>
                  <a:pt x="15018" y="10883"/>
                  <a:pt x="15032" y="11038"/>
                </a:cubicBezTo>
              </a:path>
              <a:path w="4788" h="2383">
                <a:moveTo>
                  <a:pt x="18579" y="9079"/>
                </a:moveTo>
                <a:cubicBezTo>
                  <a:pt x="18551" y="9135"/>
                  <a:pt x="18534" y="9209"/>
                  <a:pt x="18529" y="9277"/>
                </a:cubicBezTo>
                <a:cubicBezTo>
                  <a:pt x="18529" y="9285"/>
                  <a:pt x="18529" y="9294"/>
                  <a:pt x="18529" y="9302"/>
                </a:cubicBezTo>
              </a:path>
              <a:path w="4788" h="2383">
                <a:moveTo>
                  <a:pt x="18281" y="9029"/>
                </a:moveTo>
                <a:cubicBezTo>
                  <a:pt x="18322" y="8948"/>
                  <a:pt x="18441" y="8979"/>
                  <a:pt x="18529" y="8979"/>
                </a:cubicBezTo>
                <a:cubicBezTo>
                  <a:pt x="18635" y="8979"/>
                  <a:pt x="18797" y="8977"/>
                  <a:pt x="18852" y="9079"/>
                </a:cubicBezTo>
                <a:cubicBezTo>
                  <a:pt x="18910" y="9186"/>
                  <a:pt x="18837" y="9247"/>
                  <a:pt x="18728" y="9277"/>
                </a:cubicBezTo>
                <a:cubicBezTo>
                  <a:pt x="18653" y="9277"/>
                  <a:pt x="18629" y="9277"/>
                  <a:pt x="18579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760" y="4599000"/>
            <a:ext cx="465120" cy="2858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116" y="13047"/>
                </a:moveTo>
                <a:cubicBezTo>
                  <a:pt x="1116" y="13047"/>
                  <a:pt x="1119" y="13329"/>
                  <a:pt x="1141" y="13494"/>
                </a:cubicBezTo>
                <a:cubicBezTo>
                  <a:pt x="1149" y="13519"/>
                  <a:pt x="1158" y="13543"/>
                  <a:pt x="1166" y="13568"/>
                </a:cubicBezTo>
                <a:cubicBezTo>
                  <a:pt x="1234" y="13549"/>
                  <a:pt x="1396" y="13487"/>
                  <a:pt x="1439" y="13444"/>
                </a:cubicBezTo>
                <a:cubicBezTo>
                  <a:pt x="1447" y="13428"/>
                  <a:pt x="1455" y="13411"/>
                  <a:pt x="1463" y="13395"/>
                </a:cubicBezTo>
              </a:path>
              <a:path w="1291" h="795">
                <a:moveTo>
                  <a:pt x="1488" y="13047"/>
                </a:moveTo>
                <a:cubicBezTo>
                  <a:pt x="1492" y="13111"/>
                  <a:pt x="1513" y="13358"/>
                  <a:pt x="1513" y="13320"/>
                </a:cubicBezTo>
                <a:cubicBezTo>
                  <a:pt x="1499" y="13273"/>
                  <a:pt x="1379" y="12905"/>
                  <a:pt x="1538" y="12923"/>
                </a:cubicBezTo>
                <a:cubicBezTo>
                  <a:pt x="1690" y="12940"/>
                  <a:pt x="1717" y="13113"/>
                  <a:pt x="1761" y="13221"/>
                </a:cubicBezTo>
                <a:cubicBezTo>
                  <a:pt x="1780" y="13278"/>
                  <a:pt x="1789" y="13285"/>
                  <a:pt x="1786" y="13320"/>
                </a:cubicBezTo>
                <a:cubicBezTo>
                  <a:pt x="1752" y="13202"/>
                  <a:pt x="1699" y="13101"/>
                  <a:pt x="1761" y="12973"/>
                </a:cubicBezTo>
                <a:cubicBezTo>
                  <a:pt x="1806" y="12928"/>
                  <a:pt x="1815" y="12911"/>
                  <a:pt x="1860" y="12923"/>
                </a:cubicBezTo>
                <a:cubicBezTo>
                  <a:pt x="1988" y="13032"/>
                  <a:pt x="2025" y="13111"/>
                  <a:pt x="2034" y="13295"/>
                </a:cubicBezTo>
                <a:cubicBezTo>
                  <a:pt x="2034" y="13347"/>
                  <a:pt x="2033" y="13362"/>
                  <a:pt x="2009" y="13295"/>
                </a:cubicBezTo>
              </a:path>
              <a:path w="1291" h="795">
                <a:moveTo>
                  <a:pt x="2108" y="12923"/>
                </a:moveTo>
                <a:cubicBezTo>
                  <a:pt x="2131" y="13061"/>
                  <a:pt x="2158" y="13177"/>
                  <a:pt x="2158" y="13320"/>
                </a:cubicBezTo>
                <a:cubicBezTo>
                  <a:pt x="2158" y="13328"/>
                  <a:pt x="2158" y="13337"/>
                  <a:pt x="2158" y="13345"/>
                </a:cubicBezTo>
              </a:path>
              <a:path w="1291" h="795">
                <a:moveTo>
                  <a:pt x="2059" y="12973"/>
                </a:moveTo>
                <a:cubicBezTo>
                  <a:pt x="2153" y="13020"/>
                  <a:pt x="2260" y="13133"/>
                  <a:pt x="2332" y="13221"/>
                </a:cubicBezTo>
                <a:cubicBezTo>
                  <a:pt x="2372" y="13270"/>
                  <a:pt x="2395" y="13286"/>
                  <a:pt x="2406" y="13320"/>
                </a:cubicBezTo>
                <a:cubicBezTo>
                  <a:pt x="2406" y="13195"/>
                  <a:pt x="2366" y="13073"/>
                  <a:pt x="2356" y="12948"/>
                </a:cubicBezTo>
                <a:cubicBezTo>
                  <a:pt x="2356" y="12849"/>
                  <a:pt x="2356" y="12832"/>
                  <a:pt x="2356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000" y="4741920"/>
            <a:ext cx="1429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397" y="13295"/>
                </a:moveTo>
                <a:cubicBezTo>
                  <a:pt x="345" y="13295"/>
                  <a:pt x="344" y="13309"/>
                  <a:pt x="322" y="13320"/>
                </a:cubicBezTo>
                <a:cubicBezTo>
                  <a:pt x="288" y="13338"/>
                  <a:pt x="242" y="13460"/>
                  <a:pt x="223" y="13519"/>
                </a:cubicBezTo>
                <a:cubicBezTo>
                  <a:pt x="199" y="13596"/>
                  <a:pt x="166" y="13692"/>
                  <a:pt x="149" y="13742"/>
                </a:cubicBezTo>
                <a:cubicBezTo>
                  <a:pt x="198" y="13730"/>
                  <a:pt x="239" y="13696"/>
                  <a:pt x="298" y="13692"/>
                </a:cubicBezTo>
                <a:cubicBezTo>
                  <a:pt x="356" y="13688"/>
                  <a:pt x="383" y="13667"/>
                  <a:pt x="446" y="13667"/>
                </a:cubicBezTo>
                <a:cubicBezTo>
                  <a:pt x="479" y="13667"/>
                  <a:pt x="513" y="13667"/>
                  <a:pt x="546" y="13667"/>
                </a:cubicBezTo>
              </a:path>
              <a:path w="398" h="572">
                <a:moveTo>
                  <a:pt x="273" y="13370"/>
                </a:moveTo>
                <a:cubicBezTo>
                  <a:pt x="286" y="13318"/>
                  <a:pt x="331" y="13286"/>
                  <a:pt x="372" y="13246"/>
                </a:cubicBezTo>
                <a:cubicBezTo>
                  <a:pt x="397" y="13221"/>
                  <a:pt x="422" y="13196"/>
                  <a:pt x="446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97360" y="2098800"/>
            <a:ext cx="527400" cy="44280"/>
          </a:xfrm>
          <a:custGeom>
            <a:avLst/>
            <a:gdLst/>
            <a:ahLst/>
            <a:rect l="l" t="t" r="r" b="b"/>
            <a:pathLst>
              <a:path w="1465" h="125">
                <a:moveTo>
                  <a:pt x="15825" y="5829"/>
                </a:moveTo>
                <a:cubicBezTo>
                  <a:pt x="15974" y="5848"/>
                  <a:pt x="16147" y="5884"/>
                  <a:pt x="16297" y="5879"/>
                </a:cubicBezTo>
                <a:cubicBezTo>
                  <a:pt x="16512" y="5873"/>
                  <a:pt x="16704" y="5887"/>
                  <a:pt x="16917" y="5904"/>
                </a:cubicBezTo>
                <a:cubicBezTo>
                  <a:pt x="17017" y="5912"/>
                  <a:pt x="17113" y="5928"/>
                  <a:pt x="17214" y="5928"/>
                </a:cubicBezTo>
                <a:cubicBezTo>
                  <a:pt x="17253" y="5928"/>
                  <a:pt x="17234" y="5953"/>
                  <a:pt x="17289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5640" y="2081160"/>
            <a:ext cx="528480" cy="54000"/>
          </a:xfrm>
          <a:custGeom>
            <a:avLst/>
            <a:gdLst/>
            <a:ahLst/>
            <a:rect l="l" t="t" r="r" b="b"/>
            <a:pathLst>
              <a:path w="1465" h="150">
                <a:moveTo>
                  <a:pt x="15850" y="5928"/>
                </a:moveTo>
                <a:cubicBezTo>
                  <a:pt x="15912" y="5928"/>
                  <a:pt x="15947" y="5921"/>
                  <a:pt x="15999" y="5904"/>
                </a:cubicBezTo>
                <a:cubicBezTo>
                  <a:pt x="16070" y="5881"/>
                  <a:pt x="16199" y="5891"/>
                  <a:pt x="16272" y="5879"/>
                </a:cubicBezTo>
                <a:cubicBezTo>
                  <a:pt x="16336" y="5868"/>
                  <a:pt x="16407" y="5863"/>
                  <a:pt x="16470" y="5854"/>
                </a:cubicBezTo>
                <a:cubicBezTo>
                  <a:pt x="16558" y="5841"/>
                  <a:pt x="16656" y="5840"/>
                  <a:pt x="16743" y="5829"/>
                </a:cubicBezTo>
                <a:cubicBezTo>
                  <a:pt x="16845" y="5817"/>
                  <a:pt x="16939" y="5820"/>
                  <a:pt x="17041" y="5804"/>
                </a:cubicBezTo>
                <a:cubicBezTo>
                  <a:pt x="17093" y="5796"/>
                  <a:pt x="17148" y="5788"/>
                  <a:pt x="17190" y="5779"/>
                </a:cubicBezTo>
                <a:cubicBezTo>
                  <a:pt x="17228" y="5771"/>
                  <a:pt x="17275" y="5779"/>
                  <a:pt x="17314" y="5779"/>
                </a:cubicBezTo>
                <a:cubicBezTo>
                  <a:pt x="17242" y="5791"/>
                  <a:pt x="17160" y="5811"/>
                  <a:pt x="17090" y="5829"/>
                </a:cubicBezTo>
                <a:cubicBezTo>
                  <a:pt x="16998" y="5852"/>
                  <a:pt x="16909" y="5835"/>
                  <a:pt x="16818" y="5854"/>
                </a:cubicBezTo>
                <a:cubicBezTo>
                  <a:pt x="16719" y="5875"/>
                  <a:pt x="16617" y="5883"/>
                  <a:pt x="16520" y="5904"/>
                </a:cubicBezTo>
                <a:cubicBezTo>
                  <a:pt x="16402" y="5930"/>
                  <a:pt x="16335" y="5915"/>
                  <a:pt x="16222" y="5904"/>
                </a:cubicBezTo>
                <a:cubicBezTo>
                  <a:pt x="16158" y="5898"/>
                  <a:pt x="16089" y="5904"/>
                  <a:pt x="16024" y="5904"/>
                </a:cubicBezTo>
                <a:cubicBezTo>
                  <a:pt x="16154" y="5904"/>
                  <a:pt x="16292" y="5893"/>
                  <a:pt x="16421" y="5879"/>
                </a:cubicBezTo>
                <a:cubicBezTo>
                  <a:pt x="16580" y="5861"/>
                  <a:pt x="16731" y="5854"/>
                  <a:pt x="16892" y="5854"/>
                </a:cubicBezTo>
                <a:cubicBezTo>
                  <a:pt x="16917" y="5854"/>
                  <a:pt x="16925" y="5854"/>
                  <a:pt x="16942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4040" y="3098880"/>
            <a:ext cx="1554120" cy="1062000"/>
          </a:xfrm>
          <a:custGeom>
            <a:avLst/>
            <a:gdLst/>
            <a:ahLst/>
            <a:rect l="l" t="t" r="r" b="b"/>
            <a:pathLst>
              <a:path w="4317" h="2953">
                <a:moveTo>
                  <a:pt x="1687" y="8706"/>
                </a:moveTo>
                <a:cubicBezTo>
                  <a:pt x="1739" y="8703"/>
                  <a:pt x="1797" y="8686"/>
                  <a:pt x="1836" y="8682"/>
                </a:cubicBezTo>
                <a:cubicBezTo>
                  <a:pt x="1892" y="8676"/>
                  <a:pt x="1965" y="8661"/>
                  <a:pt x="2009" y="8657"/>
                </a:cubicBezTo>
                <a:cubicBezTo>
                  <a:pt x="2107" y="8647"/>
                  <a:pt x="2214" y="8641"/>
                  <a:pt x="2307" y="8632"/>
                </a:cubicBezTo>
                <a:cubicBezTo>
                  <a:pt x="2486" y="8615"/>
                  <a:pt x="2687" y="8622"/>
                  <a:pt x="2853" y="8607"/>
                </a:cubicBezTo>
                <a:cubicBezTo>
                  <a:pt x="2899" y="8603"/>
                  <a:pt x="2975" y="8634"/>
                  <a:pt x="3001" y="8632"/>
                </a:cubicBezTo>
                <a:cubicBezTo>
                  <a:pt x="3046" y="8628"/>
                  <a:pt x="3081" y="8610"/>
                  <a:pt x="3125" y="8607"/>
                </a:cubicBezTo>
                <a:cubicBezTo>
                  <a:pt x="3189" y="8603"/>
                  <a:pt x="3222" y="8627"/>
                  <a:pt x="3274" y="8632"/>
                </a:cubicBezTo>
                <a:cubicBezTo>
                  <a:pt x="3336" y="8638"/>
                  <a:pt x="3387" y="8651"/>
                  <a:pt x="3448" y="8657"/>
                </a:cubicBezTo>
                <a:cubicBezTo>
                  <a:pt x="3726" y="8685"/>
                  <a:pt x="4018" y="8655"/>
                  <a:pt x="4291" y="8682"/>
                </a:cubicBezTo>
                <a:cubicBezTo>
                  <a:pt x="4359" y="8689"/>
                  <a:pt x="4422" y="8694"/>
                  <a:pt x="4490" y="8706"/>
                </a:cubicBezTo>
                <a:cubicBezTo>
                  <a:pt x="4571" y="8721"/>
                  <a:pt x="4656" y="8745"/>
                  <a:pt x="4738" y="8756"/>
                </a:cubicBezTo>
                <a:cubicBezTo>
                  <a:pt x="4816" y="8767"/>
                  <a:pt x="4914" y="8775"/>
                  <a:pt x="4986" y="8781"/>
                </a:cubicBezTo>
                <a:cubicBezTo>
                  <a:pt x="5079" y="8789"/>
                  <a:pt x="5167" y="8803"/>
                  <a:pt x="5259" y="8806"/>
                </a:cubicBezTo>
                <a:cubicBezTo>
                  <a:pt x="5393" y="8811"/>
                  <a:pt x="5538" y="8812"/>
                  <a:pt x="5655" y="8781"/>
                </a:cubicBezTo>
                <a:cubicBezTo>
                  <a:pt x="5725" y="8762"/>
                  <a:pt x="5781" y="8742"/>
                  <a:pt x="5854" y="8731"/>
                </a:cubicBezTo>
              </a:path>
              <a:path w="4317" h="2953">
                <a:moveTo>
                  <a:pt x="1538" y="11559"/>
                </a:moveTo>
                <a:cubicBezTo>
                  <a:pt x="1593" y="11526"/>
                  <a:pt x="1611" y="11534"/>
                  <a:pt x="1687" y="11534"/>
                </a:cubicBezTo>
                <a:cubicBezTo>
                  <a:pt x="1817" y="11534"/>
                  <a:pt x="1936" y="11530"/>
                  <a:pt x="2059" y="11509"/>
                </a:cubicBezTo>
                <a:cubicBezTo>
                  <a:pt x="2131" y="11497"/>
                  <a:pt x="2219" y="11496"/>
                  <a:pt x="2282" y="11485"/>
                </a:cubicBezTo>
                <a:cubicBezTo>
                  <a:pt x="2355" y="11472"/>
                  <a:pt x="2441" y="11473"/>
                  <a:pt x="2505" y="11460"/>
                </a:cubicBezTo>
                <a:cubicBezTo>
                  <a:pt x="2557" y="11450"/>
                  <a:pt x="2623" y="11482"/>
                  <a:pt x="2679" y="11485"/>
                </a:cubicBezTo>
                <a:cubicBezTo>
                  <a:pt x="2743" y="11488"/>
                  <a:pt x="2790" y="11506"/>
                  <a:pt x="2853" y="11509"/>
                </a:cubicBezTo>
                <a:cubicBezTo>
                  <a:pt x="2965" y="11515"/>
                  <a:pt x="3070" y="11502"/>
                  <a:pt x="3175" y="11485"/>
                </a:cubicBezTo>
                <a:cubicBezTo>
                  <a:pt x="3246" y="11474"/>
                  <a:pt x="3326" y="11485"/>
                  <a:pt x="3398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16680" y="3633840"/>
            <a:ext cx="3135240" cy="189000"/>
          </a:xfrm>
          <a:custGeom>
            <a:avLst/>
            <a:gdLst/>
            <a:ahLst/>
            <a:rect l="l" t="t" r="r" b="b"/>
            <a:pathLst>
              <a:path w="8708" h="521">
                <a:moveTo>
                  <a:pt x="14213" y="10319"/>
                </a:moveTo>
                <a:cubicBezTo>
                  <a:pt x="14280" y="10321"/>
                  <a:pt x="14320" y="10313"/>
                  <a:pt x="14387" y="10319"/>
                </a:cubicBezTo>
                <a:cubicBezTo>
                  <a:pt x="14584" y="10338"/>
                  <a:pt x="14782" y="10365"/>
                  <a:pt x="14982" y="10368"/>
                </a:cubicBezTo>
                <a:cubicBezTo>
                  <a:pt x="15532" y="10376"/>
                  <a:pt x="16098" y="10398"/>
                  <a:pt x="16644" y="10344"/>
                </a:cubicBezTo>
                <a:cubicBezTo>
                  <a:pt x="16801" y="10328"/>
                  <a:pt x="16958" y="10331"/>
                  <a:pt x="17115" y="10319"/>
                </a:cubicBezTo>
                <a:cubicBezTo>
                  <a:pt x="17296" y="10305"/>
                  <a:pt x="17478" y="10306"/>
                  <a:pt x="17661" y="10294"/>
                </a:cubicBezTo>
                <a:cubicBezTo>
                  <a:pt x="17843" y="10282"/>
                  <a:pt x="18022" y="10269"/>
                  <a:pt x="18207" y="10269"/>
                </a:cubicBezTo>
                <a:cubicBezTo>
                  <a:pt x="18425" y="10269"/>
                  <a:pt x="18635" y="10290"/>
                  <a:pt x="18852" y="10294"/>
                </a:cubicBezTo>
                <a:cubicBezTo>
                  <a:pt x="19175" y="10299"/>
                  <a:pt x="19497" y="10315"/>
                  <a:pt x="19819" y="10319"/>
                </a:cubicBezTo>
                <a:cubicBezTo>
                  <a:pt x="20126" y="10323"/>
                  <a:pt x="20429" y="10344"/>
                  <a:pt x="20737" y="10344"/>
                </a:cubicBezTo>
                <a:cubicBezTo>
                  <a:pt x="21020" y="10344"/>
                  <a:pt x="21299" y="10331"/>
                  <a:pt x="21580" y="10319"/>
                </a:cubicBezTo>
                <a:cubicBezTo>
                  <a:pt x="21911" y="10305"/>
                  <a:pt x="22242" y="10323"/>
                  <a:pt x="22572" y="10294"/>
                </a:cubicBezTo>
                <a:cubicBezTo>
                  <a:pt x="22656" y="10287"/>
                  <a:pt x="22688" y="10277"/>
                  <a:pt x="22771" y="10269"/>
                </a:cubicBezTo>
                <a:cubicBezTo>
                  <a:pt x="22647" y="10198"/>
                  <a:pt x="22527" y="10151"/>
                  <a:pt x="22399" y="10096"/>
                </a:cubicBezTo>
                <a:cubicBezTo>
                  <a:pt x="22489" y="10137"/>
                  <a:pt x="22533" y="10152"/>
                  <a:pt x="22622" y="10195"/>
                </a:cubicBezTo>
                <a:cubicBezTo>
                  <a:pt x="22741" y="10253"/>
                  <a:pt x="22850" y="10341"/>
                  <a:pt x="22920" y="10393"/>
                </a:cubicBezTo>
                <a:cubicBezTo>
                  <a:pt x="22786" y="10462"/>
                  <a:pt x="22638" y="10522"/>
                  <a:pt x="22498" y="10592"/>
                </a:cubicBezTo>
                <a:cubicBezTo>
                  <a:pt x="22490" y="10600"/>
                  <a:pt x="22481" y="10608"/>
                  <a:pt x="22473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77080" y="3697200"/>
            <a:ext cx="144720" cy="276480"/>
          </a:xfrm>
          <a:custGeom>
            <a:avLst/>
            <a:gdLst/>
            <a:ahLst/>
            <a:rect l="l" t="t" r="r" b="b"/>
            <a:pathLst>
              <a:path w="398" h="770">
                <a:moveTo>
                  <a:pt x="21977" y="10319"/>
                </a:moveTo>
                <a:cubicBezTo>
                  <a:pt x="21915" y="10319"/>
                  <a:pt x="21887" y="10280"/>
                  <a:pt x="21828" y="10319"/>
                </a:cubicBezTo>
                <a:cubicBezTo>
                  <a:pt x="21772" y="10356"/>
                  <a:pt x="21721" y="10479"/>
                  <a:pt x="21853" y="10418"/>
                </a:cubicBezTo>
                <a:cubicBezTo>
                  <a:pt x="22013" y="10343"/>
                  <a:pt x="21881" y="10326"/>
                  <a:pt x="21803" y="10319"/>
                </a:cubicBezTo>
                <a:cubicBezTo>
                  <a:pt x="21767" y="10367"/>
                  <a:pt x="21712" y="10527"/>
                  <a:pt x="21878" y="10443"/>
                </a:cubicBezTo>
                <a:cubicBezTo>
                  <a:pt x="21975" y="10394"/>
                  <a:pt x="21964" y="10318"/>
                  <a:pt x="21927" y="10269"/>
                </a:cubicBezTo>
                <a:cubicBezTo>
                  <a:pt x="21887" y="10298"/>
                  <a:pt x="21730" y="10480"/>
                  <a:pt x="21878" y="10393"/>
                </a:cubicBezTo>
                <a:cubicBezTo>
                  <a:pt x="21959" y="10333"/>
                  <a:pt x="21982" y="10328"/>
                  <a:pt x="22002" y="10269"/>
                </a:cubicBezTo>
              </a:path>
              <a:path w="398" h="770">
                <a:moveTo>
                  <a:pt x="21754" y="10666"/>
                </a:moveTo>
                <a:cubicBezTo>
                  <a:pt x="21754" y="10781"/>
                  <a:pt x="21743" y="10876"/>
                  <a:pt x="21729" y="10988"/>
                </a:cubicBezTo>
              </a:path>
              <a:path w="398" h="770">
                <a:moveTo>
                  <a:pt x="21605" y="10616"/>
                </a:moveTo>
                <a:cubicBezTo>
                  <a:pt x="21693" y="10580"/>
                  <a:pt x="21813" y="10581"/>
                  <a:pt x="21903" y="10641"/>
                </a:cubicBezTo>
                <a:cubicBezTo>
                  <a:pt x="22024" y="10722"/>
                  <a:pt x="21869" y="10785"/>
                  <a:pt x="21803" y="10815"/>
                </a:cubicBezTo>
                <a:cubicBezTo>
                  <a:pt x="21787" y="10815"/>
                  <a:pt x="21770" y="10815"/>
                  <a:pt x="21754" y="10815"/>
                </a:cubicBezTo>
                <a:cubicBezTo>
                  <a:pt x="21838" y="10787"/>
                  <a:pt x="21959" y="10778"/>
                  <a:pt x="22002" y="10889"/>
                </a:cubicBezTo>
                <a:cubicBezTo>
                  <a:pt x="22002" y="10914"/>
                  <a:pt x="22002" y="10939"/>
                  <a:pt x="22002" y="10964"/>
                </a:cubicBezTo>
                <a:cubicBezTo>
                  <a:pt x="21897" y="11045"/>
                  <a:pt x="21855" y="11038"/>
                  <a:pt x="21729" y="11013"/>
                </a:cubicBezTo>
                <a:cubicBezTo>
                  <a:pt x="21721" y="11013"/>
                  <a:pt x="21712" y="11013"/>
                  <a:pt x="2170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3840" y="2840040"/>
            <a:ext cx="588960" cy="1108080"/>
          </a:xfrm>
          <a:custGeom>
            <a:avLst/>
            <a:gdLst/>
            <a:ahLst/>
            <a:rect l="l" t="t" r="r" b="b"/>
            <a:pathLst>
              <a:path w="1638" h="3077">
                <a:moveTo>
                  <a:pt x="23366" y="8533"/>
                </a:moveTo>
                <a:cubicBezTo>
                  <a:pt x="23366" y="8417"/>
                  <a:pt x="23366" y="8714"/>
                  <a:pt x="23366" y="8830"/>
                </a:cubicBezTo>
                <a:cubicBezTo>
                  <a:pt x="23366" y="8905"/>
                  <a:pt x="23366" y="8963"/>
                  <a:pt x="23366" y="8905"/>
                </a:cubicBezTo>
              </a:path>
              <a:path w="1638" h="3077">
                <a:moveTo>
                  <a:pt x="23366" y="8558"/>
                </a:moveTo>
                <a:cubicBezTo>
                  <a:pt x="23399" y="8509"/>
                  <a:pt x="23481" y="8469"/>
                  <a:pt x="23564" y="8508"/>
                </a:cubicBezTo>
                <a:cubicBezTo>
                  <a:pt x="23720" y="8581"/>
                  <a:pt x="23753" y="8752"/>
                  <a:pt x="23763" y="8905"/>
                </a:cubicBezTo>
                <a:cubicBezTo>
                  <a:pt x="23763" y="8913"/>
                  <a:pt x="23763" y="8922"/>
                  <a:pt x="23763" y="8930"/>
                </a:cubicBezTo>
              </a:path>
              <a:path w="1638" h="3077">
                <a:moveTo>
                  <a:pt x="23416" y="8731"/>
                </a:moveTo>
                <a:cubicBezTo>
                  <a:pt x="23523" y="8731"/>
                  <a:pt x="23631" y="8731"/>
                  <a:pt x="23738" y="8731"/>
                </a:cubicBezTo>
              </a:path>
              <a:path w="1638" h="3077">
                <a:moveTo>
                  <a:pt x="23986" y="8582"/>
                </a:moveTo>
                <a:cubicBezTo>
                  <a:pt x="24054" y="8633"/>
                  <a:pt x="24075" y="8758"/>
                  <a:pt x="24085" y="8855"/>
                </a:cubicBezTo>
                <a:cubicBezTo>
                  <a:pt x="24085" y="8863"/>
                  <a:pt x="24085" y="8872"/>
                  <a:pt x="24085" y="8880"/>
                </a:cubicBezTo>
              </a:path>
              <a:path w="1638" h="3077">
                <a:moveTo>
                  <a:pt x="23837" y="8483"/>
                </a:moveTo>
                <a:cubicBezTo>
                  <a:pt x="23957" y="8464"/>
                  <a:pt x="24048" y="8441"/>
                  <a:pt x="24160" y="8483"/>
                </a:cubicBezTo>
                <a:cubicBezTo>
                  <a:pt x="24115" y="8539"/>
                  <a:pt x="24027" y="8593"/>
                  <a:pt x="24011" y="8657"/>
                </a:cubicBezTo>
                <a:cubicBezTo>
                  <a:pt x="24094" y="8648"/>
                  <a:pt x="24187" y="8611"/>
                  <a:pt x="24259" y="8682"/>
                </a:cubicBezTo>
                <a:cubicBezTo>
                  <a:pt x="24386" y="8808"/>
                  <a:pt x="24201" y="8921"/>
                  <a:pt x="24085" y="8954"/>
                </a:cubicBezTo>
                <a:cubicBezTo>
                  <a:pt x="24028" y="8954"/>
                  <a:pt x="24003" y="8971"/>
                  <a:pt x="24011" y="8930"/>
                </a:cubicBezTo>
              </a:path>
              <a:path w="1638" h="3077">
                <a:moveTo>
                  <a:pt x="23118" y="8111"/>
                </a:moveTo>
                <a:cubicBezTo>
                  <a:pt x="23140" y="8111"/>
                  <a:pt x="23214" y="8136"/>
                  <a:pt x="23217" y="8136"/>
                </a:cubicBezTo>
                <a:cubicBezTo>
                  <a:pt x="23311" y="8123"/>
                  <a:pt x="23418" y="8126"/>
                  <a:pt x="23515" y="8111"/>
                </a:cubicBezTo>
                <a:cubicBezTo>
                  <a:pt x="23640" y="8092"/>
                  <a:pt x="23763" y="8080"/>
                  <a:pt x="23887" y="8062"/>
                </a:cubicBezTo>
                <a:cubicBezTo>
                  <a:pt x="23981" y="8048"/>
                  <a:pt x="24071" y="8034"/>
                  <a:pt x="24160" y="8012"/>
                </a:cubicBezTo>
                <a:cubicBezTo>
                  <a:pt x="24234" y="7994"/>
                  <a:pt x="24111" y="7967"/>
                  <a:pt x="24085" y="7938"/>
                </a:cubicBezTo>
                <a:cubicBezTo>
                  <a:pt x="24071" y="7922"/>
                  <a:pt x="24068" y="7910"/>
                  <a:pt x="24061" y="7888"/>
                </a:cubicBezTo>
                <a:cubicBezTo>
                  <a:pt x="24125" y="7888"/>
                  <a:pt x="24166" y="7930"/>
                  <a:pt x="24209" y="7962"/>
                </a:cubicBezTo>
                <a:cubicBezTo>
                  <a:pt x="24284" y="8017"/>
                  <a:pt x="24091" y="8098"/>
                  <a:pt x="24061" y="8136"/>
                </a:cubicBezTo>
                <a:cubicBezTo>
                  <a:pt x="24046" y="8155"/>
                  <a:pt x="24102" y="8138"/>
                  <a:pt x="24110" y="8161"/>
                </a:cubicBezTo>
              </a:path>
              <a:path w="1638" h="3077">
                <a:moveTo>
                  <a:pt x="23242" y="7962"/>
                </a:moveTo>
                <a:cubicBezTo>
                  <a:pt x="23232" y="7993"/>
                  <a:pt x="23156" y="8080"/>
                  <a:pt x="23118" y="8111"/>
                </a:cubicBezTo>
                <a:cubicBezTo>
                  <a:pt x="23110" y="8111"/>
                  <a:pt x="23101" y="8111"/>
                  <a:pt x="23093" y="8111"/>
                </a:cubicBezTo>
                <a:cubicBezTo>
                  <a:pt x="23131" y="8143"/>
                  <a:pt x="23190" y="8217"/>
                  <a:pt x="23217" y="8235"/>
                </a:cubicBezTo>
                <a:cubicBezTo>
                  <a:pt x="23225" y="8235"/>
                  <a:pt x="23234" y="8235"/>
                  <a:pt x="23242" y="8235"/>
                </a:cubicBezTo>
              </a:path>
              <a:path w="1638" h="3077">
                <a:moveTo>
                  <a:pt x="23614" y="9748"/>
                </a:moveTo>
                <a:cubicBezTo>
                  <a:pt x="23640" y="9739"/>
                  <a:pt x="23660" y="9730"/>
                  <a:pt x="23664" y="9699"/>
                </a:cubicBezTo>
                <a:cubicBezTo>
                  <a:pt x="23664" y="9671"/>
                  <a:pt x="23662" y="9660"/>
                  <a:pt x="23639" y="9649"/>
                </a:cubicBezTo>
                <a:cubicBezTo>
                  <a:pt x="23476" y="9703"/>
                  <a:pt x="23432" y="9848"/>
                  <a:pt x="23440" y="10021"/>
                </a:cubicBezTo>
                <a:cubicBezTo>
                  <a:pt x="23449" y="10215"/>
                  <a:pt x="23690" y="10143"/>
                  <a:pt x="23812" y="10096"/>
                </a:cubicBezTo>
                <a:cubicBezTo>
                  <a:pt x="23820" y="10088"/>
                  <a:pt x="23829" y="10079"/>
                  <a:pt x="23837" y="10071"/>
                </a:cubicBezTo>
              </a:path>
              <a:path w="1638" h="3077">
                <a:moveTo>
                  <a:pt x="23961" y="9674"/>
                </a:moveTo>
                <a:cubicBezTo>
                  <a:pt x="23970" y="9799"/>
                  <a:pt x="23986" y="9919"/>
                  <a:pt x="23986" y="10046"/>
                </a:cubicBezTo>
              </a:path>
              <a:path w="1638" h="3077">
                <a:moveTo>
                  <a:pt x="23837" y="9674"/>
                </a:moveTo>
                <a:cubicBezTo>
                  <a:pt x="24006" y="9651"/>
                  <a:pt x="24174" y="9654"/>
                  <a:pt x="24185" y="9872"/>
                </a:cubicBezTo>
                <a:cubicBezTo>
                  <a:pt x="24190" y="9974"/>
                  <a:pt x="24049" y="10137"/>
                  <a:pt x="23937" y="10096"/>
                </a:cubicBezTo>
                <a:cubicBezTo>
                  <a:pt x="23898" y="10057"/>
                  <a:pt x="23866" y="10040"/>
                  <a:pt x="23912" y="10046"/>
                </a:cubicBezTo>
              </a:path>
              <a:path w="1638" h="3077">
                <a:moveTo>
                  <a:pt x="23416" y="9451"/>
                </a:moveTo>
                <a:cubicBezTo>
                  <a:pt x="23533" y="9451"/>
                  <a:pt x="23648" y="9421"/>
                  <a:pt x="23763" y="9401"/>
                </a:cubicBezTo>
                <a:cubicBezTo>
                  <a:pt x="23804" y="9394"/>
                  <a:pt x="24133" y="9368"/>
                  <a:pt x="24110" y="9351"/>
                </a:cubicBezTo>
                <a:cubicBezTo>
                  <a:pt x="24085" y="9351"/>
                  <a:pt x="24077" y="9351"/>
                  <a:pt x="24061" y="9351"/>
                </a:cubicBezTo>
              </a:path>
              <a:path w="1638" h="3077">
                <a:moveTo>
                  <a:pt x="24011" y="9277"/>
                </a:moveTo>
                <a:cubicBezTo>
                  <a:pt x="24025" y="9256"/>
                  <a:pt x="24090" y="9229"/>
                  <a:pt x="24135" y="9252"/>
                </a:cubicBezTo>
                <a:cubicBezTo>
                  <a:pt x="24191" y="9290"/>
                  <a:pt x="24194" y="9307"/>
                  <a:pt x="24234" y="9302"/>
                </a:cubicBezTo>
                <a:cubicBezTo>
                  <a:pt x="24215" y="9360"/>
                  <a:pt x="24113" y="9409"/>
                  <a:pt x="24085" y="9500"/>
                </a:cubicBezTo>
                <a:cubicBezTo>
                  <a:pt x="24065" y="9567"/>
                  <a:pt x="24096" y="9550"/>
                  <a:pt x="24135" y="9550"/>
                </a:cubicBezTo>
              </a:path>
              <a:path w="1638" h="3077">
                <a:moveTo>
                  <a:pt x="24061" y="9277"/>
                </a:moveTo>
                <a:cubicBezTo>
                  <a:pt x="24061" y="9233"/>
                  <a:pt x="24063" y="9238"/>
                  <a:pt x="24036" y="9203"/>
                </a:cubicBezTo>
                <a:cubicBezTo>
                  <a:pt x="24077" y="9213"/>
                  <a:pt x="24099" y="9220"/>
                  <a:pt x="24110" y="9252"/>
                </a:cubicBezTo>
              </a:path>
              <a:path w="1638" h="3077">
                <a:moveTo>
                  <a:pt x="24036" y="10468"/>
                </a:moveTo>
                <a:cubicBezTo>
                  <a:pt x="24048" y="10626"/>
                  <a:pt x="24061" y="10778"/>
                  <a:pt x="24061" y="10939"/>
                </a:cubicBezTo>
                <a:cubicBezTo>
                  <a:pt x="24061" y="10947"/>
                  <a:pt x="24061" y="10956"/>
                  <a:pt x="24061" y="10964"/>
                </a:cubicBezTo>
              </a:path>
              <a:path w="1638" h="3077">
                <a:moveTo>
                  <a:pt x="23887" y="10468"/>
                </a:moveTo>
                <a:cubicBezTo>
                  <a:pt x="24087" y="10450"/>
                  <a:pt x="24221" y="10439"/>
                  <a:pt x="24209" y="10691"/>
                </a:cubicBezTo>
                <a:cubicBezTo>
                  <a:pt x="24202" y="10834"/>
                  <a:pt x="24107" y="10817"/>
                  <a:pt x="24011" y="10864"/>
                </a:cubicBezTo>
                <a:cubicBezTo>
                  <a:pt x="24054" y="10864"/>
                  <a:pt x="24079" y="10859"/>
                  <a:pt x="24110" y="10840"/>
                </a:cubicBezTo>
              </a:path>
              <a:path w="1638" h="3077">
                <a:moveTo>
                  <a:pt x="24532" y="10393"/>
                </a:moveTo>
                <a:cubicBezTo>
                  <a:pt x="24554" y="10415"/>
                  <a:pt x="24559" y="10424"/>
                  <a:pt x="24581" y="10418"/>
                </a:cubicBezTo>
                <a:cubicBezTo>
                  <a:pt x="24494" y="10463"/>
                  <a:pt x="24461" y="10587"/>
                  <a:pt x="24482" y="10691"/>
                </a:cubicBezTo>
                <a:cubicBezTo>
                  <a:pt x="24504" y="10802"/>
                  <a:pt x="24657" y="10875"/>
                  <a:pt x="24730" y="10765"/>
                </a:cubicBezTo>
                <a:cubicBezTo>
                  <a:pt x="24730" y="10757"/>
                  <a:pt x="24730" y="10748"/>
                  <a:pt x="24730" y="10740"/>
                </a:cubicBezTo>
              </a:path>
              <a:path w="1638" h="3077">
                <a:moveTo>
                  <a:pt x="24631" y="10244"/>
                </a:moveTo>
                <a:cubicBezTo>
                  <a:pt x="24604" y="10166"/>
                  <a:pt x="24474" y="10216"/>
                  <a:pt x="24408" y="10220"/>
                </a:cubicBezTo>
                <a:cubicBezTo>
                  <a:pt x="24301" y="10227"/>
                  <a:pt x="24192" y="10220"/>
                  <a:pt x="24085" y="10220"/>
                </a:cubicBezTo>
              </a:path>
              <a:path w="1638" h="3077">
                <a:moveTo>
                  <a:pt x="24085" y="10145"/>
                </a:moveTo>
                <a:cubicBezTo>
                  <a:pt x="24076" y="10191"/>
                  <a:pt x="24012" y="10272"/>
                  <a:pt x="24036" y="10319"/>
                </a:cubicBezTo>
                <a:cubicBezTo>
                  <a:pt x="24041" y="10328"/>
                  <a:pt x="24199" y="10365"/>
                  <a:pt x="24209" y="10368"/>
                </a:cubicBezTo>
                <a:cubicBezTo>
                  <a:pt x="24108" y="10324"/>
                  <a:pt x="24075" y="10353"/>
                  <a:pt x="24085" y="10269"/>
                </a:cubicBezTo>
                <a:cubicBezTo>
                  <a:pt x="24097" y="10172"/>
                  <a:pt x="24123" y="10163"/>
                  <a:pt x="24209" y="10120"/>
                </a:cubicBezTo>
                <a:cubicBezTo>
                  <a:pt x="24250" y="10100"/>
                  <a:pt x="24256" y="10092"/>
                  <a:pt x="24284" y="10096"/>
                </a:cubicBezTo>
                <a:cubicBezTo>
                  <a:pt x="24214" y="10110"/>
                  <a:pt x="24165" y="10148"/>
                  <a:pt x="24110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6000" y="3160800"/>
            <a:ext cx="812880" cy="206280"/>
          </a:xfrm>
          <a:custGeom>
            <a:avLst/>
            <a:gdLst/>
            <a:ahLst/>
            <a:rect l="l" t="t" r="r" b="b"/>
            <a:pathLst>
              <a:path w="2259" h="571">
                <a:moveTo>
                  <a:pt x="9599" y="9029"/>
                </a:moveTo>
                <a:cubicBezTo>
                  <a:pt x="9700" y="9054"/>
                  <a:pt x="9739" y="9222"/>
                  <a:pt x="9798" y="9302"/>
                </a:cubicBezTo>
                <a:cubicBezTo>
                  <a:pt x="9814" y="9318"/>
                  <a:pt x="9831" y="9335"/>
                  <a:pt x="9847" y="9351"/>
                </a:cubicBezTo>
                <a:cubicBezTo>
                  <a:pt x="9847" y="9231"/>
                  <a:pt x="9892" y="9141"/>
                  <a:pt x="9922" y="9029"/>
                </a:cubicBezTo>
                <a:cubicBezTo>
                  <a:pt x="9934" y="8985"/>
                  <a:pt x="9903" y="8994"/>
                  <a:pt x="9947" y="8979"/>
                </a:cubicBezTo>
              </a:path>
              <a:path w="2259" h="571">
                <a:moveTo>
                  <a:pt x="10120" y="9128"/>
                </a:moveTo>
                <a:cubicBezTo>
                  <a:pt x="10209" y="9113"/>
                  <a:pt x="10280" y="9103"/>
                  <a:pt x="10368" y="9103"/>
                </a:cubicBezTo>
                <a:cubicBezTo>
                  <a:pt x="10324" y="9021"/>
                  <a:pt x="10263" y="8933"/>
                  <a:pt x="10145" y="8979"/>
                </a:cubicBezTo>
                <a:cubicBezTo>
                  <a:pt x="10001" y="9035"/>
                  <a:pt x="9975" y="9253"/>
                  <a:pt x="10120" y="9327"/>
                </a:cubicBezTo>
                <a:cubicBezTo>
                  <a:pt x="10254" y="9353"/>
                  <a:pt x="10305" y="9358"/>
                  <a:pt x="10393" y="9302"/>
                </a:cubicBezTo>
              </a:path>
              <a:path w="2259" h="571">
                <a:moveTo>
                  <a:pt x="10542" y="9153"/>
                </a:moveTo>
                <a:cubicBezTo>
                  <a:pt x="10542" y="9219"/>
                  <a:pt x="10542" y="9236"/>
                  <a:pt x="10542" y="9277"/>
                </a:cubicBezTo>
                <a:cubicBezTo>
                  <a:pt x="10542" y="9206"/>
                  <a:pt x="10522" y="9136"/>
                  <a:pt x="10567" y="9079"/>
                </a:cubicBezTo>
                <a:cubicBezTo>
                  <a:pt x="10640" y="9005"/>
                  <a:pt x="10664" y="8980"/>
                  <a:pt x="10740" y="8979"/>
                </a:cubicBezTo>
              </a:path>
              <a:path w="2259" h="571">
                <a:moveTo>
                  <a:pt x="10914" y="8781"/>
                </a:moveTo>
                <a:cubicBezTo>
                  <a:pt x="10936" y="8914"/>
                  <a:pt x="10985" y="9045"/>
                  <a:pt x="11013" y="9178"/>
                </a:cubicBezTo>
                <a:cubicBezTo>
                  <a:pt x="11013" y="9186"/>
                  <a:pt x="11013" y="9195"/>
                  <a:pt x="11013" y="9203"/>
                </a:cubicBezTo>
              </a:path>
              <a:path w="2259" h="571">
                <a:moveTo>
                  <a:pt x="10765" y="9029"/>
                </a:moveTo>
                <a:cubicBezTo>
                  <a:pt x="10901" y="9029"/>
                  <a:pt x="11029" y="9014"/>
                  <a:pt x="11162" y="9004"/>
                </a:cubicBezTo>
                <a:cubicBezTo>
                  <a:pt x="11170" y="9004"/>
                  <a:pt x="11179" y="9004"/>
                  <a:pt x="11187" y="9004"/>
                </a:cubicBezTo>
              </a:path>
              <a:path w="2259" h="571">
                <a:moveTo>
                  <a:pt x="11311" y="9054"/>
                </a:moveTo>
                <a:cubicBezTo>
                  <a:pt x="11402" y="9054"/>
                  <a:pt x="11471" y="9091"/>
                  <a:pt x="11485" y="9004"/>
                </a:cubicBezTo>
                <a:cubicBezTo>
                  <a:pt x="11364" y="8990"/>
                  <a:pt x="11326" y="8972"/>
                  <a:pt x="11261" y="9103"/>
                </a:cubicBezTo>
                <a:cubicBezTo>
                  <a:pt x="11184" y="9259"/>
                  <a:pt x="11401" y="9289"/>
                  <a:pt x="11509" y="9277"/>
                </a:cubicBezTo>
                <a:cubicBezTo>
                  <a:pt x="11542" y="9269"/>
                  <a:pt x="11576" y="9260"/>
                  <a:pt x="11609" y="9252"/>
                </a:cubicBezTo>
              </a:path>
              <a:path w="2259" h="571">
                <a:moveTo>
                  <a:pt x="11658" y="9029"/>
                </a:moveTo>
                <a:cubicBezTo>
                  <a:pt x="11675" y="9114"/>
                  <a:pt x="11750" y="9186"/>
                  <a:pt x="11807" y="9252"/>
                </a:cubicBezTo>
                <a:cubicBezTo>
                  <a:pt x="11846" y="9291"/>
                  <a:pt x="11863" y="9323"/>
                  <a:pt x="11857" y="9277"/>
                </a:cubicBezTo>
              </a:path>
              <a:path w="2259" h="571">
                <a:moveTo>
                  <a:pt x="11708" y="8930"/>
                </a:moveTo>
                <a:cubicBezTo>
                  <a:pt x="11668" y="9007"/>
                  <a:pt x="11528" y="9245"/>
                  <a:pt x="11534" y="9302"/>
                </a:cubicBezTo>
                <a:cubicBezTo>
                  <a:pt x="11542" y="9310"/>
                  <a:pt x="11551" y="9319"/>
                  <a:pt x="11559" y="9327"/>
                </a:cubicBezTo>
              </a:path>
              <a:path w="2259" h="571">
                <a:moveTo>
                  <a:pt x="11534" y="8880"/>
                </a:moveTo>
                <a:cubicBezTo>
                  <a:pt x="11606" y="8880"/>
                  <a:pt x="11611" y="8928"/>
                  <a:pt x="11658" y="8979"/>
                </a:cubicBezTo>
                <a:cubicBezTo>
                  <a:pt x="11666" y="8987"/>
                  <a:pt x="11675" y="8996"/>
                  <a:pt x="11683" y="90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64000" y="3160800"/>
            <a:ext cx="206280" cy="223920"/>
          </a:xfrm>
          <a:custGeom>
            <a:avLst/>
            <a:gdLst/>
            <a:ahLst/>
            <a:rect l="l" t="t" r="r" b="b"/>
            <a:pathLst>
              <a:path w="572" h="621">
                <a:moveTo>
                  <a:pt x="12725" y="8905"/>
                </a:moveTo>
                <a:cubicBezTo>
                  <a:pt x="12745" y="8945"/>
                  <a:pt x="12754" y="8971"/>
                  <a:pt x="12750" y="8930"/>
                </a:cubicBezTo>
                <a:cubicBezTo>
                  <a:pt x="12729" y="8876"/>
                  <a:pt x="12643" y="8681"/>
                  <a:pt x="12551" y="8830"/>
                </a:cubicBezTo>
                <a:cubicBezTo>
                  <a:pt x="12396" y="9081"/>
                  <a:pt x="12294" y="9427"/>
                  <a:pt x="12700" y="9401"/>
                </a:cubicBezTo>
                <a:cubicBezTo>
                  <a:pt x="12856" y="9356"/>
                  <a:pt x="12898" y="9351"/>
                  <a:pt x="12973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240" y="6249960"/>
            <a:ext cx="339840" cy="216000"/>
          </a:xfrm>
          <a:custGeom>
            <a:avLst/>
            <a:gdLst/>
            <a:ahLst/>
            <a:rect l="l" t="t" r="r" b="b"/>
            <a:pathLst>
              <a:path w="944" h="597">
                <a:moveTo>
                  <a:pt x="2927" y="17462"/>
                </a:moveTo>
                <a:cubicBezTo>
                  <a:pt x="2927" y="17396"/>
                  <a:pt x="2863" y="17522"/>
                  <a:pt x="2853" y="17587"/>
                </a:cubicBezTo>
                <a:cubicBezTo>
                  <a:pt x="2861" y="17612"/>
                  <a:pt x="2869" y="17636"/>
                  <a:pt x="2877" y="17661"/>
                </a:cubicBezTo>
                <a:cubicBezTo>
                  <a:pt x="2931" y="17643"/>
                  <a:pt x="3169" y="17499"/>
                  <a:pt x="3051" y="17413"/>
                </a:cubicBezTo>
                <a:cubicBezTo>
                  <a:pt x="3026" y="17413"/>
                  <a:pt x="3002" y="17413"/>
                  <a:pt x="2977" y="17413"/>
                </a:cubicBezTo>
                <a:cubicBezTo>
                  <a:pt x="2934" y="17467"/>
                  <a:pt x="2767" y="17765"/>
                  <a:pt x="2977" y="17636"/>
                </a:cubicBezTo>
                <a:cubicBezTo>
                  <a:pt x="3124" y="17546"/>
                  <a:pt x="3023" y="17419"/>
                  <a:pt x="2952" y="17537"/>
                </a:cubicBezTo>
                <a:cubicBezTo>
                  <a:pt x="2952" y="17562"/>
                  <a:pt x="2952" y="17586"/>
                  <a:pt x="2952" y="17611"/>
                </a:cubicBezTo>
              </a:path>
              <a:path w="944" h="597">
                <a:moveTo>
                  <a:pt x="2133" y="17661"/>
                </a:moveTo>
                <a:cubicBezTo>
                  <a:pt x="2138" y="17769"/>
                  <a:pt x="2145" y="17853"/>
                  <a:pt x="2158" y="17959"/>
                </a:cubicBezTo>
                <a:cubicBezTo>
                  <a:pt x="2158" y="17789"/>
                  <a:pt x="2116" y="17572"/>
                  <a:pt x="2183" y="17413"/>
                </a:cubicBezTo>
                <a:cubicBezTo>
                  <a:pt x="2234" y="17293"/>
                  <a:pt x="2324" y="17617"/>
                  <a:pt x="2381" y="17735"/>
                </a:cubicBezTo>
                <a:cubicBezTo>
                  <a:pt x="2381" y="18028"/>
                  <a:pt x="2351" y="17511"/>
                  <a:pt x="2356" y="17487"/>
                </a:cubicBezTo>
                <a:cubicBezTo>
                  <a:pt x="2395" y="17410"/>
                  <a:pt x="2394" y="17395"/>
                  <a:pt x="2431" y="17363"/>
                </a:cubicBezTo>
                <a:cubicBezTo>
                  <a:pt x="2578" y="17511"/>
                  <a:pt x="2649" y="17643"/>
                  <a:pt x="2729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76640" y="6303960"/>
            <a:ext cx="179280" cy="3319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6573" y="17636"/>
                </a:moveTo>
                <a:cubicBezTo>
                  <a:pt x="6561" y="17578"/>
                  <a:pt x="6547" y="17524"/>
                  <a:pt x="6474" y="17537"/>
                </a:cubicBezTo>
                <a:cubicBezTo>
                  <a:pt x="6354" y="17559"/>
                  <a:pt x="6349" y="17617"/>
                  <a:pt x="6325" y="17711"/>
                </a:cubicBezTo>
                <a:cubicBezTo>
                  <a:pt x="6409" y="17734"/>
                  <a:pt x="6577" y="17671"/>
                  <a:pt x="6548" y="17537"/>
                </a:cubicBezTo>
                <a:cubicBezTo>
                  <a:pt x="6516" y="17392"/>
                  <a:pt x="6338" y="17589"/>
                  <a:pt x="6325" y="17636"/>
                </a:cubicBezTo>
                <a:cubicBezTo>
                  <a:pt x="6387" y="17655"/>
                  <a:pt x="6671" y="17584"/>
                  <a:pt x="6548" y="17512"/>
                </a:cubicBezTo>
                <a:cubicBezTo>
                  <a:pt x="6476" y="17536"/>
                  <a:pt x="6453" y="17543"/>
                  <a:pt x="6424" y="17587"/>
                </a:cubicBezTo>
              </a:path>
              <a:path w="497" h="919">
                <a:moveTo>
                  <a:pt x="6424" y="18058"/>
                </a:moveTo>
                <a:cubicBezTo>
                  <a:pt x="6424" y="17981"/>
                  <a:pt x="6472" y="18338"/>
                  <a:pt x="6474" y="18355"/>
                </a:cubicBezTo>
                <a:cubicBezTo>
                  <a:pt x="6492" y="18527"/>
                  <a:pt x="6474" y="18362"/>
                  <a:pt x="6474" y="18331"/>
                </a:cubicBezTo>
              </a:path>
              <a:path w="497" h="919">
                <a:moveTo>
                  <a:pt x="6375" y="17959"/>
                </a:moveTo>
                <a:cubicBezTo>
                  <a:pt x="6455" y="18099"/>
                  <a:pt x="6606" y="18194"/>
                  <a:pt x="6747" y="18281"/>
                </a:cubicBezTo>
                <a:cubicBezTo>
                  <a:pt x="6763" y="18289"/>
                  <a:pt x="6780" y="18298"/>
                  <a:pt x="6796" y="18306"/>
                </a:cubicBezTo>
                <a:cubicBezTo>
                  <a:pt x="6870" y="18182"/>
                  <a:pt x="6787" y="17953"/>
                  <a:pt x="6772" y="17810"/>
                </a:cubicBezTo>
                <a:cubicBezTo>
                  <a:pt x="6772" y="17802"/>
                  <a:pt x="6772" y="17793"/>
                  <a:pt x="6772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0760" y="4830840"/>
            <a:ext cx="125280" cy="162000"/>
          </a:xfrm>
          <a:custGeom>
            <a:avLst/>
            <a:gdLst/>
            <a:ahLst/>
            <a:rect l="l" t="t" r="r" b="b"/>
            <a:pathLst>
              <a:path w="348" h="448">
                <a:moveTo>
                  <a:pt x="13940" y="13419"/>
                </a:moveTo>
                <a:cubicBezTo>
                  <a:pt x="13924" y="13507"/>
                  <a:pt x="13799" y="13874"/>
                  <a:pt x="13965" y="13866"/>
                </a:cubicBezTo>
                <a:cubicBezTo>
                  <a:pt x="14026" y="13863"/>
                  <a:pt x="14200" y="13804"/>
                  <a:pt x="1423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240" y="501804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4734" y="14015"/>
                </a:moveTo>
                <a:cubicBezTo>
                  <a:pt x="14671" y="13983"/>
                  <a:pt x="14634" y="14040"/>
                  <a:pt x="14610" y="14114"/>
                </a:cubicBezTo>
                <a:cubicBezTo>
                  <a:pt x="14610" y="14122"/>
                  <a:pt x="14610" y="14131"/>
                  <a:pt x="14610" y="14139"/>
                </a:cubicBezTo>
                <a:cubicBezTo>
                  <a:pt x="14776" y="14106"/>
                  <a:pt x="14779" y="13917"/>
                  <a:pt x="14734" y="13940"/>
                </a:cubicBezTo>
                <a:cubicBezTo>
                  <a:pt x="14648" y="13983"/>
                  <a:pt x="14671" y="14136"/>
                  <a:pt x="14709" y="13965"/>
                </a:cubicBezTo>
              </a:path>
              <a:path w="274" h="398">
                <a:moveTo>
                  <a:pt x="14709" y="14163"/>
                </a:moveTo>
                <a:cubicBezTo>
                  <a:pt x="14779" y="14141"/>
                  <a:pt x="14708" y="14157"/>
                  <a:pt x="14709" y="14163"/>
                </a:cubicBezTo>
                <a:cubicBezTo>
                  <a:pt x="14725" y="14250"/>
                  <a:pt x="14837" y="14234"/>
                  <a:pt x="14858" y="14188"/>
                </a:cubicBezTo>
                <a:cubicBezTo>
                  <a:pt x="14891" y="14118"/>
                  <a:pt x="14873" y="14099"/>
                  <a:pt x="14833" y="14039"/>
                </a:cubicBezTo>
                <a:cubicBezTo>
                  <a:pt x="14712" y="14029"/>
                  <a:pt x="14615" y="14110"/>
                  <a:pt x="14610" y="14263"/>
                </a:cubicBezTo>
                <a:cubicBezTo>
                  <a:pt x="14618" y="14288"/>
                  <a:pt x="14627" y="14312"/>
                  <a:pt x="14635" y="14337"/>
                </a:cubicBezTo>
                <a:cubicBezTo>
                  <a:pt x="14743" y="14292"/>
                  <a:pt x="14883" y="14213"/>
                  <a:pt x="14858" y="14064"/>
                </a:cubicBezTo>
                <a:cubicBezTo>
                  <a:pt x="14837" y="13936"/>
                  <a:pt x="14717" y="13942"/>
                  <a:pt x="14684" y="14039"/>
                </a:cubicBezTo>
                <a:cubicBezTo>
                  <a:pt x="14665" y="14117"/>
                  <a:pt x="14641" y="14134"/>
                  <a:pt x="14684" y="14163"/>
                </a:cubicBezTo>
                <a:cubicBezTo>
                  <a:pt x="14775" y="14154"/>
                  <a:pt x="14863" y="14103"/>
                  <a:pt x="14784" y="13990"/>
                </a:cubicBezTo>
                <a:cubicBezTo>
                  <a:pt x="14749" y="13990"/>
                  <a:pt x="14736" y="13999"/>
                  <a:pt x="1473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27720" y="6392880"/>
            <a:ext cx="196560" cy="206280"/>
          </a:xfrm>
          <a:custGeom>
            <a:avLst/>
            <a:gdLst/>
            <a:ahLst/>
            <a:rect l="l" t="t" r="r" b="b"/>
            <a:pathLst>
              <a:path w="547" h="572">
                <a:moveTo>
                  <a:pt x="12601" y="18157"/>
                </a:moveTo>
                <a:cubicBezTo>
                  <a:pt x="12589" y="18231"/>
                  <a:pt x="12576" y="18356"/>
                  <a:pt x="12576" y="18281"/>
                </a:cubicBezTo>
                <a:cubicBezTo>
                  <a:pt x="12583" y="18092"/>
                  <a:pt x="12573" y="17923"/>
                  <a:pt x="12675" y="17760"/>
                </a:cubicBezTo>
                <a:cubicBezTo>
                  <a:pt x="12746" y="17902"/>
                  <a:pt x="12782" y="17998"/>
                  <a:pt x="12799" y="18157"/>
                </a:cubicBezTo>
                <a:cubicBezTo>
                  <a:pt x="12788" y="18090"/>
                  <a:pt x="12738" y="17814"/>
                  <a:pt x="12849" y="17810"/>
                </a:cubicBezTo>
                <a:cubicBezTo>
                  <a:pt x="13008" y="17804"/>
                  <a:pt x="13097" y="18162"/>
                  <a:pt x="13097" y="182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72120" y="5483160"/>
            <a:ext cx="330120" cy="303120"/>
          </a:xfrm>
          <a:custGeom>
            <a:avLst/>
            <a:gdLst/>
            <a:ahLst/>
            <a:rect l="l" t="t" r="r" b="b"/>
            <a:pathLst>
              <a:path w="919" h="844">
                <a:moveTo>
                  <a:pt x="17016" y="15329"/>
                </a:moveTo>
                <a:cubicBezTo>
                  <a:pt x="17002" y="15233"/>
                  <a:pt x="16949" y="15214"/>
                  <a:pt x="16892" y="15354"/>
                </a:cubicBezTo>
                <a:cubicBezTo>
                  <a:pt x="16831" y="15503"/>
                  <a:pt x="16967" y="15662"/>
                  <a:pt x="17016" y="15478"/>
                </a:cubicBezTo>
                <a:cubicBezTo>
                  <a:pt x="17056" y="15327"/>
                  <a:pt x="16987" y="15213"/>
                  <a:pt x="16892" y="15354"/>
                </a:cubicBezTo>
                <a:cubicBezTo>
                  <a:pt x="16888" y="15428"/>
                  <a:pt x="16971" y="15670"/>
                  <a:pt x="17016" y="15453"/>
                </a:cubicBezTo>
                <a:cubicBezTo>
                  <a:pt x="17016" y="15328"/>
                  <a:pt x="17024" y="15300"/>
                  <a:pt x="16991" y="15230"/>
                </a:cubicBezTo>
                <a:cubicBezTo>
                  <a:pt x="16945" y="15267"/>
                  <a:pt x="16832" y="15557"/>
                  <a:pt x="16991" y="15503"/>
                </a:cubicBezTo>
                <a:cubicBezTo>
                  <a:pt x="17108" y="15463"/>
                  <a:pt x="17075" y="15221"/>
                  <a:pt x="16991" y="15255"/>
                </a:cubicBezTo>
                <a:cubicBezTo>
                  <a:pt x="16991" y="15297"/>
                  <a:pt x="17008" y="15305"/>
                  <a:pt x="17066" y="15280"/>
                </a:cubicBezTo>
              </a:path>
              <a:path w="919" h="844">
                <a:moveTo>
                  <a:pt x="17661" y="15404"/>
                </a:moveTo>
                <a:cubicBezTo>
                  <a:pt x="17562" y="15384"/>
                  <a:pt x="17483" y="15334"/>
                  <a:pt x="17413" y="15453"/>
                </a:cubicBezTo>
                <a:cubicBezTo>
                  <a:pt x="17372" y="15576"/>
                  <a:pt x="17355" y="15598"/>
                  <a:pt x="17363" y="15677"/>
                </a:cubicBezTo>
                <a:cubicBezTo>
                  <a:pt x="17455" y="15669"/>
                  <a:pt x="17727" y="15581"/>
                  <a:pt x="17785" y="15701"/>
                </a:cubicBezTo>
                <a:cubicBezTo>
                  <a:pt x="17895" y="15929"/>
                  <a:pt x="17630" y="16107"/>
                  <a:pt x="17438" y="16049"/>
                </a:cubicBezTo>
                <a:cubicBezTo>
                  <a:pt x="17405" y="16024"/>
                  <a:pt x="17371" y="15999"/>
                  <a:pt x="17338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43760" y="6303960"/>
            <a:ext cx="152280" cy="312840"/>
          </a:xfrm>
          <a:custGeom>
            <a:avLst/>
            <a:gdLst/>
            <a:ahLst/>
            <a:rect l="l" t="t" r="r" b="b"/>
            <a:pathLst>
              <a:path w="422" h="869">
                <a:moveTo>
                  <a:pt x="17388" y="17537"/>
                </a:moveTo>
                <a:cubicBezTo>
                  <a:pt x="17315" y="17581"/>
                  <a:pt x="17253" y="17628"/>
                  <a:pt x="17190" y="17686"/>
                </a:cubicBezTo>
                <a:cubicBezTo>
                  <a:pt x="17244" y="17674"/>
                  <a:pt x="17450" y="17528"/>
                  <a:pt x="17289" y="17512"/>
                </a:cubicBezTo>
                <a:cubicBezTo>
                  <a:pt x="17211" y="17538"/>
                  <a:pt x="17184" y="17549"/>
                  <a:pt x="17165" y="17611"/>
                </a:cubicBezTo>
              </a:path>
              <a:path w="422" h="869">
                <a:moveTo>
                  <a:pt x="17115" y="18132"/>
                </a:moveTo>
                <a:cubicBezTo>
                  <a:pt x="17095" y="18274"/>
                  <a:pt x="17096" y="18301"/>
                  <a:pt x="17066" y="18380"/>
                </a:cubicBezTo>
                <a:cubicBezTo>
                  <a:pt x="17066" y="18224"/>
                  <a:pt x="17085" y="18111"/>
                  <a:pt x="17115" y="17959"/>
                </a:cubicBezTo>
                <a:cubicBezTo>
                  <a:pt x="17186" y="18083"/>
                  <a:pt x="17239" y="18259"/>
                  <a:pt x="17363" y="18306"/>
                </a:cubicBezTo>
                <a:cubicBezTo>
                  <a:pt x="17440" y="18196"/>
                  <a:pt x="17438" y="18118"/>
                  <a:pt x="17438" y="17983"/>
                </a:cubicBezTo>
                <a:cubicBezTo>
                  <a:pt x="17438" y="17922"/>
                  <a:pt x="17440" y="17875"/>
                  <a:pt x="17487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73960" y="4687920"/>
            <a:ext cx="357120" cy="349200"/>
          </a:xfrm>
          <a:custGeom>
            <a:avLst/>
            <a:gdLst/>
            <a:ahLst/>
            <a:rect l="l" t="t" r="r" b="b"/>
            <a:pathLst>
              <a:path w="993" h="969">
                <a:moveTo>
                  <a:pt x="20762" y="13022"/>
                </a:moveTo>
                <a:lnTo>
                  <a:pt x="20762" y="13022"/>
                </a:lnTo>
                <a:lnTo>
                  <a:pt x="20762" y="13022"/>
                </a:lnTo>
              </a:path>
              <a:path w="993" h="969">
                <a:moveTo>
                  <a:pt x="20762" y="13022"/>
                </a:moveTo>
                <a:lnTo>
                  <a:pt x="20762" y="13022"/>
                </a:lnTo>
              </a:path>
              <a:path w="993" h="969">
                <a:moveTo>
                  <a:pt x="21754" y="13990"/>
                </a:moveTo>
                <a:cubicBezTo>
                  <a:pt x="21754" y="13982"/>
                  <a:pt x="21754" y="13973"/>
                  <a:pt x="21754" y="13965"/>
                </a:cubicBezTo>
              </a:path>
              <a:path w="993" h="969">
                <a:moveTo>
                  <a:pt x="21754" y="13965"/>
                </a:moveTo>
                <a:lnTo>
                  <a:pt x="21754" y="1396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8640" y="4732200"/>
            <a:ext cx="455400" cy="339840"/>
          </a:xfrm>
          <a:custGeom>
            <a:avLst/>
            <a:gdLst/>
            <a:ahLst/>
            <a:rect l="l" t="t" r="r" b="b"/>
            <a:pathLst>
              <a:path w="1266" h="944">
                <a:moveTo>
                  <a:pt x="19174" y="13370"/>
                </a:moveTo>
                <a:cubicBezTo>
                  <a:pt x="19456" y="13370"/>
                  <a:pt x="19739" y="13379"/>
                  <a:pt x="20017" y="13345"/>
                </a:cubicBezTo>
                <a:cubicBezTo>
                  <a:pt x="20025" y="13345"/>
                  <a:pt x="20034" y="13345"/>
                  <a:pt x="20042" y="13345"/>
                </a:cubicBezTo>
                <a:cubicBezTo>
                  <a:pt x="20081" y="13345"/>
                  <a:pt x="19979" y="13295"/>
                  <a:pt x="19943" y="13271"/>
                </a:cubicBezTo>
                <a:cubicBezTo>
                  <a:pt x="19886" y="13233"/>
                  <a:pt x="19846" y="13157"/>
                  <a:pt x="19819" y="13171"/>
                </a:cubicBezTo>
                <a:cubicBezTo>
                  <a:pt x="19907" y="13230"/>
                  <a:pt x="19990" y="13314"/>
                  <a:pt x="20067" y="13370"/>
                </a:cubicBezTo>
                <a:cubicBezTo>
                  <a:pt x="20120" y="13408"/>
                  <a:pt x="19935" y="13583"/>
                  <a:pt x="19893" y="13643"/>
                </a:cubicBezTo>
              </a:path>
              <a:path w="1266" h="944">
                <a:moveTo>
                  <a:pt x="19025" y="13742"/>
                </a:moveTo>
                <a:cubicBezTo>
                  <a:pt x="19025" y="13849"/>
                  <a:pt x="19025" y="13957"/>
                  <a:pt x="19025" y="14064"/>
                </a:cubicBezTo>
                <a:cubicBezTo>
                  <a:pt x="19025" y="14138"/>
                  <a:pt x="19018" y="13965"/>
                  <a:pt x="19025" y="13891"/>
                </a:cubicBezTo>
                <a:cubicBezTo>
                  <a:pt x="19041" y="13718"/>
                  <a:pt x="19043" y="13675"/>
                  <a:pt x="19149" y="13568"/>
                </a:cubicBezTo>
                <a:cubicBezTo>
                  <a:pt x="19278" y="13654"/>
                  <a:pt x="19371" y="13787"/>
                  <a:pt x="19348" y="13965"/>
                </a:cubicBezTo>
                <a:cubicBezTo>
                  <a:pt x="19340" y="13973"/>
                  <a:pt x="19331" y="13982"/>
                  <a:pt x="19323" y="13990"/>
                </a:cubicBezTo>
                <a:cubicBezTo>
                  <a:pt x="19323" y="13892"/>
                  <a:pt x="19327" y="13768"/>
                  <a:pt x="19397" y="13692"/>
                </a:cubicBezTo>
                <a:cubicBezTo>
                  <a:pt x="19550" y="13525"/>
                  <a:pt x="19614" y="13754"/>
                  <a:pt x="19645" y="13866"/>
                </a:cubicBezTo>
                <a:cubicBezTo>
                  <a:pt x="19664" y="13940"/>
                  <a:pt x="19672" y="13947"/>
                  <a:pt x="19670" y="13990"/>
                </a:cubicBezTo>
              </a:path>
              <a:path w="1266" h="944">
                <a:moveTo>
                  <a:pt x="20092" y="13643"/>
                </a:moveTo>
                <a:cubicBezTo>
                  <a:pt x="20057" y="13608"/>
                  <a:pt x="19963" y="13615"/>
                  <a:pt x="19918" y="13667"/>
                </a:cubicBezTo>
                <a:cubicBezTo>
                  <a:pt x="19918" y="13675"/>
                  <a:pt x="19918" y="13684"/>
                  <a:pt x="19918" y="13692"/>
                </a:cubicBezTo>
                <a:cubicBezTo>
                  <a:pt x="20047" y="13715"/>
                  <a:pt x="20232" y="13689"/>
                  <a:pt x="20290" y="13841"/>
                </a:cubicBezTo>
                <a:cubicBezTo>
                  <a:pt x="20334" y="13955"/>
                  <a:pt x="20209" y="14024"/>
                  <a:pt x="20117" y="14015"/>
                </a:cubicBezTo>
                <a:cubicBezTo>
                  <a:pt x="20029" y="14007"/>
                  <a:pt x="20028" y="13980"/>
                  <a:pt x="19968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73960" y="4660920"/>
            <a:ext cx="723960" cy="554040"/>
          </a:xfrm>
          <a:custGeom>
            <a:avLst/>
            <a:gdLst/>
            <a:ahLst/>
            <a:rect l="l" t="t" r="r" b="b"/>
            <a:pathLst>
              <a:path w="2010" h="1539">
                <a:moveTo>
                  <a:pt x="20762" y="13196"/>
                </a:moveTo>
                <a:cubicBezTo>
                  <a:pt x="20810" y="13295"/>
                  <a:pt x="20814" y="13449"/>
                  <a:pt x="20861" y="13543"/>
                </a:cubicBezTo>
                <a:cubicBezTo>
                  <a:pt x="20861" y="13527"/>
                  <a:pt x="20861" y="13510"/>
                  <a:pt x="20861" y="13494"/>
                </a:cubicBezTo>
              </a:path>
              <a:path w="2010" h="1539">
                <a:moveTo>
                  <a:pt x="21109" y="13171"/>
                </a:moveTo>
                <a:cubicBezTo>
                  <a:pt x="21084" y="13188"/>
                  <a:pt x="21059" y="13204"/>
                  <a:pt x="21034" y="13221"/>
                </a:cubicBezTo>
                <a:cubicBezTo>
                  <a:pt x="21060" y="13326"/>
                  <a:pt x="21218" y="13245"/>
                  <a:pt x="21307" y="13320"/>
                </a:cubicBezTo>
                <a:cubicBezTo>
                  <a:pt x="21436" y="13429"/>
                  <a:pt x="21186" y="13496"/>
                  <a:pt x="21134" y="13519"/>
                </a:cubicBezTo>
                <a:cubicBezTo>
                  <a:pt x="21034" y="13452"/>
                  <a:pt x="21017" y="13406"/>
                  <a:pt x="21109" y="13295"/>
                </a:cubicBezTo>
              </a:path>
              <a:path w="2010" h="1539">
                <a:moveTo>
                  <a:pt x="21853" y="12973"/>
                </a:moveTo>
                <a:cubicBezTo>
                  <a:pt x="21874" y="13146"/>
                  <a:pt x="21903" y="13619"/>
                  <a:pt x="21903" y="13444"/>
                </a:cubicBezTo>
              </a:path>
              <a:path w="2010" h="1539">
                <a:moveTo>
                  <a:pt x="21654" y="13171"/>
                </a:moveTo>
                <a:cubicBezTo>
                  <a:pt x="21845" y="13262"/>
                  <a:pt x="22027" y="13339"/>
                  <a:pt x="22126" y="13072"/>
                </a:cubicBezTo>
                <a:cubicBezTo>
                  <a:pt x="22126" y="12998"/>
                  <a:pt x="22126" y="12989"/>
                  <a:pt x="22126" y="12948"/>
                </a:cubicBezTo>
                <a:cubicBezTo>
                  <a:pt x="22109" y="13121"/>
                  <a:pt x="22116" y="13271"/>
                  <a:pt x="22126" y="13444"/>
                </a:cubicBezTo>
                <a:cubicBezTo>
                  <a:pt x="22140" y="13316"/>
                  <a:pt x="22205" y="13229"/>
                  <a:pt x="22275" y="13122"/>
                </a:cubicBezTo>
                <a:cubicBezTo>
                  <a:pt x="22384" y="13207"/>
                  <a:pt x="22379" y="13290"/>
                  <a:pt x="22448" y="13395"/>
                </a:cubicBezTo>
                <a:cubicBezTo>
                  <a:pt x="22448" y="13387"/>
                  <a:pt x="22448" y="13378"/>
                  <a:pt x="22448" y="13370"/>
                </a:cubicBezTo>
              </a:path>
              <a:path w="2010" h="1539">
                <a:moveTo>
                  <a:pt x="22572" y="13221"/>
                </a:moveTo>
                <a:cubicBezTo>
                  <a:pt x="22667" y="13197"/>
                  <a:pt x="22697" y="13191"/>
                  <a:pt x="22746" y="13146"/>
                </a:cubicBezTo>
                <a:cubicBezTo>
                  <a:pt x="22669" y="13109"/>
                  <a:pt x="22536" y="13221"/>
                  <a:pt x="22597" y="13345"/>
                </a:cubicBezTo>
                <a:cubicBezTo>
                  <a:pt x="22677" y="13399"/>
                  <a:pt x="22709" y="13413"/>
                  <a:pt x="22771" y="13345"/>
                </a:cubicBezTo>
              </a:path>
              <a:path w="2010" h="1539">
                <a:moveTo>
                  <a:pt x="21208" y="14039"/>
                </a:moveTo>
                <a:cubicBezTo>
                  <a:pt x="21241" y="14183"/>
                  <a:pt x="21233" y="14334"/>
                  <a:pt x="21233" y="14486"/>
                </a:cubicBezTo>
                <a:cubicBezTo>
                  <a:pt x="21257" y="14268"/>
                  <a:pt x="21288" y="14226"/>
                  <a:pt x="21456" y="14114"/>
                </a:cubicBezTo>
                <a:cubicBezTo>
                  <a:pt x="21512" y="14193"/>
                  <a:pt x="21655" y="14521"/>
                  <a:pt x="21382" y="14436"/>
                </a:cubicBezTo>
                <a:cubicBezTo>
                  <a:pt x="21297" y="14373"/>
                  <a:pt x="21276" y="14361"/>
                  <a:pt x="21233" y="14312"/>
                </a:cubicBezTo>
              </a:path>
              <a:path w="2010" h="1539">
                <a:moveTo>
                  <a:pt x="21704" y="14188"/>
                </a:moveTo>
                <a:cubicBezTo>
                  <a:pt x="21727" y="14254"/>
                  <a:pt x="21754" y="14407"/>
                  <a:pt x="21754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02720" y="4902120"/>
            <a:ext cx="876240" cy="258840"/>
          </a:xfrm>
          <a:custGeom>
            <a:avLst/>
            <a:gdLst/>
            <a:ahLst/>
            <a:rect l="l" t="t" r="r" b="b"/>
            <a:pathLst>
              <a:path w="2432" h="720">
                <a:moveTo>
                  <a:pt x="22051" y="14015"/>
                </a:moveTo>
                <a:cubicBezTo>
                  <a:pt x="22018" y="14023"/>
                  <a:pt x="21985" y="14031"/>
                  <a:pt x="21952" y="14039"/>
                </a:cubicBezTo>
                <a:cubicBezTo>
                  <a:pt x="22034" y="14121"/>
                  <a:pt x="22139" y="14159"/>
                  <a:pt x="22225" y="14263"/>
                </a:cubicBezTo>
                <a:cubicBezTo>
                  <a:pt x="22074" y="14367"/>
                  <a:pt x="21990" y="14375"/>
                  <a:pt x="21977" y="14188"/>
                </a:cubicBezTo>
              </a:path>
              <a:path w="2432" h="720">
                <a:moveTo>
                  <a:pt x="22374" y="14064"/>
                </a:moveTo>
                <a:cubicBezTo>
                  <a:pt x="22460" y="14064"/>
                  <a:pt x="22533" y="14100"/>
                  <a:pt x="22547" y="14015"/>
                </a:cubicBezTo>
                <a:cubicBezTo>
                  <a:pt x="22477" y="13871"/>
                  <a:pt x="22354" y="14053"/>
                  <a:pt x="22324" y="14139"/>
                </a:cubicBezTo>
                <a:cubicBezTo>
                  <a:pt x="22271" y="14293"/>
                  <a:pt x="22552" y="14189"/>
                  <a:pt x="22696" y="14114"/>
                </a:cubicBezTo>
              </a:path>
              <a:path w="2432" h="720">
                <a:moveTo>
                  <a:pt x="22944" y="13940"/>
                </a:moveTo>
                <a:cubicBezTo>
                  <a:pt x="22977" y="13929"/>
                  <a:pt x="22966" y="13927"/>
                  <a:pt x="22994" y="13891"/>
                </a:cubicBezTo>
                <a:cubicBezTo>
                  <a:pt x="22922" y="13920"/>
                  <a:pt x="22668" y="14109"/>
                  <a:pt x="22845" y="14213"/>
                </a:cubicBezTo>
                <a:cubicBezTo>
                  <a:pt x="22987" y="14213"/>
                  <a:pt x="23044" y="14203"/>
                  <a:pt x="23118" y="14114"/>
                </a:cubicBezTo>
              </a:path>
              <a:path w="2432" h="720">
                <a:moveTo>
                  <a:pt x="23316" y="13618"/>
                </a:moveTo>
                <a:cubicBezTo>
                  <a:pt x="23332" y="13777"/>
                  <a:pt x="23241" y="14017"/>
                  <a:pt x="23292" y="14163"/>
                </a:cubicBezTo>
                <a:cubicBezTo>
                  <a:pt x="23300" y="14155"/>
                  <a:pt x="23308" y="14147"/>
                  <a:pt x="23316" y="14139"/>
                </a:cubicBezTo>
              </a:path>
              <a:path w="2432" h="720">
                <a:moveTo>
                  <a:pt x="23118" y="13742"/>
                </a:moveTo>
                <a:cubicBezTo>
                  <a:pt x="23317" y="13757"/>
                  <a:pt x="23512" y="13767"/>
                  <a:pt x="23713" y="13767"/>
                </a:cubicBezTo>
                <a:cubicBezTo>
                  <a:pt x="23730" y="13767"/>
                  <a:pt x="23746" y="13767"/>
                  <a:pt x="23763" y="13767"/>
                </a:cubicBezTo>
                <a:cubicBezTo>
                  <a:pt x="23739" y="13837"/>
                  <a:pt x="23625" y="13988"/>
                  <a:pt x="23713" y="14064"/>
                </a:cubicBezTo>
                <a:cubicBezTo>
                  <a:pt x="23853" y="14185"/>
                  <a:pt x="24039" y="13992"/>
                  <a:pt x="23961" y="13841"/>
                </a:cubicBezTo>
                <a:cubicBezTo>
                  <a:pt x="23933" y="13787"/>
                  <a:pt x="23861" y="13790"/>
                  <a:pt x="23837" y="13742"/>
                </a:cubicBezTo>
              </a:path>
              <a:path w="2432" h="720">
                <a:moveTo>
                  <a:pt x="24110" y="13915"/>
                </a:moveTo>
                <a:cubicBezTo>
                  <a:pt x="24091" y="13989"/>
                  <a:pt x="24083" y="13996"/>
                  <a:pt x="24085" y="14039"/>
                </a:cubicBezTo>
                <a:cubicBezTo>
                  <a:pt x="24106" y="13937"/>
                  <a:pt x="24199" y="13778"/>
                  <a:pt x="24284" y="13717"/>
                </a:cubicBezTo>
                <a:cubicBezTo>
                  <a:pt x="24345" y="13673"/>
                  <a:pt x="24440" y="13670"/>
                  <a:pt x="24284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3880" y="3259080"/>
            <a:ext cx="108000" cy="63720"/>
          </a:xfrm>
          <a:custGeom>
            <a:avLst/>
            <a:gdLst/>
            <a:ahLst/>
            <a:rect l="l" t="t" r="r" b="b"/>
            <a:pathLst>
              <a:path w="299" h="174">
                <a:moveTo>
                  <a:pt x="18157" y="9079"/>
                </a:moveTo>
                <a:cubicBezTo>
                  <a:pt x="18182" y="9079"/>
                  <a:pt x="18190" y="9079"/>
                  <a:pt x="18182" y="9054"/>
                </a:cubicBezTo>
                <a:cubicBezTo>
                  <a:pt x="18218" y="9054"/>
                  <a:pt x="18089" y="9096"/>
                  <a:pt x="18058" y="9153"/>
                </a:cubicBezTo>
                <a:cubicBezTo>
                  <a:pt x="18002" y="9256"/>
                  <a:pt x="18219" y="9224"/>
                  <a:pt x="18256" y="9153"/>
                </a:cubicBezTo>
                <a:cubicBezTo>
                  <a:pt x="18256" y="9136"/>
                  <a:pt x="18256" y="9120"/>
                  <a:pt x="18256" y="9103"/>
                </a:cubicBezTo>
                <a:cubicBezTo>
                  <a:pt x="18200" y="9084"/>
                  <a:pt x="18020" y="9005"/>
                  <a:pt x="17983" y="9128"/>
                </a:cubicBezTo>
                <a:cubicBezTo>
                  <a:pt x="17920" y="9338"/>
                  <a:pt x="18218" y="9179"/>
                  <a:pt x="18256" y="9153"/>
                </a:cubicBezTo>
                <a:cubicBezTo>
                  <a:pt x="18247" y="9135"/>
                  <a:pt x="18173" y="9056"/>
                  <a:pt x="18157" y="9128"/>
                </a:cubicBezTo>
                <a:cubicBezTo>
                  <a:pt x="18124" y="9276"/>
                  <a:pt x="18237" y="9215"/>
                  <a:pt x="18281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If a right angle is bisected, what are the measures of each of the new ang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If an angle has been bisected and one of the new angles measures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, what was the measure of the original 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 What angle bisector appears to bisect angle AGC?  Are there any perpendicular bisectors in the figure below?  What angle does ray GE appear to bi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743200" y="5105520"/>
            <a:ext cx="5486040" cy="1752120"/>
            <a:chOff x="2743200" y="5105520"/>
            <a:chExt cx="5486040" cy="1752120"/>
          </a:xfrm>
        </p:grpSpPr>
        <p:sp>
          <p:nvSpPr>
            <p:cNvPr id="176" name=""/>
            <p:cNvSpPr/>
            <p:nvPr/>
          </p:nvSpPr>
          <p:spPr>
            <a:xfrm>
              <a:off x="2743200" y="6419880"/>
              <a:ext cx="33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488840" y="5251320"/>
              <a:ext cx="0" cy="11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366720" y="5397480"/>
              <a:ext cx="112176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88840" y="5397480"/>
              <a:ext cx="62352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488840" y="5835600"/>
              <a:ext cx="124668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4280" y="6419880"/>
              <a:ext cx="373680" cy="4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6419880"/>
              <a:ext cx="37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0440" y="64198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66720" y="525168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88840" y="510552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7440" y="5397480"/>
              <a:ext cx="3740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10960" y="5835600"/>
              <a:ext cx="37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34480" y="5543640"/>
              <a:ext cx="19947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080" y="27298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6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38760" y="704880"/>
            <a:ext cx="660240" cy="554040"/>
          </a:xfrm>
          <a:custGeom>
            <a:avLst/>
            <a:gdLst/>
            <a:ahLst/>
            <a:rect l="l" t="t" r="r" b="b"/>
            <a:pathLst>
              <a:path w="1836" h="1538">
                <a:moveTo>
                  <a:pt x="10964" y="2704"/>
                </a:moveTo>
                <a:cubicBezTo>
                  <a:pt x="10951" y="2743"/>
                  <a:pt x="10952" y="2714"/>
                  <a:pt x="10939" y="2753"/>
                </a:cubicBezTo>
                <a:cubicBezTo>
                  <a:pt x="10997" y="2747"/>
                  <a:pt x="11054" y="2737"/>
                  <a:pt x="11112" y="2729"/>
                </a:cubicBezTo>
              </a:path>
              <a:path w="1836" h="1538">
                <a:moveTo>
                  <a:pt x="11187" y="2555"/>
                </a:moveTo>
                <a:cubicBezTo>
                  <a:pt x="11187" y="2662"/>
                  <a:pt x="11157" y="2749"/>
                  <a:pt x="11137" y="2853"/>
                </a:cubicBezTo>
                <a:cubicBezTo>
                  <a:pt x="11137" y="2861"/>
                  <a:pt x="11137" y="2869"/>
                  <a:pt x="11137" y="2877"/>
                </a:cubicBezTo>
              </a:path>
              <a:path w="1836" h="1538">
                <a:moveTo>
                  <a:pt x="11261" y="2555"/>
                </a:moveTo>
                <a:cubicBezTo>
                  <a:pt x="11340" y="2568"/>
                  <a:pt x="11411" y="2591"/>
                  <a:pt x="11435" y="2679"/>
                </a:cubicBezTo>
                <a:cubicBezTo>
                  <a:pt x="11449" y="2731"/>
                  <a:pt x="11362" y="2854"/>
                  <a:pt x="11311" y="2803"/>
                </a:cubicBezTo>
                <a:cubicBezTo>
                  <a:pt x="11311" y="2778"/>
                  <a:pt x="11311" y="2754"/>
                  <a:pt x="11311" y="2729"/>
                </a:cubicBezTo>
              </a:path>
              <a:path w="1836" h="1538">
                <a:moveTo>
                  <a:pt x="11336" y="2480"/>
                </a:moveTo>
                <a:cubicBezTo>
                  <a:pt x="11388" y="2420"/>
                  <a:pt x="11448" y="2393"/>
                  <a:pt x="11509" y="2332"/>
                </a:cubicBezTo>
              </a:path>
              <a:path w="1836" h="1538">
                <a:moveTo>
                  <a:pt x="11633" y="1960"/>
                </a:moveTo>
                <a:cubicBezTo>
                  <a:pt x="11622" y="1995"/>
                  <a:pt x="11527" y="2165"/>
                  <a:pt x="11633" y="2158"/>
                </a:cubicBezTo>
                <a:cubicBezTo>
                  <a:pt x="11711" y="2153"/>
                  <a:pt x="11711" y="2076"/>
                  <a:pt x="11683" y="2034"/>
                </a:cubicBezTo>
                <a:cubicBezTo>
                  <a:pt x="11675" y="2026"/>
                  <a:pt x="11666" y="2017"/>
                  <a:pt x="11658" y="2009"/>
                </a:cubicBezTo>
              </a:path>
              <a:path w="1836" h="1538">
                <a:moveTo>
                  <a:pt x="11807" y="3299"/>
                </a:moveTo>
                <a:cubicBezTo>
                  <a:pt x="11807" y="3377"/>
                  <a:pt x="11857" y="3349"/>
                  <a:pt x="11931" y="3349"/>
                </a:cubicBezTo>
              </a:path>
              <a:path w="1836" h="1538">
                <a:moveTo>
                  <a:pt x="12030" y="3125"/>
                </a:moveTo>
                <a:cubicBezTo>
                  <a:pt x="11981" y="3174"/>
                  <a:pt x="12005" y="3331"/>
                  <a:pt x="12005" y="3423"/>
                </a:cubicBezTo>
                <a:cubicBezTo>
                  <a:pt x="12005" y="3484"/>
                  <a:pt x="11975" y="3482"/>
                  <a:pt x="12005" y="3497"/>
                </a:cubicBezTo>
              </a:path>
              <a:path w="1836" h="1538">
                <a:moveTo>
                  <a:pt x="12402" y="2977"/>
                </a:moveTo>
                <a:cubicBezTo>
                  <a:pt x="12356" y="3010"/>
                  <a:pt x="12316" y="3037"/>
                  <a:pt x="12303" y="3076"/>
                </a:cubicBezTo>
                <a:cubicBezTo>
                  <a:pt x="12322" y="3134"/>
                  <a:pt x="12413" y="3092"/>
                  <a:pt x="12452" y="3125"/>
                </a:cubicBezTo>
                <a:cubicBezTo>
                  <a:pt x="12546" y="3204"/>
                  <a:pt x="12502" y="3327"/>
                  <a:pt x="12402" y="3373"/>
                </a:cubicBezTo>
                <a:cubicBezTo>
                  <a:pt x="12316" y="3413"/>
                  <a:pt x="12280" y="3402"/>
                  <a:pt x="12204" y="3373"/>
                </a:cubicBezTo>
              </a:path>
              <a:path w="1836" h="1538">
                <a:moveTo>
                  <a:pt x="12725" y="2753"/>
                </a:moveTo>
                <a:cubicBezTo>
                  <a:pt x="12682" y="2802"/>
                  <a:pt x="12663" y="2815"/>
                  <a:pt x="12650" y="2877"/>
                </a:cubicBezTo>
                <a:cubicBezTo>
                  <a:pt x="12751" y="2877"/>
                  <a:pt x="12752" y="2876"/>
                  <a:pt x="12774" y="2778"/>
                </a:cubicBezTo>
                <a:cubicBezTo>
                  <a:pt x="12774" y="2770"/>
                  <a:pt x="12774" y="2761"/>
                  <a:pt x="12774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9880" y="1847880"/>
            <a:ext cx="1332000" cy="19080"/>
          </a:xfrm>
          <a:custGeom>
            <a:avLst/>
            <a:gdLst/>
            <a:ahLst/>
            <a:rect l="l" t="t" r="r" b="b"/>
            <a:pathLst>
              <a:path w="3696" h="50">
                <a:moveTo>
                  <a:pt x="17835" y="5159"/>
                </a:moveTo>
                <a:cubicBezTo>
                  <a:pt x="17936" y="5141"/>
                  <a:pt x="18027" y="5135"/>
                  <a:pt x="18132" y="5135"/>
                </a:cubicBezTo>
                <a:cubicBezTo>
                  <a:pt x="18253" y="5135"/>
                  <a:pt x="18358" y="5180"/>
                  <a:pt x="18479" y="5184"/>
                </a:cubicBezTo>
                <a:cubicBezTo>
                  <a:pt x="18712" y="5192"/>
                  <a:pt x="18947" y="5185"/>
                  <a:pt x="19174" y="5159"/>
                </a:cubicBezTo>
                <a:cubicBezTo>
                  <a:pt x="19305" y="5144"/>
                  <a:pt x="19442" y="5148"/>
                  <a:pt x="19571" y="5135"/>
                </a:cubicBezTo>
                <a:cubicBezTo>
                  <a:pt x="19840" y="5107"/>
                  <a:pt x="20123" y="5141"/>
                  <a:pt x="20389" y="5159"/>
                </a:cubicBezTo>
                <a:cubicBezTo>
                  <a:pt x="20522" y="5168"/>
                  <a:pt x="20654" y="5181"/>
                  <a:pt x="20786" y="5184"/>
                </a:cubicBezTo>
                <a:cubicBezTo>
                  <a:pt x="20987" y="5189"/>
                  <a:pt x="21214" y="5147"/>
                  <a:pt x="21406" y="5159"/>
                </a:cubicBezTo>
                <a:cubicBezTo>
                  <a:pt x="21454" y="5162"/>
                  <a:pt x="21485" y="5177"/>
                  <a:pt x="21530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13160" y="750960"/>
            <a:ext cx="115920" cy="61920"/>
          </a:xfrm>
          <a:custGeom>
            <a:avLst/>
            <a:gdLst/>
            <a:ahLst/>
            <a:rect l="l" t="t" r="r" b="b"/>
            <a:pathLst>
              <a:path w="323" h="174">
                <a:moveTo>
                  <a:pt x="12154" y="2084"/>
                </a:moveTo>
                <a:cubicBezTo>
                  <a:pt x="12093" y="2092"/>
                  <a:pt x="11939" y="2087"/>
                  <a:pt x="11981" y="2133"/>
                </a:cubicBezTo>
                <a:cubicBezTo>
                  <a:pt x="12002" y="2156"/>
                  <a:pt x="12079" y="2087"/>
                  <a:pt x="12105" y="2084"/>
                </a:cubicBezTo>
                <a:cubicBezTo>
                  <a:pt x="12170" y="2077"/>
                  <a:pt x="12201" y="2095"/>
                  <a:pt x="12229" y="2108"/>
                </a:cubicBezTo>
                <a:cubicBezTo>
                  <a:pt x="12268" y="2127"/>
                  <a:pt x="12290" y="2181"/>
                  <a:pt x="12303" y="2232"/>
                </a:cubicBezTo>
                <a:cubicBezTo>
                  <a:pt x="12303" y="2240"/>
                  <a:pt x="12303" y="2249"/>
                  <a:pt x="12303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59120" y="795240"/>
            <a:ext cx="804960" cy="606600"/>
          </a:xfrm>
          <a:custGeom>
            <a:avLst/>
            <a:gdLst/>
            <a:ahLst/>
            <a:rect l="l" t="t" r="r" b="b"/>
            <a:pathLst>
              <a:path w="2233" h="1687">
                <a:moveTo>
                  <a:pt x="10517" y="2332"/>
                </a:moveTo>
                <a:cubicBezTo>
                  <a:pt x="10575" y="2417"/>
                  <a:pt x="10571" y="2479"/>
                  <a:pt x="10592" y="2580"/>
                </a:cubicBezTo>
                <a:cubicBezTo>
                  <a:pt x="10655" y="2878"/>
                  <a:pt x="10717" y="3173"/>
                  <a:pt x="10765" y="3473"/>
                </a:cubicBezTo>
                <a:cubicBezTo>
                  <a:pt x="10774" y="3528"/>
                  <a:pt x="10765" y="3781"/>
                  <a:pt x="10815" y="3820"/>
                </a:cubicBezTo>
                <a:cubicBezTo>
                  <a:pt x="10859" y="3855"/>
                  <a:pt x="11054" y="3851"/>
                  <a:pt x="11112" y="3845"/>
                </a:cubicBezTo>
                <a:cubicBezTo>
                  <a:pt x="11223" y="3833"/>
                  <a:pt x="11321" y="3820"/>
                  <a:pt x="11435" y="3820"/>
                </a:cubicBezTo>
                <a:cubicBezTo>
                  <a:pt x="11564" y="3820"/>
                  <a:pt x="11681" y="3834"/>
                  <a:pt x="11807" y="3845"/>
                </a:cubicBezTo>
                <a:cubicBezTo>
                  <a:pt x="11932" y="3856"/>
                  <a:pt x="12058" y="3848"/>
                  <a:pt x="12179" y="3820"/>
                </a:cubicBezTo>
                <a:cubicBezTo>
                  <a:pt x="12227" y="3809"/>
                  <a:pt x="12539" y="3783"/>
                  <a:pt x="12551" y="3746"/>
                </a:cubicBezTo>
                <a:cubicBezTo>
                  <a:pt x="12561" y="3714"/>
                  <a:pt x="12505" y="3668"/>
                  <a:pt x="12402" y="3572"/>
                </a:cubicBezTo>
                <a:cubicBezTo>
                  <a:pt x="12394" y="3564"/>
                  <a:pt x="12386" y="3555"/>
                  <a:pt x="12378" y="3547"/>
                </a:cubicBezTo>
                <a:cubicBezTo>
                  <a:pt x="12455" y="3596"/>
                  <a:pt x="12562" y="3675"/>
                  <a:pt x="12650" y="3721"/>
                </a:cubicBezTo>
                <a:cubicBezTo>
                  <a:pt x="12658" y="3721"/>
                  <a:pt x="12667" y="3721"/>
                  <a:pt x="12675" y="3721"/>
                </a:cubicBezTo>
                <a:cubicBezTo>
                  <a:pt x="12620" y="3788"/>
                  <a:pt x="12566" y="3846"/>
                  <a:pt x="12502" y="3894"/>
                </a:cubicBezTo>
              </a:path>
              <a:path w="2233" h="1687">
                <a:moveTo>
                  <a:pt x="10542" y="2332"/>
                </a:moveTo>
                <a:cubicBezTo>
                  <a:pt x="10509" y="2267"/>
                  <a:pt x="10476" y="2458"/>
                  <a:pt x="10468" y="2480"/>
                </a:cubicBezTo>
                <a:cubicBezTo>
                  <a:pt x="10460" y="2497"/>
                  <a:pt x="10451" y="2513"/>
                  <a:pt x="10443" y="2530"/>
                </a:cubicBezTo>
                <a:cubicBezTo>
                  <a:pt x="10457" y="2446"/>
                  <a:pt x="10482" y="2360"/>
                  <a:pt x="10517" y="2282"/>
                </a:cubicBezTo>
                <a:cubicBezTo>
                  <a:pt x="10549" y="2211"/>
                  <a:pt x="10551" y="2254"/>
                  <a:pt x="10567" y="2208"/>
                </a:cubicBezTo>
                <a:cubicBezTo>
                  <a:pt x="10637" y="2243"/>
                  <a:pt x="10670" y="2360"/>
                  <a:pt x="10716" y="2431"/>
                </a:cubicBezTo>
                <a:cubicBezTo>
                  <a:pt x="10738" y="2453"/>
                  <a:pt x="10746" y="2458"/>
                  <a:pt x="10740" y="2480"/>
                </a:cubicBezTo>
              </a:path>
              <a:path w="2233" h="1687">
                <a:moveTo>
                  <a:pt x="10840" y="3373"/>
                </a:moveTo>
                <a:cubicBezTo>
                  <a:pt x="10910" y="3356"/>
                  <a:pt x="10966" y="3349"/>
                  <a:pt x="11038" y="3349"/>
                </a:cubicBezTo>
                <a:cubicBezTo>
                  <a:pt x="11070" y="3349"/>
                  <a:pt x="11083" y="3366"/>
                  <a:pt x="11112" y="3373"/>
                </a:cubicBezTo>
              </a:path>
              <a:path w="2233" h="1687">
                <a:moveTo>
                  <a:pt x="11311" y="3473"/>
                </a:moveTo>
                <a:cubicBezTo>
                  <a:pt x="11319" y="3503"/>
                  <a:pt x="11324" y="3568"/>
                  <a:pt x="11336" y="3597"/>
                </a:cubicBezTo>
                <a:cubicBezTo>
                  <a:pt x="11361" y="3656"/>
                  <a:pt x="11343" y="3650"/>
                  <a:pt x="11336" y="3721"/>
                </a:cubicBezTo>
                <a:cubicBezTo>
                  <a:pt x="11336" y="3746"/>
                  <a:pt x="11336" y="3754"/>
                  <a:pt x="11361" y="37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1200" y="812880"/>
            <a:ext cx="2973600" cy="4545000"/>
          </a:xfrm>
          <a:custGeom>
            <a:avLst/>
            <a:gdLst/>
            <a:ahLst/>
            <a:rect l="l" t="t" r="r" b="b"/>
            <a:pathLst>
              <a:path w="8261" h="12627">
                <a:moveTo>
                  <a:pt x="10889" y="3746"/>
                </a:moveTo>
                <a:cubicBezTo>
                  <a:pt x="10897" y="3738"/>
                  <a:pt x="10906" y="3729"/>
                  <a:pt x="10914" y="3721"/>
                </a:cubicBezTo>
              </a:path>
              <a:path w="8261" h="12627">
                <a:moveTo>
                  <a:pt x="11112" y="3497"/>
                </a:moveTo>
                <a:cubicBezTo>
                  <a:pt x="11112" y="3489"/>
                  <a:pt x="11112" y="3481"/>
                  <a:pt x="11112" y="3473"/>
                </a:cubicBezTo>
              </a:path>
              <a:path w="8261" h="12627">
                <a:moveTo>
                  <a:pt x="11187" y="3373"/>
                </a:moveTo>
                <a:cubicBezTo>
                  <a:pt x="11195" y="3373"/>
                  <a:pt x="11204" y="3373"/>
                  <a:pt x="11212" y="3373"/>
                </a:cubicBezTo>
              </a:path>
              <a:path w="8261" h="12627">
                <a:moveTo>
                  <a:pt x="11212" y="3373"/>
                </a:moveTo>
                <a:lnTo>
                  <a:pt x="11212" y="3373"/>
                </a:lnTo>
              </a:path>
              <a:path w="8261" h="12627">
                <a:moveTo>
                  <a:pt x="11361" y="3200"/>
                </a:moveTo>
                <a:lnTo>
                  <a:pt x="11361" y="3200"/>
                </a:lnTo>
              </a:path>
              <a:path w="8261" h="12627">
                <a:moveTo>
                  <a:pt x="11509" y="3051"/>
                </a:moveTo>
                <a:cubicBezTo>
                  <a:pt x="11509" y="3043"/>
                  <a:pt x="11509" y="3034"/>
                  <a:pt x="11509" y="3026"/>
                </a:cubicBezTo>
              </a:path>
              <a:path w="8261" h="12627">
                <a:moveTo>
                  <a:pt x="11609" y="2927"/>
                </a:moveTo>
                <a:lnTo>
                  <a:pt x="11609" y="2927"/>
                </a:lnTo>
                <a:lnTo>
                  <a:pt x="11609" y="2927"/>
                </a:lnTo>
              </a:path>
              <a:path w="8261" h="12627">
                <a:moveTo>
                  <a:pt x="11609" y="2927"/>
                </a:moveTo>
                <a:lnTo>
                  <a:pt x="11609" y="2927"/>
                </a:lnTo>
              </a:path>
              <a:path w="8261" h="12627">
                <a:moveTo>
                  <a:pt x="11757" y="2778"/>
                </a:moveTo>
                <a:cubicBezTo>
                  <a:pt x="11757" y="2770"/>
                  <a:pt x="11757" y="2761"/>
                  <a:pt x="11757" y="2753"/>
                </a:cubicBezTo>
              </a:path>
              <a:path w="8261" h="12627">
                <a:moveTo>
                  <a:pt x="11906" y="2555"/>
                </a:moveTo>
                <a:lnTo>
                  <a:pt x="11906" y="2555"/>
                </a:lnTo>
                <a:lnTo>
                  <a:pt x="11906" y="2555"/>
                </a:lnTo>
              </a:path>
              <a:path w="8261" h="12627">
                <a:moveTo>
                  <a:pt x="11906" y="2555"/>
                </a:moveTo>
                <a:lnTo>
                  <a:pt x="11906" y="2555"/>
                </a:lnTo>
              </a:path>
              <a:path w="8261" h="12627">
                <a:moveTo>
                  <a:pt x="12030" y="2406"/>
                </a:moveTo>
                <a:lnTo>
                  <a:pt x="12030" y="2406"/>
                </a:lnTo>
              </a:path>
              <a:path w="8261" h="12627">
                <a:moveTo>
                  <a:pt x="12154" y="2307"/>
                </a:moveTo>
                <a:cubicBezTo>
                  <a:pt x="12154" y="2279"/>
                  <a:pt x="12156" y="2268"/>
                  <a:pt x="12179" y="2257"/>
                </a:cubicBezTo>
              </a:path>
              <a:path w="8261" h="12627">
                <a:moveTo>
                  <a:pt x="4093" y="14759"/>
                </a:moveTo>
                <a:cubicBezTo>
                  <a:pt x="4035" y="14845"/>
                  <a:pt x="4004" y="14875"/>
                  <a:pt x="3919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49960" y="5062680"/>
            <a:ext cx="947880" cy="696600"/>
          </a:xfrm>
          <a:custGeom>
            <a:avLst/>
            <a:gdLst/>
            <a:ahLst/>
            <a:rect l="l" t="t" r="r" b="b"/>
            <a:pathLst>
              <a:path w="2631" h="1936">
                <a:moveTo>
                  <a:pt x="18405" y="15453"/>
                </a:moveTo>
                <a:cubicBezTo>
                  <a:pt x="18395" y="15607"/>
                  <a:pt x="18399" y="15778"/>
                  <a:pt x="18355" y="15925"/>
                </a:cubicBezTo>
                <a:cubicBezTo>
                  <a:pt x="18355" y="15917"/>
                  <a:pt x="18355" y="15908"/>
                  <a:pt x="18355" y="15900"/>
                </a:cubicBezTo>
              </a:path>
              <a:path w="2631" h="1936">
                <a:moveTo>
                  <a:pt x="19248" y="15453"/>
                </a:moveTo>
                <a:cubicBezTo>
                  <a:pt x="19238" y="15434"/>
                  <a:pt x="19141" y="15337"/>
                  <a:pt x="19100" y="15379"/>
                </a:cubicBezTo>
                <a:cubicBezTo>
                  <a:pt x="18988" y="15496"/>
                  <a:pt x="18850" y="15780"/>
                  <a:pt x="18976" y="15925"/>
                </a:cubicBezTo>
                <a:cubicBezTo>
                  <a:pt x="19112" y="16082"/>
                  <a:pt x="19288" y="15881"/>
                  <a:pt x="19323" y="15776"/>
                </a:cubicBezTo>
                <a:cubicBezTo>
                  <a:pt x="19257" y="15751"/>
                  <a:pt x="19188" y="15719"/>
                  <a:pt x="19124" y="15701"/>
                </a:cubicBezTo>
              </a:path>
              <a:path w="2631" h="1936">
                <a:moveTo>
                  <a:pt x="19521" y="15354"/>
                </a:moveTo>
                <a:cubicBezTo>
                  <a:pt x="19534" y="15528"/>
                  <a:pt x="19562" y="15701"/>
                  <a:pt x="19571" y="15875"/>
                </a:cubicBezTo>
                <a:cubicBezTo>
                  <a:pt x="19571" y="15742"/>
                  <a:pt x="19593" y="15613"/>
                  <a:pt x="19596" y="15478"/>
                </a:cubicBezTo>
                <a:cubicBezTo>
                  <a:pt x="19596" y="15387"/>
                  <a:pt x="19596" y="15379"/>
                  <a:pt x="19596" y="15329"/>
                </a:cubicBezTo>
                <a:cubicBezTo>
                  <a:pt x="19707" y="15319"/>
                  <a:pt x="19865" y="15316"/>
                  <a:pt x="19968" y="15280"/>
                </a:cubicBezTo>
                <a:cubicBezTo>
                  <a:pt x="19976" y="15272"/>
                  <a:pt x="19985" y="15263"/>
                  <a:pt x="19993" y="15255"/>
                </a:cubicBezTo>
              </a:path>
              <a:path w="2631" h="1936">
                <a:moveTo>
                  <a:pt x="19695" y="15602"/>
                </a:moveTo>
                <a:cubicBezTo>
                  <a:pt x="19779" y="15602"/>
                  <a:pt x="19858" y="15581"/>
                  <a:pt x="19943" y="15577"/>
                </a:cubicBezTo>
                <a:cubicBezTo>
                  <a:pt x="19951" y="15577"/>
                  <a:pt x="19960" y="15577"/>
                  <a:pt x="19968" y="15577"/>
                </a:cubicBezTo>
              </a:path>
              <a:path w="2631" h="1936">
                <a:moveTo>
                  <a:pt x="17686" y="15404"/>
                </a:moveTo>
                <a:cubicBezTo>
                  <a:pt x="17686" y="15396"/>
                  <a:pt x="17686" y="15387"/>
                  <a:pt x="17686" y="15379"/>
                </a:cubicBezTo>
                <a:cubicBezTo>
                  <a:pt x="17784" y="15412"/>
                  <a:pt x="17581" y="15688"/>
                  <a:pt x="17562" y="15726"/>
                </a:cubicBezTo>
                <a:cubicBezTo>
                  <a:pt x="17497" y="15854"/>
                  <a:pt x="17462" y="15900"/>
                  <a:pt x="17363" y="15999"/>
                </a:cubicBezTo>
                <a:cubicBezTo>
                  <a:pt x="17489" y="15999"/>
                  <a:pt x="17608" y="15977"/>
                  <a:pt x="17735" y="15974"/>
                </a:cubicBezTo>
                <a:cubicBezTo>
                  <a:pt x="17784" y="15973"/>
                  <a:pt x="17834" y="15974"/>
                  <a:pt x="17884" y="15974"/>
                </a:cubicBezTo>
              </a:path>
              <a:path w="2631" h="1936">
                <a:moveTo>
                  <a:pt x="18207" y="14908"/>
                </a:moveTo>
                <a:cubicBezTo>
                  <a:pt x="18191" y="14767"/>
                  <a:pt x="18127" y="14622"/>
                  <a:pt x="18083" y="14486"/>
                </a:cubicBezTo>
                <a:cubicBezTo>
                  <a:pt x="18039" y="14350"/>
                  <a:pt x="18010" y="14221"/>
                  <a:pt x="17959" y="14089"/>
                </a:cubicBezTo>
                <a:cubicBezTo>
                  <a:pt x="17959" y="13994"/>
                  <a:pt x="17907" y="14220"/>
                  <a:pt x="17884" y="14312"/>
                </a:cubicBezTo>
                <a:cubicBezTo>
                  <a:pt x="17864" y="14413"/>
                  <a:pt x="17866" y="14433"/>
                  <a:pt x="17835" y="14486"/>
                </a:cubicBezTo>
                <a:cubicBezTo>
                  <a:pt x="17812" y="14346"/>
                  <a:pt x="17819" y="14231"/>
                  <a:pt x="17835" y="14089"/>
                </a:cubicBezTo>
                <a:cubicBezTo>
                  <a:pt x="17835" y="14081"/>
                  <a:pt x="17835" y="14072"/>
                  <a:pt x="17835" y="14064"/>
                </a:cubicBezTo>
                <a:cubicBezTo>
                  <a:pt x="17930" y="14084"/>
                  <a:pt x="17972" y="14168"/>
                  <a:pt x="18058" y="14213"/>
                </a:cubicBezTo>
                <a:cubicBezTo>
                  <a:pt x="18133" y="14252"/>
                  <a:pt x="18140" y="14226"/>
                  <a:pt x="18207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6080" y="1982880"/>
            <a:ext cx="1285920" cy="517320"/>
          </a:xfrm>
          <a:custGeom>
            <a:avLst/>
            <a:gdLst/>
            <a:ahLst/>
            <a:rect l="l" t="t" r="r" b="b"/>
            <a:pathLst>
              <a:path w="3573" h="1439">
                <a:moveTo>
                  <a:pt x="15627" y="6921"/>
                </a:moveTo>
                <a:cubicBezTo>
                  <a:pt x="15926" y="6921"/>
                  <a:pt x="16230" y="6923"/>
                  <a:pt x="16520" y="6945"/>
                </a:cubicBezTo>
                <a:cubicBezTo>
                  <a:pt x="16766" y="6964"/>
                  <a:pt x="17026" y="6940"/>
                  <a:pt x="17264" y="6921"/>
                </a:cubicBezTo>
                <a:cubicBezTo>
                  <a:pt x="17346" y="6915"/>
                  <a:pt x="17440" y="6912"/>
                  <a:pt x="17487" y="6896"/>
                </a:cubicBezTo>
                <a:cubicBezTo>
                  <a:pt x="17532" y="6880"/>
                  <a:pt x="17569" y="6868"/>
                  <a:pt x="17611" y="6846"/>
                </a:cubicBezTo>
                <a:cubicBezTo>
                  <a:pt x="17668" y="6816"/>
                  <a:pt x="17709" y="6781"/>
                  <a:pt x="17760" y="6747"/>
                </a:cubicBezTo>
                <a:cubicBezTo>
                  <a:pt x="17812" y="6712"/>
                  <a:pt x="17878" y="6665"/>
                  <a:pt x="17934" y="6623"/>
                </a:cubicBezTo>
                <a:cubicBezTo>
                  <a:pt x="17981" y="6588"/>
                  <a:pt x="18049" y="6551"/>
                  <a:pt x="18083" y="6524"/>
                </a:cubicBezTo>
                <a:cubicBezTo>
                  <a:pt x="18142" y="6477"/>
                  <a:pt x="18203" y="6415"/>
                  <a:pt x="18256" y="6375"/>
                </a:cubicBezTo>
                <a:cubicBezTo>
                  <a:pt x="18321" y="6326"/>
                  <a:pt x="18398" y="6286"/>
                  <a:pt x="18455" y="6226"/>
                </a:cubicBezTo>
                <a:cubicBezTo>
                  <a:pt x="18538" y="6140"/>
                  <a:pt x="18649" y="6066"/>
                  <a:pt x="18728" y="5978"/>
                </a:cubicBezTo>
                <a:cubicBezTo>
                  <a:pt x="18798" y="5900"/>
                  <a:pt x="18881" y="5837"/>
                  <a:pt x="18951" y="5755"/>
                </a:cubicBezTo>
                <a:cubicBezTo>
                  <a:pt x="19013" y="5683"/>
                  <a:pt x="19058" y="5653"/>
                  <a:pt x="19124" y="5581"/>
                </a:cubicBezTo>
                <a:cubicBezTo>
                  <a:pt x="19153" y="5550"/>
                  <a:pt x="19175" y="5529"/>
                  <a:pt x="19199" y="5507"/>
                </a:cubicBezTo>
              </a:path>
              <a:path w="3573" h="1439">
                <a:moveTo>
                  <a:pt x="17413" y="6821"/>
                </a:moveTo>
                <a:cubicBezTo>
                  <a:pt x="17421" y="6821"/>
                  <a:pt x="17430" y="6821"/>
                  <a:pt x="17438" y="6821"/>
                </a:cubicBezTo>
                <a:cubicBezTo>
                  <a:pt x="17438" y="6780"/>
                  <a:pt x="17438" y="6738"/>
                  <a:pt x="17438" y="6697"/>
                </a:cubicBezTo>
                <a:cubicBezTo>
                  <a:pt x="17410" y="6688"/>
                  <a:pt x="17391" y="6663"/>
                  <a:pt x="17388" y="6623"/>
                </a:cubicBezTo>
                <a:cubicBezTo>
                  <a:pt x="17385" y="6582"/>
                  <a:pt x="17388" y="6540"/>
                  <a:pt x="17388" y="6499"/>
                </a:cubicBezTo>
                <a:cubicBezTo>
                  <a:pt x="17359" y="6479"/>
                  <a:pt x="17367" y="6469"/>
                  <a:pt x="17338" y="6449"/>
                </a:cubicBezTo>
                <a:cubicBezTo>
                  <a:pt x="17338" y="6407"/>
                  <a:pt x="17348" y="6411"/>
                  <a:pt x="17314" y="6400"/>
                </a:cubicBezTo>
                <a:cubicBezTo>
                  <a:pt x="17304" y="6360"/>
                  <a:pt x="17277" y="6337"/>
                  <a:pt x="17264" y="6300"/>
                </a:cubicBezTo>
                <a:cubicBezTo>
                  <a:pt x="17249" y="6257"/>
                  <a:pt x="17285" y="6266"/>
                  <a:pt x="17239" y="6251"/>
                </a:cubicBezTo>
              </a:path>
              <a:path w="3573" h="1439">
                <a:moveTo>
                  <a:pt x="17090" y="6003"/>
                </a:moveTo>
                <a:cubicBezTo>
                  <a:pt x="17090" y="5950"/>
                  <a:pt x="17086" y="5900"/>
                  <a:pt x="17066" y="5854"/>
                </a:cubicBezTo>
                <a:cubicBezTo>
                  <a:pt x="17058" y="5846"/>
                  <a:pt x="17049" y="5837"/>
                  <a:pt x="17041" y="5829"/>
                </a:cubicBezTo>
              </a:path>
              <a:path w="3573" h="1439">
                <a:moveTo>
                  <a:pt x="16966" y="5730"/>
                </a:moveTo>
                <a:cubicBezTo>
                  <a:pt x="16943" y="5673"/>
                  <a:pt x="16931" y="5630"/>
                  <a:pt x="16892" y="5581"/>
                </a:cubicBezTo>
              </a:path>
              <a:path w="3573" h="1439">
                <a:moveTo>
                  <a:pt x="16768" y="6400"/>
                </a:moveTo>
                <a:cubicBezTo>
                  <a:pt x="16717" y="6374"/>
                  <a:pt x="16634" y="6352"/>
                  <a:pt x="16594" y="6424"/>
                </a:cubicBezTo>
                <a:cubicBezTo>
                  <a:pt x="16537" y="6525"/>
                  <a:pt x="16703" y="6550"/>
                  <a:pt x="16743" y="6573"/>
                </a:cubicBezTo>
                <a:cubicBezTo>
                  <a:pt x="16825" y="6620"/>
                  <a:pt x="16735" y="6722"/>
                  <a:pt x="16669" y="6722"/>
                </a:cubicBezTo>
                <a:cubicBezTo>
                  <a:pt x="16644" y="6714"/>
                  <a:pt x="16619" y="6705"/>
                  <a:pt x="16594" y="6697"/>
                </a:cubicBezTo>
                <a:cubicBezTo>
                  <a:pt x="16618" y="6626"/>
                  <a:pt x="16672" y="6539"/>
                  <a:pt x="16718" y="6474"/>
                </a:cubicBezTo>
                <a:cubicBezTo>
                  <a:pt x="16741" y="6451"/>
                  <a:pt x="16749" y="6447"/>
                  <a:pt x="16743" y="6424"/>
                </a:cubicBezTo>
              </a:path>
              <a:path w="3573" h="1439">
                <a:moveTo>
                  <a:pt x="16942" y="6350"/>
                </a:moveTo>
                <a:cubicBezTo>
                  <a:pt x="16955" y="6308"/>
                  <a:pt x="16996" y="6313"/>
                  <a:pt x="17016" y="6350"/>
                </a:cubicBezTo>
                <a:cubicBezTo>
                  <a:pt x="17054" y="6421"/>
                  <a:pt x="17022" y="6419"/>
                  <a:pt x="16966" y="6474"/>
                </a:cubicBezTo>
                <a:cubicBezTo>
                  <a:pt x="16996" y="6480"/>
                  <a:pt x="17089" y="6517"/>
                  <a:pt x="17066" y="6573"/>
                </a:cubicBezTo>
                <a:cubicBezTo>
                  <a:pt x="17027" y="6667"/>
                  <a:pt x="16935" y="6648"/>
                  <a:pt x="16867" y="6623"/>
                </a:cubicBezTo>
              </a:path>
              <a:path w="3573" h="1439">
                <a:moveTo>
                  <a:pt x="17041" y="6077"/>
                </a:moveTo>
                <a:cubicBezTo>
                  <a:pt x="16963" y="6129"/>
                  <a:pt x="17066" y="6120"/>
                  <a:pt x="17041" y="6102"/>
                </a:cubicBezTo>
                <a:cubicBezTo>
                  <a:pt x="17033" y="6102"/>
                  <a:pt x="17024" y="6102"/>
                  <a:pt x="1701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83080" y="1071720"/>
            <a:ext cx="2251080" cy="4652640"/>
          </a:xfrm>
          <a:custGeom>
            <a:avLst/>
            <a:gdLst/>
            <a:ahLst/>
            <a:rect l="l" t="t" r="r" b="b"/>
            <a:pathLst>
              <a:path w="6252" h="12924">
                <a:moveTo>
                  <a:pt x="12452" y="3001"/>
                </a:moveTo>
                <a:cubicBezTo>
                  <a:pt x="12487" y="3001"/>
                  <a:pt x="12504" y="2997"/>
                  <a:pt x="12526" y="2977"/>
                </a:cubicBezTo>
              </a:path>
              <a:path w="6252" h="12924">
                <a:moveTo>
                  <a:pt x="15652" y="6921"/>
                </a:moveTo>
                <a:cubicBezTo>
                  <a:pt x="15644" y="6921"/>
                  <a:pt x="15635" y="6921"/>
                  <a:pt x="15627" y="6921"/>
                </a:cubicBezTo>
              </a:path>
              <a:path w="6252" h="12924">
                <a:moveTo>
                  <a:pt x="15627" y="6921"/>
                </a:moveTo>
                <a:lnTo>
                  <a:pt x="15627" y="6921"/>
                </a:lnTo>
              </a:path>
              <a:path w="6252" h="12924">
                <a:moveTo>
                  <a:pt x="16867" y="5482"/>
                </a:moveTo>
                <a:cubicBezTo>
                  <a:pt x="16867" y="5400"/>
                  <a:pt x="16859" y="5459"/>
                  <a:pt x="16842" y="5407"/>
                </a:cubicBezTo>
              </a:path>
              <a:path w="6252" h="12924">
                <a:moveTo>
                  <a:pt x="18182" y="15329"/>
                </a:moveTo>
                <a:cubicBezTo>
                  <a:pt x="18458" y="15320"/>
                  <a:pt x="18739" y="15308"/>
                  <a:pt x="18703" y="15677"/>
                </a:cubicBezTo>
                <a:cubicBezTo>
                  <a:pt x="18693" y="15775"/>
                  <a:pt x="18524" y="15972"/>
                  <a:pt x="18405" y="15900"/>
                </a:cubicBezTo>
                <a:cubicBezTo>
                  <a:pt x="18397" y="15883"/>
                  <a:pt x="18388" y="15867"/>
                  <a:pt x="1838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16200" y="3357720"/>
            <a:ext cx="420840" cy="258480"/>
          </a:xfrm>
          <a:custGeom>
            <a:avLst/>
            <a:gdLst/>
            <a:ahLst/>
            <a:rect l="l" t="t" r="r" b="b"/>
            <a:pathLst>
              <a:path w="1167" h="720">
                <a:moveTo>
                  <a:pt x="10046" y="9376"/>
                </a:moveTo>
                <a:cubicBezTo>
                  <a:pt x="10046" y="9567"/>
                  <a:pt x="10067" y="9756"/>
                  <a:pt x="10071" y="9947"/>
                </a:cubicBezTo>
                <a:cubicBezTo>
                  <a:pt x="10071" y="10021"/>
                  <a:pt x="10046" y="10054"/>
                  <a:pt x="10096" y="10046"/>
                </a:cubicBezTo>
              </a:path>
              <a:path w="1167" h="720">
                <a:moveTo>
                  <a:pt x="10319" y="9327"/>
                </a:moveTo>
                <a:cubicBezTo>
                  <a:pt x="10335" y="9496"/>
                  <a:pt x="10260" y="9748"/>
                  <a:pt x="10368" y="9897"/>
                </a:cubicBezTo>
                <a:cubicBezTo>
                  <a:pt x="10478" y="10049"/>
                  <a:pt x="10704" y="9978"/>
                  <a:pt x="10716" y="9798"/>
                </a:cubicBezTo>
                <a:cubicBezTo>
                  <a:pt x="10708" y="9773"/>
                  <a:pt x="10699" y="9748"/>
                  <a:pt x="10691" y="9723"/>
                </a:cubicBezTo>
                <a:cubicBezTo>
                  <a:pt x="10620" y="9742"/>
                  <a:pt x="10460" y="9855"/>
                  <a:pt x="10542" y="9971"/>
                </a:cubicBezTo>
                <a:cubicBezTo>
                  <a:pt x="10559" y="9971"/>
                  <a:pt x="10575" y="9971"/>
                  <a:pt x="10592" y="9971"/>
                </a:cubicBezTo>
              </a:path>
              <a:path w="1167" h="720">
                <a:moveTo>
                  <a:pt x="10815" y="9327"/>
                </a:moveTo>
                <a:cubicBezTo>
                  <a:pt x="10795" y="9481"/>
                  <a:pt x="10772" y="9641"/>
                  <a:pt x="10790" y="9798"/>
                </a:cubicBezTo>
                <a:cubicBezTo>
                  <a:pt x="10810" y="9977"/>
                  <a:pt x="11060" y="9963"/>
                  <a:pt x="11162" y="9847"/>
                </a:cubicBezTo>
                <a:cubicBezTo>
                  <a:pt x="11245" y="9753"/>
                  <a:pt x="11210" y="9683"/>
                  <a:pt x="11162" y="9599"/>
                </a:cubicBezTo>
                <a:cubicBezTo>
                  <a:pt x="11110" y="9704"/>
                  <a:pt x="11088" y="9778"/>
                  <a:pt x="1108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33880" y="3340080"/>
            <a:ext cx="54000" cy="71280"/>
          </a:xfrm>
          <a:custGeom>
            <a:avLst/>
            <a:gdLst/>
            <a:ahLst/>
            <a:rect l="l" t="t" r="r" b="b"/>
            <a:pathLst>
              <a:path w="149" h="199">
                <a:moveTo>
                  <a:pt x="11534" y="9277"/>
                </a:moveTo>
                <a:cubicBezTo>
                  <a:pt x="11485" y="9385"/>
                  <a:pt x="11461" y="9389"/>
                  <a:pt x="11534" y="9475"/>
                </a:cubicBezTo>
                <a:cubicBezTo>
                  <a:pt x="11576" y="9444"/>
                  <a:pt x="11699" y="9358"/>
                  <a:pt x="11609" y="9302"/>
                </a:cubicBezTo>
                <a:cubicBezTo>
                  <a:pt x="11601" y="9302"/>
                  <a:pt x="11592" y="9302"/>
                  <a:pt x="11584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2760" y="5116680"/>
            <a:ext cx="411120" cy="474480"/>
          </a:xfrm>
          <a:custGeom>
            <a:avLst/>
            <a:gdLst/>
            <a:ahLst/>
            <a:rect l="l" t="t" r="r" b="b"/>
            <a:pathLst>
              <a:path w="1142" h="1316">
                <a:moveTo>
                  <a:pt x="5085" y="14858"/>
                </a:moveTo>
                <a:cubicBezTo>
                  <a:pt x="5067" y="14912"/>
                  <a:pt x="4937" y="14806"/>
                  <a:pt x="4837" y="14883"/>
                </a:cubicBezTo>
                <a:cubicBezTo>
                  <a:pt x="4652" y="15026"/>
                  <a:pt x="4420" y="15448"/>
                  <a:pt x="4787" y="15528"/>
                </a:cubicBezTo>
                <a:cubicBezTo>
                  <a:pt x="5038" y="15583"/>
                  <a:pt x="5100" y="15413"/>
                  <a:pt x="5060" y="15230"/>
                </a:cubicBezTo>
                <a:cubicBezTo>
                  <a:pt x="4942" y="15244"/>
                  <a:pt x="4895" y="15246"/>
                  <a:pt x="4812" y="15329"/>
                </a:cubicBezTo>
              </a:path>
              <a:path w="1142" h="1316">
                <a:moveTo>
                  <a:pt x="5283" y="15032"/>
                </a:moveTo>
                <a:cubicBezTo>
                  <a:pt x="5298" y="15116"/>
                  <a:pt x="5317" y="15211"/>
                  <a:pt x="5358" y="15280"/>
                </a:cubicBezTo>
                <a:cubicBezTo>
                  <a:pt x="5303" y="15142"/>
                  <a:pt x="5240" y="14954"/>
                  <a:pt x="5308" y="14808"/>
                </a:cubicBezTo>
                <a:cubicBezTo>
                  <a:pt x="5384" y="14645"/>
                  <a:pt x="5702" y="14654"/>
                  <a:pt x="5581" y="14858"/>
                </a:cubicBezTo>
                <a:cubicBezTo>
                  <a:pt x="5516" y="14902"/>
                  <a:pt x="5502" y="14913"/>
                  <a:pt x="5457" y="14932"/>
                </a:cubicBezTo>
                <a:cubicBezTo>
                  <a:pt x="5449" y="14932"/>
                  <a:pt x="5440" y="14932"/>
                  <a:pt x="5432" y="14932"/>
                </a:cubicBezTo>
                <a:cubicBezTo>
                  <a:pt x="5572" y="14923"/>
                  <a:pt x="5794" y="14976"/>
                  <a:pt x="5705" y="15180"/>
                </a:cubicBezTo>
                <a:cubicBezTo>
                  <a:pt x="5658" y="15287"/>
                  <a:pt x="5531" y="15275"/>
                  <a:pt x="5457" y="15230"/>
                </a:cubicBezTo>
              </a:path>
              <a:path w="1142" h="1316">
                <a:moveTo>
                  <a:pt x="4762" y="14511"/>
                </a:moveTo>
                <a:cubicBezTo>
                  <a:pt x="4906" y="14487"/>
                  <a:pt x="5070" y="14459"/>
                  <a:pt x="5209" y="14412"/>
                </a:cubicBezTo>
                <a:cubicBezTo>
                  <a:pt x="5349" y="14352"/>
                  <a:pt x="5372" y="14339"/>
                  <a:pt x="5457" y="14312"/>
                </a:cubicBezTo>
                <a:cubicBezTo>
                  <a:pt x="5498" y="14312"/>
                  <a:pt x="5372" y="14287"/>
                  <a:pt x="5333" y="14263"/>
                </a:cubicBezTo>
                <a:cubicBezTo>
                  <a:pt x="5308" y="14238"/>
                  <a:pt x="5300" y="14230"/>
                  <a:pt x="5333" y="14213"/>
                </a:cubicBezTo>
                <a:cubicBezTo>
                  <a:pt x="5395" y="14268"/>
                  <a:pt x="5448" y="14320"/>
                  <a:pt x="5531" y="14337"/>
                </a:cubicBezTo>
                <a:cubicBezTo>
                  <a:pt x="5508" y="14368"/>
                  <a:pt x="5425" y="14426"/>
                  <a:pt x="5383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2880" y="4367160"/>
            <a:ext cx="509400" cy="1008000"/>
          </a:xfrm>
          <a:custGeom>
            <a:avLst/>
            <a:gdLst/>
            <a:ahLst/>
            <a:rect l="l" t="t" r="r" b="b"/>
            <a:pathLst>
              <a:path w="1415" h="2804">
                <a:moveTo>
                  <a:pt x="3671" y="14932"/>
                </a:moveTo>
                <a:cubicBezTo>
                  <a:pt x="3525" y="14896"/>
                  <a:pt x="3411" y="14844"/>
                  <a:pt x="3274" y="14784"/>
                </a:cubicBezTo>
                <a:cubicBezTo>
                  <a:pt x="3139" y="14725"/>
                  <a:pt x="2938" y="14638"/>
                  <a:pt x="2828" y="14536"/>
                </a:cubicBezTo>
                <a:cubicBezTo>
                  <a:pt x="2682" y="14401"/>
                  <a:pt x="2497" y="14167"/>
                  <a:pt x="2406" y="13990"/>
                </a:cubicBezTo>
                <a:cubicBezTo>
                  <a:pt x="2318" y="13817"/>
                  <a:pt x="2254" y="13564"/>
                  <a:pt x="2257" y="13370"/>
                </a:cubicBezTo>
                <a:cubicBezTo>
                  <a:pt x="2261" y="13110"/>
                  <a:pt x="2329" y="12893"/>
                  <a:pt x="2456" y="12675"/>
                </a:cubicBezTo>
                <a:cubicBezTo>
                  <a:pt x="2542" y="12527"/>
                  <a:pt x="2626" y="12392"/>
                  <a:pt x="2729" y="12254"/>
                </a:cubicBezTo>
                <a:cubicBezTo>
                  <a:pt x="2794" y="12167"/>
                  <a:pt x="2877" y="12129"/>
                  <a:pt x="2803" y="12129"/>
                </a:cubicBezTo>
                <a:cubicBezTo>
                  <a:pt x="2704" y="12154"/>
                  <a:pt x="2670" y="12162"/>
                  <a:pt x="2604" y="12179"/>
                </a:cubicBezTo>
                <a:cubicBezTo>
                  <a:pt x="2596" y="12187"/>
                  <a:pt x="2588" y="12196"/>
                  <a:pt x="2580" y="12204"/>
                </a:cubicBezTo>
                <a:cubicBezTo>
                  <a:pt x="2694" y="12179"/>
                  <a:pt x="2775" y="12122"/>
                  <a:pt x="2877" y="12179"/>
                </a:cubicBezTo>
                <a:cubicBezTo>
                  <a:pt x="2898" y="12191"/>
                  <a:pt x="2947" y="12280"/>
                  <a:pt x="2952" y="12303"/>
                </a:cubicBezTo>
                <a:cubicBezTo>
                  <a:pt x="2960" y="12339"/>
                  <a:pt x="2927" y="12366"/>
                  <a:pt x="2927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69160" y="4705200"/>
            <a:ext cx="411120" cy="403200"/>
          </a:xfrm>
          <a:custGeom>
            <a:avLst/>
            <a:gdLst/>
            <a:ahLst/>
            <a:rect l="l" t="t" r="r" b="b"/>
            <a:pathLst>
              <a:path w="1142" h="1117">
                <a:moveTo>
                  <a:pt x="21977" y="13543"/>
                </a:moveTo>
                <a:cubicBezTo>
                  <a:pt x="22022" y="13554"/>
                  <a:pt x="22011" y="13575"/>
                  <a:pt x="22027" y="13543"/>
                </a:cubicBezTo>
                <a:cubicBezTo>
                  <a:pt x="21917" y="13458"/>
                  <a:pt x="21822" y="13517"/>
                  <a:pt x="21729" y="13618"/>
                </a:cubicBezTo>
                <a:cubicBezTo>
                  <a:pt x="21590" y="13769"/>
                  <a:pt x="21466" y="14105"/>
                  <a:pt x="21754" y="14188"/>
                </a:cubicBezTo>
                <a:cubicBezTo>
                  <a:pt x="21948" y="14244"/>
                  <a:pt x="21991" y="14143"/>
                  <a:pt x="22076" y="14015"/>
                </a:cubicBezTo>
                <a:cubicBezTo>
                  <a:pt x="22004" y="13916"/>
                  <a:pt x="21825" y="13891"/>
                  <a:pt x="21878" y="13891"/>
                </a:cubicBezTo>
              </a:path>
              <a:path w="1142" h="1117">
                <a:moveTo>
                  <a:pt x="22523" y="13643"/>
                </a:moveTo>
                <a:cubicBezTo>
                  <a:pt x="22589" y="13620"/>
                  <a:pt x="22504" y="13511"/>
                  <a:pt x="22423" y="13568"/>
                </a:cubicBezTo>
                <a:cubicBezTo>
                  <a:pt x="22280" y="13667"/>
                  <a:pt x="22216" y="13997"/>
                  <a:pt x="22448" y="14015"/>
                </a:cubicBezTo>
                <a:cubicBezTo>
                  <a:pt x="22528" y="14021"/>
                  <a:pt x="22594" y="13995"/>
                  <a:pt x="22622" y="13940"/>
                </a:cubicBezTo>
              </a:path>
              <a:path w="1142" h="1117">
                <a:moveTo>
                  <a:pt x="21803" y="13246"/>
                </a:moveTo>
                <a:cubicBezTo>
                  <a:pt x="22010" y="13246"/>
                  <a:pt x="22215" y="13224"/>
                  <a:pt x="22423" y="13221"/>
                </a:cubicBezTo>
                <a:cubicBezTo>
                  <a:pt x="22464" y="13221"/>
                  <a:pt x="22506" y="13221"/>
                  <a:pt x="22547" y="13221"/>
                </a:cubicBezTo>
              </a:path>
              <a:path w="1142" h="1117">
                <a:moveTo>
                  <a:pt x="22374" y="13072"/>
                </a:moveTo>
                <a:cubicBezTo>
                  <a:pt x="22471" y="13092"/>
                  <a:pt x="22569" y="13129"/>
                  <a:pt x="22671" y="13146"/>
                </a:cubicBezTo>
                <a:cubicBezTo>
                  <a:pt x="22679" y="13146"/>
                  <a:pt x="22688" y="13146"/>
                  <a:pt x="22696" y="13146"/>
                </a:cubicBezTo>
                <a:cubicBezTo>
                  <a:pt x="22709" y="13237"/>
                  <a:pt x="22625" y="13340"/>
                  <a:pt x="22597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34:43Z</dcterms:created>
  <dc:creator>TAMMY  COON</dc:creator>
  <dc:description/>
  <dc:language>en-US</dc:language>
  <cp:lastModifiedBy>demcgra</cp:lastModifiedBy>
  <dcterms:modified xsi:type="dcterms:W3CDTF">2012-01-26T16:21:39Z</dcterms:modified>
  <cp:revision>10</cp:revision>
  <dc:subject/>
  <dc:title>Opener: Write the definition and draw a picture to represent each word. </dc:title>
</cp:coreProperties>
</file>